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8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F8A5-F62D-4D4A-8BC9-99450E853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– distance to send response data up and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off between reliability and communication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s and combs can have different wid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ensor network applications involve the dissemination of observed information to interested cli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query cost vs. event report cos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-granularity is adjusted based on de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in general over both pure push-based and pull-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applied in hierarchical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le, no a prior infrastructure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odes with the desired information receives the query, it sends a reply to the query node, as shown in the red arrow. This pull-based strategy is efficient when the number of queries is relatively small. And less efficient when there are more que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approach is pure push-based. Basically, whenever there is an event detected, the sensor node can flood the network with the information of the detected events. The push-based strategy is more efficient than the pull-based strategy when the number of events is small and that of query is large. And vice ver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question is: can we combine the advantages of both push and pull strategies and build an efficient query-support mechanisms that adapts to the frequencies of the query and even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E4BD-5052-4DF1-871C-DCD609FA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30EE-9798-439D-9AE5-D99A69EF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6F5E-ED77-43C7-8359-0400EF97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F97-E62F-4588-867B-6B2783D0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EE30-42B2-4FB1-BB22-FBA8589A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73DF-95B5-4BDD-9EBA-A659F5F6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F608-4EF4-4852-A878-9B3AAF70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2FC2-50B7-4BF1-98EC-6B68ECA6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2CE2-11E3-454E-BE72-44B40149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73A4-9636-4B38-A32A-3C1FB136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5597-6DCC-4A8D-8A6A-528DD712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A278-845A-434D-AF3D-5685A41A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54D4-CDA4-4376-9150-38FF234F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9963-3A82-452A-9743-13D1B1F7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66CF-D593-40CF-BEAB-0B156740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C80E-BFFA-45F5-BADF-F897C651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B062-BCB2-49B1-8EC6-DA54A5CE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BE1A-93D2-475E-9B8B-85FC2F7D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83C8-A3D5-422C-AEE9-18DA6CAA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B6C4-5A1B-44EF-8AB1-811F1376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4D69-FDA5-4DC8-BC58-8B52E660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0258-F3BA-4BD6-BBB3-5FF9413A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6E98-D69D-4FF2-895C-203B863B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C162-A5F2-476D-9727-AD4E2BC3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952C-E131-40FA-8DD2-4C81F2DF55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51AB-9AD6-4790-9A2D-4A12EA6D54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93312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bs, Needles, and Haystacks:</a:t>
            </a:r>
            <a:br>
              <a:rPr sz="43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ing Push and Pull for Information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Xin L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cience D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California, Da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ors: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Qingfeng Hu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Ying Zh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1840" y="6313320"/>
            <a:ext cx="63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ented by Chien-Liang Fok on March 4, 2004 for CSE7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hen a Query is Generate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16692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649680" y="44640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7" name=""/>
          <p:cNvCxnSpPr>
            <a:stCxn id="1065" idx="6"/>
            <a:endCxn id="1066" idx="2"/>
          </p:cNvCxnSpPr>
          <p:nvPr/>
        </p:nvCxnSpPr>
        <p:spPr>
          <a:xfrm>
            <a:off x="3273120" y="4511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8" name=""/>
          <p:cNvCxnSpPr>
            <a:stCxn id="1065" idx="4"/>
          </p:cNvCxnSpPr>
          <p:nvPr/>
        </p:nvCxnSpPr>
        <p:spPr>
          <a:xfrm>
            <a:off x="322056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9" name=""/>
          <p:cNvCxnSpPr>
            <a:stCxn id="1066" idx="4"/>
          </p:cNvCxnSpPr>
          <p:nvPr/>
        </p:nvCxnSpPr>
        <p:spPr>
          <a:xfrm>
            <a:off x="370332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0" name=""/>
          <p:cNvSpPr/>
          <p:nvPr/>
        </p:nvSpPr>
        <p:spPr>
          <a:xfrm>
            <a:off x="2203560" y="44640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68596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2" name=""/>
          <p:cNvCxnSpPr>
            <a:stCxn id="1070" idx="6"/>
            <a:endCxn id="1071" idx="2"/>
          </p:cNvCxnSpPr>
          <p:nvPr/>
        </p:nvCxnSpPr>
        <p:spPr>
          <a:xfrm>
            <a:off x="2309400" y="4511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3" name=""/>
          <p:cNvCxnSpPr>
            <a:stCxn id="1070" idx="4"/>
          </p:cNvCxnSpPr>
          <p:nvPr/>
        </p:nvCxnSpPr>
        <p:spPr>
          <a:xfrm>
            <a:off x="22572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4" name=""/>
          <p:cNvCxnSpPr>
            <a:stCxn id="1071" idx="4"/>
          </p:cNvCxnSpPr>
          <p:nvPr/>
        </p:nvCxnSpPr>
        <p:spPr>
          <a:xfrm>
            <a:off x="27396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5" name=""/>
          <p:cNvCxnSpPr>
            <a:stCxn id="1071" idx="6"/>
            <a:endCxn id="1065" idx="2"/>
          </p:cNvCxnSpPr>
          <p:nvPr/>
        </p:nvCxnSpPr>
        <p:spPr>
          <a:xfrm>
            <a:off x="2792520" y="4511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6" name=""/>
          <p:cNvSpPr/>
          <p:nvPr/>
        </p:nvSpPr>
        <p:spPr>
          <a:xfrm>
            <a:off x="5094360" y="44640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57676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8" name=""/>
          <p:cNvCxnSpPr>
            <a:stCxn id="1076" idx="6"/>
            <a:endCxn id="1077" idx="2"/>
          </p:cNvCxnSpPr>
          <p:nvPr/>
        </p:nvCxnSpPr>
        <p:spPr>
          <a:xfrm>
            <a:off x="5202360" y="4511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9" name=""/>
          <p:cNvCxnSpPr>
            <a:stCxn id="1076" idx="4"/>
          </p:cNvCxnSpPr>
          <p:nvPr/>
        </p:nvCxnSpPr>
        <p:spPr>
          <a:xfrm>
            <a:off x="51480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0" name=""/>
          <p:cNvCxnSpPr>
            <a:stCxn id="1077" idx="4"/>
          </p:cNvCxnSpPr>
          <p:nvPr/>
        </p:nvCxnSpPr>
        <p:spPr>
          <a:xfrm>
            <a:off x="56304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1" name=""/>
          <p:cNvCxnSpPr>
            <a:stCxn id="1082" idx="4"/>
          </p:cNvCxnSpPr>
          <p:nvPr/>
        </p:nvCxnSpPr>
        <p:spPr>
          <a:xfrm>
            <a:off x="418428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3" name=""/>
          <p:cNvCxnSpPr>
            <a:stCxn id="1084" idx="4"/>
          </p:cNvCxnSpPr>
          <p:nvPr/>
        </p:nvCxnSpPr>
        <p:spPr>
          <a:xfrm>
            <a:off x="466704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5" name=""/>
          <p:cNvCxnSpPr>
            <a:stCxn id="1066" idx="6"/>
            <a:endCxn id="1082" idx="2"/>
          </p:cNvCxnSpPr>
          <p:nvPr/>
        </p:nvCxnSpPr>
        <p:spPr>
          <a:xfrm>
            <a:off x="3755520" y="4511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6" name=""/>
          <p:cNvSpPr/>
          <p:nvPr/>
        </p:nvSpPr>
        <p:spPr>
          <a:xfrm>
            <a:off x="611172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593040" y="44640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8" name=""/>
          <p:cNvCxnSpPr>
            <a:stCxn id="1086" idx="6"/>
            <a:endCxn id="1087" idx="2"/>
          </p:cNvCxnSpPr>
          <p:nvPr/>
        </p:nvCxnSpPr>
        <p:spPr>
          <a:xfrm>
            <a:off x="6217920" y="4511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9" name=""/>
          <p:cNvCxnSpPr>
            <a:stCxn id="1086" idx="4"/>
          </p:cNvCxnSpPr>
          <p:nvPr/>
        </p:nvCxnSpPr>
        <p:spPr>
          <a:xfrm>
            <a:off x="616536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0" name=""/>
          <p:cNvCxnSpPr>
            <a:stCxn id="1087" idx="4"/>
          </p:cNvCxnSpPr>
          <p:nvPr/>
        </p:nvCxnSpPr>
        <p:spPr>
          <a:xfrm>
            <a:off x="664668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1" name=""/>
          <p:cNvCxnSpPr>
            <a:stCxn id="1077" idx="6"/>
            <a:endCxn id="1086" idx="2"/>
          </p:cNvCxnSpPr>
          <p:nvPr/>
        </p:nvCxnSpPr>
        <p:spPr>
          <a:xfrm>
            <a:off x="5683320" y="45111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2" name=""/>
          <p:cNvSpPr/>
          <p:nvPr/>
        </p:nvSpPr>
        <p:spPr>
          <a:xfrm>
            <a:off x="316692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649680" y="40338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16692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649680" y="36050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6" name=""/>
          <p:cNvCxnSpPr>
            <a:stCxn id="1094" idx="6"/>
            <a:endCxn id="1095" idx="2"/>
          </p:cNvCxnSpPr>
          <p:nvPr/>
        </p:nvCxnSpPr>
        <p:spPr>
          <a:xfrm>
            <a:off x="3273120" y="36525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7" name=""/>
          <p:cNvCxnSpPr>
            <a:stCxn id="1094" idx="4"/>
            <a:endCxn id="1092" idx="0"/>
          </p:cNvCxnSpPr>
          <p:nvPr/>
        </p:nvCxnSpPr>
        <p:spPr>
          <a:xfrm>
            <a:off x="32205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8" name=""/>
          <p:cNvCxnSpPr>
            <a:stCxn id="1092" idx="6"/>
            <a:endCxn id="1093" idx="2"/>
          </p:cNvCxnSpPr>
          <p:nvPr/>
        </p:nvCxnSpPr>
        <p:spPr>
          <a:xfrm>
            <a:off x="3273120" y="40809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9" name=""/>
          <p:cNvCxnSpPr>
            <a:stCxn id="1095" idx="4"/>
            <a:endCxn id="1093" idx="0"/>
          </p:cNvCxnSpPr>
          <p:nvPr/>
        </p:nvCxnSpPr>
        <p:spPr>
          <a:xfrm>
            <a:off x="370152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00" name=""/>
          <p:cNvSpPr/>
          <p:nvPr/>
        </p:nvSpPr>
        <p:spPr>
          <a:xfrm>
            <a:off x="2203560" y="40338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68596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203560" y="36050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68596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4" name=""/>
          <p:cNvCxnSpPr>
            <a:stCxn id="1102" idx="6"/>
            <a:endCxn id="1103" idx="2"/>
          </p:cNvCxnSpPr>
          <p:nvPr/>
        </p:nvCxnSpPr>
        <p:spPr>
          <a:xfrm>
            <a:off x="2309400" y="36525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5" name=""/>
          <p:cNvCxnSpPr>
            <a:stCxn id="1102" idx="4"/>
            <a:endCxn id="1100" idx="0"/>
          </p:cNvCxnSpPr>
          <p:nvPr/>
        </p:nvCxnSpPr>
        <p:spPr>
          <a:xfrm>
            <a:off x="225720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6" name=""/>
          <p:cNvCxnSpPr>
            <a:stCxn id="1100" idx="6"/>
            <a:endCxn id="1101" idx="2"/>
          </p:cNvCxnSpPr>
          <p:nvPr/>
        </p:nvCxnSpPr>
        <p:spPr>
          <a:xfrm>
            <a:off x="2309400" y="40809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7" name=""/>
          <p:cNvCxnSpPr>
            <a:stCxn id="1103" idx="4"/>
            <a:endCxn id="1101" idx="0"/>
          </p:cNvCxnSpPr>
          <p:nvPr/>
        </p:nvCxnSpPr>
        <p:spPr>
          <a:xfrm>
            <a:off x="27381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8" name=""/>
          <p:cNvCxnSpPr>
            <a:stCxn id="1103" idx="6"/>
            <a:endCxn id="1094" idx="2"/>
          </p:cNvCxnSpPr>
          <p:nvPr/>
        </p:nvCxnSpPr>
        <p:spPr>
          <a:xfrm>
            <a:off x="2792520" y="36525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9" name=""/>
          <p:cNvCxnSpPr>
            <a:stCxn id="1101" idx="6"/>
            <a:endCxn id="1092" idx="2"/>
          </p:cNvCxnSpPr>
          <p:nvPr/>
        </p:nvCxnSpPr>
        <p:spPr>
          <a:xfrm>
            <a:off x="2792520" y="40809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0" name=""/>
          <p:cNvSpPr/>
          <p:nvPr/>
        </p:nvSpPr>
        <p:spPr>
          <a:xfrm>
            <a:off x="5094360" y="40338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557676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094360" y="36050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57676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4" name=""/>
          <p:cNvCxnSpPr>
            <a:stCxn id="1112" idx="6"/>
            <a:endCxn id="1113" idx="2"/>
          </p:cNvCxnSpPr>
          <p:nvPr/>
        </p:nvCxnSpPr>
        <p:spPr>
          <a:xfrm>
            <a:off x="5202360" y="36525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5" name=""/>
          <p:cNvCxnSpPr>
            <a:stCxn id="1112" idx="4"/>
            <a:endCxn id="1110" idx="0"/>
          </p:cNvCxnSpPr>
          <p:nvPr/>
        </p:nvCxnSpPr>
        <p:spPr>
          <a:xfrm>
            <a:off x="514800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6" name=""/>
          <p:cNvCxnSpPr>
            <a:stCxn id="1110" idx="6"/>
            <a:endCxn id="1111" idx="2"/>
          </p:cNvCxnSpPr>
          <p:nvPr/>
        </p:nvCxnSpPr>
        <p:spPr>
          <a:xfrm>
            <a:off x="5202360" y="40809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7" name=""/>
          <p:cNvCxnSpPr>
            <a:stCxn id="1113" idx="4"/>
            <a:endCxn id="1111" idx="0"/>
          </p:cNvCxnSpPr>
          <p:nvPr/>
        </p:nvCxnSpPr>
        <p:spPr>
          <a:xfrm>
            <a:off x="56289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8" name=""/>
          <p:cNvCxnSpPr>
            <a:stCxn id="1095" idx="6"/>
            <a:endCxn id="1119" idx="2"/>
          </p:cNvCxnSpPr>
          <p:nvPr/>
        </p:nvCxnSpPr>
        <p:spPr>
          <a:xfrm>
            <a:off x="3755520" y="36525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0" name=""/>
          <p:cNvCxnSpPr>
            <a:stCxn id="1093" idx="6"/>
            <a:endCxn id="1121" idx="2"/>
          </p:cNvCxnSpPr>
          <p:nvPr/>
        </p:nvCxnSpPr>
        <p:spPr>
          <a:xfrm>
            <a:off x="3755520" y="40809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2" name=""/>
          <p:cNvSpPr/>
          <p:nvPr/>
        </p:nvSpPr>
        <p:spPr>
          <a:xfrm>
            <a:off x="611172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593040" y="40338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11172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593040" y="360504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6" name=""/>
          <p:cNvCxnSpPr>
            <a:stCxn id="1124" idx="6"/>
            <a:endCxn id="1125" idx="2"/>
          </p:cNvCxnSpPr>
          <p:nvPr/>
        </p:nvCxnSpPr>
        <p:spPr>
          <a:xfrm>
            <a:off x="6217920" y="36525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7" name=""/>
          <p:cNvCxnSpPr>
            <a:stCxn id="1124" idx="4"/>
            <a:endCxn id="1122" idx="0"/>
          </p:cNvCxnSpPr>
          <p:nvPr/>
        </p:nvCxnSpPr>
        <p:spPr>
          <a:xfrm>
            <a:off x="61653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8" name=""/>
          <p:cNvCxnSpPr>
            <a:stCxn id="1122" idx="6"/>
            <a:endCxn id="1123" idx="2"/>
          </p:cNvCxnSpPr>
          <p:nvPr/>
        </p:nvCxnSpPr>
        <p:spPr>
          <a:xfrm>
            <a:off x="6217920" y="40809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9" name=""/>
          <p:cNvCxnSpPr>
            <a:stCxn id="1125" idx="4"/>
            <a:endCxn id="1123" idx="0"/>
          </p:cNvCxnSpPr>
          <p:nvPr/>
        </p:nvCxnSpPr>
        <p:spPr>
          <a:xfrm>
            <a:off x="664668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0" name=""/>
          <p:cNvCxnSpPr>
            <a:stCxn id="1113" idx="6"/>
            <a:endCxn id="1124" idx="2"/>
          </p:cNvCxnSpPr>
          <p:nvPr/>
        </p:nvCxnSpPr>
        <p:spPr>
          <a:xfrm>
            <a:off x="5683320" y="36525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1" name=""/>
          <p:cNvCxnSpPr>
            <a:stCxn id="1111" idx="6"/>
            <a:endCxn id="1122" idx="2"/>
          </p:cNvCxnSpPr>
          <p:nvPr/>
        </p:nvCxnSpPr>
        <p:spPr>
          <a:xfrm>
            <a:off x="5683320" y="40809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2" name=""/>
          <p:cNvCxnSpPr>
            <a:stCxn id="1100" idx="4"/>
            <a:endCxn id="1070" idx="0"/>
          </p:cNvCxnSpPr>
          <p:nvPr/>
        </p:nvCxnSpPr>
        <p:spPr>
          <a:xfrm>
            <a:off x="225720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3" name=""/>
          <p:cNvCxnSpPr>
            <a:stCxn id="1101" idx="4"/>
            <a:endCxn id="1071" idx="0"/>
          </p:cNvCxnSpPr>
          <p:nvPr/>
        </p:nvCxnSpPr>
        <p:spPr>
          <a:xfrm>
            <a:off x="27381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4" name=""/>
          <p:cNvCxnSpPr>
            <a:stCxn id="1092" idx="4"/>
            <a:endCxn id="1065" idx="0"/>
          </p:cNvCxnSpPr>
          <p:nvPr/>
        </p:nvCxnSpPr>
        <p:spPr>
          <a:xfrm>
            <a:off x="32205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5" name=""/>
          <p:cNvCxnSpPr>
            <a:stCxn id="1093" idx="4"/>
            <a:endCxn id="1066" idx="0"/>
          </p:cNvCxnSpPr>
          <p:nvPr/>
        </p:nvCxnSpPr>
        <p:spPr>
          <a:xfrm>
            <a:off x="370152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6" name=""/>
          <p:cNvCxnSpPr>
            <a:stCxn id="1110" idx="4"/>
            <a:endCxn id="1076" idx="0"/>
          </p:cNvCxnSpPr>
          <p:nvPr/>
        </p:nvCxnSpPr>
        <p:spPr>
          <a:xfrm>
            <a:off x="514800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7" name=""/>
          <p:cNvCxnSpPr>
            <a:stCxn id="1111" idx="4"/>
            <a:endCxn id="1077" idx="0"/>
          </p:cNvCxnSpPr>
          <p:nvPr/>
        </p:nvCxnSpPr>
        <p:spPr>
          <a:xfrm>
            <a:off x="56289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8" name=""/>
          <p:cNvCxnSpPr>
            <a:stCxn id="1122" idx="4"/>
            <a:endCxn id="1086" idx="0"/>
          </p:cNvCxnSpPr>
          <p:nvPr/>
        </p:nvCxnSpPr>
        <p:spPr>
          <a:xfrm>
            <a:off x="61653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9" name=""/>
          <p:cNvCxnSpPr>
            <a:stCxn id="1123" idx="4"/>
            <a:endCxn id="1087" idx="0"/>
          </p:cNvCxnSpPr>
          <p:nvPr/>
        </p:nvCxnSpPr>
        <p:spPr>
          <a:xfrm>
            <a:off x="664668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0" name=""/>
          <p:cNvSpPr/>
          <p:nvPr/>
        </p:nvSpPr>
        <p:spPr>
          <a:xfrm>
            <a:off x="3166920" y="31748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649680" y="31748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16692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649680" y="27446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4" name=""/>
          <p:cNvCxnSpPr>
            <a:stCxn id="1142" idx="6"/>
            <a:endCxn id="1143" idx="2"/>
          </p:cNvCxnSpPr>
          <p:nvPr/>
        </p:nvCxnSpPr>
        <p:spPr>
          <a:xfrm>
            <a:off x="3273120" y="2792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5" name=""/>
          <p:cNvCxnSpPr>
            <a:stCxn id="1142" idx="4"/>
            <a:endCxn id="1140" idx="0"/>
          </p:cNvCxnSpPr>
          <p:nvPr/>
        </p:nvCxnSpPr>
        <p:spPr>
          <a:xfrm>
            <a:off x="32205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6" name=""/>
          <p:cNvCxnSpPr>
            <a:stCxn id="1140" idx="6"/>
            <a:endCxn id="1141" idx="2"/>
          </p:cNvCxnSpPr>
          <p:nvPr/>
        </p:nvCxnSpPr>
        <p:spPr>
          <a:xfrm>
            <a:off x="3273120" y="32223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7" name=""/>
          <p:cNvCxnSpPr>
            <a:stCxn id="1143" idx="4"/>
            <a:endCxn id="1141" idx="0"/>
          </p:cNvCxnSpPr>
          <p:nvPr/>
        </p:nvCxnSpPr>
        <p:spPr>
          <a:xfrm>
            <a:off x="370152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8" name=""/>
          <p:cNvSpPr/>
          <p:nvPr/>
        </p:nvSpPr>
        <p:spPr>
          <a:xfrm>
            <a:off x="2203560" y="31748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685960" y="31748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203560" y="27446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68596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2" name=""/>
          <p:cNvCxnSpPr>
            <a:stCxn id="1150" idx="6"/>
            <a:endCxn id="1151" idx="2"/>
          </p:cNvCxnSpPr>
          <p:nvPr/>
        </p:nvCxnSpPr>
        <p:spPr>
          <a:xfrm>
            <a:off x="2309400" y="2792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3" name=""/>
          <p:cNvCxnSpPr>
            <a:stCxn id="1150" idx="4"/>
            <a:endCxn id="1148" idx="0"/>
          </p:cNvCxnSpPr>
          <p:nvPr/>
        </p:nvCxnSpPr>
        <p:spPr>
          <a:xfrm>
            <a:off x="225720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4" name=""/>
          <p:cNvCxnSpPr>
            <a:stCxn id="1148" idx="6"/>
            <a:endCxn id="1149" idx="2"/>
          </p:cNvCxnSpPr>
          <p:nvPr/>
        </p:nvCxnSpPr>
        <p:spPr>
          <a:xfrm>
            <a:off x="2309400" y="32223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5" name=""/>
          <p:cNvCxnSpPr>
            <a:stCxn id="1151" idx="4"/>
            <a:endCxn id="1149" idx="0"/>
          </p:cNvCxnSpPr>
          <p:nvPr/>
        </p:nvCxnSpPr>
        <p:spPr>
          <a:xfrm>
            <a:off x="27381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6" name=""/>
          <p:cNvCxnSpPr>
            <a:stCxn id="1151" idx="6"/>
            <a:endCxn id="1142" idx="2"/>
          </p:cNvCxnSpPr>
          <p:nvPr/>
        </p:nvCxnSpPr>
        <p:spPr>
          <a:xfrm>
            <a:off x="2792520" y="2792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7" name=""/>
          <p:cNvCxnSpPr>
            <a:stCxn id="1149" idx="6"/>
            <a:endCxn id="1140" idx="2"/>
          </p:cNvCxnSpPr>
          <p:nvPr/>
        </p:nvCxnSpPr>
        <p:spPr>
          <a:xfrm>
            <a:off x="2792520" y="3222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8" name=""/>
          <p:cNvSpPr/>
          <p:nvPr/>
        </p:nvSpPr>
        <p:spPr>
          <a:xfrm>
            <a:off x="5094360" y="31748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576760" y="3174840"/>
            <a:ext cx="10656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094360" y="27446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57676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2" name=""/>
          <p:cNvCxnSpPr>
            <a:stCxn id="1160" idx="6"/>
            <a:endCxn id="1161" idx="2"/>
          </p:cNvCxnSpPr>
          <p:nvPr/>
        </p:nvCxnSpPr>
        <p:spPr>
          <a:xfrm>
            <a:off x="5202360" y="2792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3" name=""/>
          <p:cNvCxnSpPr>
            <a:stCxn id="1160" idx="4"/>
            <a:endCxn id="1158" idx="0"/>
          </p:cNvCxnSpPr>
          <p:nvPr/>
        </p:nvCxnSpPr>
        <p:spPr>
          <a:xfrm>
            <a:off x="514800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4" name=""/>
          <p:cNvCxnSpPr>
            <a:stCxn id="1158" idx="6"/>
            <a:endCxn id="1159" idx="2"/>
          </p:cNvCxnSpPr>
          <p:nvPr/>
        </p:nvCxnSpPr>
        <p:spPr>
          <a:xfrm>
            <a:off x="5202360" y="3222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5" name=""/>
          <p:cNvCxnSpPr>
            <a:stCxn id="1161" idx="4"/>
            <a:endCxn id="1159" idx="0"/>
          </p:cNvCxnSpPr>
          <p:nvPr/>
        </p:nvCxnSpPr>
        <p:spPr>
          <a:xfrm>
            <a:off x="56289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6" name=""/>
          <p:cNvSpPr/>
          <p:nvPr/>
        </p:nvSpPr>
        <p:spPr>
          <a:xfrm>
            <a:off x="4130640" y="31748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613400" y="31748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130640" y="27446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613400" y="27446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0" name=""/>
          <p:cNvCxnSpPr>
            <a:stCxn id="1168" idx="6"/>
            <a:endCxn id="1169" idx="2"/>
          </p:cNvCxnSpPr>
          <p:nvPr/>
        </p:nvCxnSpPr>
        <p:spPr>
          <a:xfrm>
            <a:off x="423828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1" name=""/>
          <p:cNvCxnSpPr>
            <a:stCxn id="1168" idx="4"/>
            <a:endCxn id="1166" idx="0"/>
          </p:cNvCxnSpPr>
          <p:nvPr/>
        </p:nvCxnSpPr>
        <p:spPr>
          <a:xfrm>
            <a:off x="418428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2" name=""/>
          <p:cNvCxnSpPr>
            <a:stCxn id="1166" idx="6"/>
            <a:endCxn id="1167" idx="2"/>
          </p:cNvCxnSpPr>
          <p:nvPr/>
        </p:nvCxnSpPr>
        <p:spPr>
          <a:xfrm>
            <a:off x="423828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3" name=""/>
          <p:cNvCxnSpPr>
            <a:stCxn id="1169" idx="4"/>
            <a:endCxn id="1167" idx="0"/>
          </p:cNvCxnSpPr>
          <p:nvPr/>
        </p:nvCxnSpPr>
        <p:spPr>
          <a:xfrm>
            <a:off x="466524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4" name=""/>
          <p:cNvCxnSpPr>
            <a:stCxn id="1169" idx="6"/>
            <a:endCxn id="1160" idx="2"/>
          </p:cNvCxnSpPr>
          <p:nvPr/>
        </p:nvCxnSpPr>
        <p:spPr>
          <a:xfrm>
            <a:off x="471924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5" name=""/>
          <p:cNvCxnSpPr>
            <a:stCxn id="1167" idx="6"/>
            <a:endCxn id="1158" idx="2"/>
          </p:cNvCxnSpPr>
          <p:nvPr/>
        </p:nvCxnSpPr>
        <p:spPr>
          <a:xfrm>
            <a:off x="471924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6" name=""/>
          <p:cNvCxnSpPr>
            <a:stCxn id="1143" idx="6"/>
            <a:endCxn id="1168" idx="2"/>
          </p:cNvCxnSpPr>
          <p:nvPr/>
        </p:nvCxnSpPr>
        <p:spPr>
          <a:xfrm>
            <a:off x="375552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7" name=""/>
          <p:cNvCxnSpPr>
            <a:stCxn id="1141" idx="6"/>
            <a:endCxn id="1166" idx="2"/>
          </p:cNvCxnSpPr>
          <p:nvPr/>
        </p:nvCxnSpPr>
        <p:spPr>
          <a:xfrm>
            <a:off x="375552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8" name=""/>
          <p:cNvSpPr/>
          <p:nvPr/>
        </p:nvSpPr>
        <p:spPr>
          <a:xfrm>
            <a:off x="6111720" y="31748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593040" y="317484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611172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593040" y="274464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2" name=""/>
          <p:cNvCxnSpPr>
            <a:stCxn id="1180" idx="6"/>
            <a:endCxn id="1181" idx="2"/>
          </p:cNvCxnSpPr>
          <p:nvPr/>
        </p:nvCxnSpPr>
        <p:spPr>
          <a:xfrm>
            <a:off x="621792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3" name=""/>
          <p:cNvCxnSpPr>
            <a:stCxn id="1180" idx="4"/>
            <a:endCxn id="1178" idx="0"/>
          </p:cNvCxnSpPr>
          <p:nvPr/>
        </p:nvCxnSpPr>
        <p:spPr>
          <a:xfrm>
            <a:off x="61653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4" name=""/>
          <p:cNvCxnSpPr>
            <a:stCxn id="1178" idx="6"/>
            <a:endCxn id="1179" idx="2"/>
          </p:cNvCxnSpPr>
          <p:nvPr/>
        </p:nvCxnSpPr>
        <p:spPr>
          <a:xfrm>
            <a:off x="621792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5" name=""/>
          <p:cNvCxnSpPr>
            <a:stCxn id="1181" idx="4"/>
            <a:endCxn id="1179" idx="0"/>
          </p:cNvCxnSpPr>
          <p:nvPr/>
        </p:nvCxnSpPr>
        <p:spPr>
          <a:xfrm>
            <a:off x="664668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6" name=""/>
          <p:cNvCxnSpPr>
            <a:stCxn id="1161" idx="6"/>
            <a:endCxn id="1180" idx="2"/>
          </p:cNvCxnSpPr>
          <p:nvPr/>
        </p:nvCxnSpPr>
        <p:spPr>
          <a:xfrm>
            <a:off x="5683320" y="27921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7" name=""/>
          <p:cNvCxnSpPr>
            <a:stCxn id="1159" idx="6"/>
            <a:endCxn id="1178" idx="2"/>
          </p:cNvCxnSpPr>
          <p:nvPr/>
        </p:nvCxnSpPr>
        <p:spPr>
          <a:xfrm>
            <a:off x="5683320" y="32223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8" name=""/>
          <p:cNvSpPr/>
          <p:nvPr/>
        </p:nvSpPr>
        <p:spPr>
          <a:xfrm>
            <a:off x="316692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649680" y="23162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16692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649680" y="18860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2" name=""/>
          <p:cNvCxnSpPr>
            <a:stCxn id="1190" idx="6"/>
            <a:endCxn id="1191" idx="2"/>
          </p:cNvCxnSpPr>
          <p:nvPr/>
        </p:nvCxnSpPr>
        <p:spPr>
          <a:xfrm>
            <a:off x="3273120" y="1933200"/>
            <a:ext cx="3769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193" name=""/>
          <p:cNvCxnSpPr>
            <a:stCxn id="1190" idx="4"/>
            <a:endCxn id="1188" idx="0"/>
          </p:cNvCxnSpPr>
          <p:nvPr/>
        </p:nvCxnSpPr>
        <p:spPr>
          <a:xfrm>
            <a:off x="32205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4" name=""/>
          <p:cNvCxnSpPr>
            <a:stCxn id="1188" idx="6"/>
            <a:endCxn id="1189" idx="2"/>
          </p:cNvCxnSpPr>
          <p:nvPr/>
        </p:nvCxnSpPr>
        <p:spPr>
          <a:xfrm>
            <a:off x="3273120" y="236340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5" name=""/>
          <p:cNvCxnSpPr>
            <a:stCxn id="1191" idx="4"/>
            <a:endCxn id="1189" idx="0"/>
          </p:cNvCxnSpPr>
          <p:nvPr/>
        </p:nvCxnSpPr>
        <p:spPr>
          <a:xfrm>
            <a:off x="370152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96" name=""/>
          <p:cNvSpPr/>
          <p:nvPr/>
        </p:nvSpPr>
        <p:spPr>
          <a:xfrm>
            <a:off x="2203560" y="23162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68596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203560" y="18860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68596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0" name=""/>
          <p:cNvCxnSpPr>
            <a:stCxn id="1198" idx="6"/>
            <a:endCxn id="1199" idx="2"/>
          </p:cNvCxnSpPr>
          <p:nvPr/>
        </p:nvCxnSpPr>
        <p:spPr>
          <a:xfrm>
            <a:off x="2309400" y="193320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1" name=""/>
          <p:cNvCxnSpPr>
            <a:stCxn id="1198" idx="4"/>
            <a:endCxn id="1196" idx="0"/>
          </p:cNvCxnSpPr>
          <p:nvPr/>
        </p:nvCxnSpPr>
        <p:spPr>
          <a:xfrm>
            <a:off x="225720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2" name=""/>
          <p:cNvCxnSpPr>
            <a:stCxn id="1196" idx="6"/>
            <a:endCxn id="1197" idx="2"/>
          </p:cNvCxnSpPr>
          <p:nvPr/>
        </p:nvCxnSpPr>
        <p:spPr>
          <a:xfrm>
            <a:off x="2309400" y="236340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3" name=""/>
          <p:cNvCxnSpPr>
            <a:stCxn id="1199" idx="4"/>
            <a:endCxn id="1197" idx="0"/>
          </p:cNvCxnSpPr>
          <p:nvPr/>
        </p:nvCxnSpPr>
        <p:spPr>
          <a:xfrm>
            <a:off x="27381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4" name=""/>
          <p:cNvCxnSpPr>
            <a:stCxn id="1199" idx="6"/>
            <a:endCxn id="1190" idx="2"/>
          </p:cNvCxnSpPr>
          <p:nvPr/>
        </p:nvCxnSpPr>
        <p:spPr>
          <a:xfrm>
            <a:off x="2792520" y="193320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05" name=""/>
          <p:cNvCxnSpPr>
            <a:stCxn id="1197" idx="6"/>
            <a:endCxn id="1188" idx="2"/>
          </p:cNvCxnSpPr>
          <p:nvPr/>
        </p:nvCxnSpPr>
        <p:spPr>
          <a:xfrm>
            <a:off x="2792520" y="236340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6" name=""/>
          <p:cNvSpPr/>
          <p:nvPr/>
        </p:nvSpPr>
        <p:spPr>
          <a:xfrm>
            <a:off x="5094360" y="23162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57676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094360" y="18860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57676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0" name=""/>
          <p:cNvCxnSpPr>
            <a:stCxn id="1208" idx="6"/>
            <a:endCxn id="1209" idx="2"/>
          </p:cNvCxnSpPr>
          <p:nvPr/>
        </p:nvCxnSpPr>
        <p:spPr>
          <a:xfrm>
            <a:off x="5202360" y="193320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11" name=""/>
          <p:cNvCxnSpPr>
            <a:stCxn id="1208" idx="4"/>
            <a:endCxn id="1206" idx="0"/>
          </p:cNvCxnSpPr>
          <p:nvPr/>
        </p:nvCxnSpPr>
        <p:spPr>
          <a:xfrm>
            <a:off x="514800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2" name=""/>
          <p:cNvCxnSpPr>
            <a:stCxn id="1206" idx="6"/>
            <a:endCxn id="1207" idx="2"/>
          </p:cNvCxnSpPr>
          <p:nvPr/>
        </p:nvCxnSpPr>
        <p:spPr>
          <a:xfrm>
            <a:off x="5202360" y="236340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3" name=""/>
          <p:cNvCxnSpPr>
            <a:stCxn id="1209" idx="4"/>
            <a:endCxn id="1207" idx="0"/>
          </p:cNvCxnSpPr>
          <p:nvPr/>
        </p:nvCxnSpPr>
        <p:spPr>
          <a:xfrm>
            <a:off x="56289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4" name=""/>
          <p:cNvSpPr/>
          <p:nvPr/>
        </p:nvSpPr>
        <p:spPr>
          <a:xfrm>
            <a:off x="4130640" y="23162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613400" y="23162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130640" y="18860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613400" y="18860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8" name=""/>
          <p:cNvCxnSpPr>
            <a:stCxn id="1216" idx="6"/>
            <a:endCxn id="1217" idx="2"/>
          </p:cNvCxnSpPr>
          <p:nvPr/>
        </p:nvCxnSpPr>
        <p:spPr>
          <a:xfrm>
            <a:off x="4238280" y="193320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19" name=""/>
          <p:cNvCxnSpPr>
            <a:stCxn id="1216" idx="4"/>
            <a:endCxn id="1214" idx="0"/>
          </p:cNvCxnSpPr>
          <p:nvPr/>
        </p:nvCxnSpPr>
        <p:spPr>
          <a:xfrm>
            <a:off x="418428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0" name=""/>
          <p:cNvCxnSpPr>
            <a:stCxn id="1214" idx="6"/>
            <a:endCxn id="1215" idx="2"/>
          </p:cNvCxnSpPr>
          <p:nvPr/>
        </p:nvCxnSpPr>
        <p:spPr>
          <a:xfrm>
            <a:off x="423828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1" name=""/>
          <p:cNvCxnSpPr>
            <a:stCxn id="1217" idx="4"/>
            <a:endCxn id="1215" idx="0"/>
          </p:cNvCxnSpPr>
          <p:nvPr/>
        </p:nvCxnSpPr>
        <p:spPr>
          <a:xfrm>
            <a:off x="466524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2" name=""/>
          <p:cNvCxnSpPr>
            <a:stCxn id="1217" idx="6"/>
            <a:endCxn id="1208" idx="2"/>
          </p:cNvCxnSpPr>
          <p:nvPr/>
        </p:nvCxnSpPr>
        <p:spPr>
          <a:xfrm>
            <a:off x="4719240" y="193320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23" name=""/>
          <p:cNvCxnSpPr>
            <a:stCxn id="1215" idx="6"/>
            <a:endCxn id="1206" idx="2"/>
          </p:cNvCxnSpPr>
          <p:nvPr/>
        </p:nvCxnSpPr>
        <p:spPr>
          <a:xfrm>
            <a:off x="471924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4" name=""/>
          <p:cNvCxnSpPr>
            <a:stCxn id="1191" idx="6"/>
            <a:endCxn id="1216" idx="2"/>
          </p:cNvCxnSpPr>
          <p:nvPr/>
        </p:nvCxnSpPr>
        <p:spPr>
          <a:xfrm>
            <a:off x="3755520" y="193320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25" name=""/>
          <p:cNvCxnSpPr>
            <a:stCxn id="1189" idx="6"/>
            <a:endCxn id="1214" idx="2"/>
          </p:cNvCxnSpPr>
          <p:nvPr/>
        </p:nvCxnSpPr>
        <p:spPr>
          <a:xfrm>
            <a:off x="375552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6" name=""/>
          <p:cNvSpPr/>
          <p:nvPr/>
        </p:nvSpPr>
        <p:spPr>
          <a:xfrm>
            <a:off x="611172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593040" y="231624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11172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593040" y="188604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0" name=""/>
          <p:cNvCxnSpPr>
            <a:stCxn id="1228" idx="6"/>
            <a:endCxn id="1229" idx="2"/>
          </p:cNvCxnSpPr>
          <p:nvPr/>
        </p:nvCxnSpPr>
        <p:spPr>
          <a:xfrm>
            <a:off x="6217920" y="19332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1" name=""/>
          <p:cNvCxnSpPr>
            <a:stCxn id="1228" idx="4"/>
            <a:endCxn id="1226" idx="0"/>
          </p:cNvCxnSpPr>
          <p:nvPr/>
        </p:nvCxnSpPr>
        <p:spPr>
          <a:xfrm>
            <a:off x="61653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2" name=""/>
          <p:cNvCxnSpPr>
            <a:stCxn id="1226" idx="6"/>
            <a:endCxn id="1227" idx="2"/>
          </p:cNvCxnSpPr>
          <p:nvPr/>
        </p:nvCxnSpPr>
        <p:spPr>
          <a:xfrm>
            <a:off x="621792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3" name=""/>
          <p:cNvCxnSpPr>
            <a:stCxn id="1229" idx="4"/>
            <a:endCxn id="1227" idx="0"/>
          </p:cNvCxnSpPr>
          <p:nvPr/>
        </p:nvCxnSpPr>
        <p:spPr>
          <a:xfrm>
            <a:off x="664668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4" name=""/>
          <p:cNvCxnSpPr>
            <a:stCxn id="1209" idx="6"/>
            <a:endCxn id="1228" idx="2"/>
          </p:cNvCxnSpPr>
          <p:nvPr/>
        </p:nvCxnSpPr>
        <p:spPr>
          <a:xfrm>
            <a:off x="5683320" y="1933200"/>
            <a:ext cx="429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35" name=""/>
          <p:cNvCxnSpPr>
            <a:stCxn id="1207" idx="6"/>
            <a:endCxn id="1226" idx="2"/>
          </p:cNvCxnSpPr>
          <p:nvPr/>
        </p:nvCxnSpPr>
        <p:spPr>
          <a:xfrm>
            <a:off x="5683320" y="236340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6" name=""/>
          <p:cNvCxnSpPr>
            <a:stCxn id="1196" idx="4"/>
            <a:endCxn id="1150" idx="0"/>
          </p:cNvCxnSpPr>
          <p:nvPr/>
        </p:nvCxnSpPr>
        <p:spPr>
          <a:xfrm>
            <a:off x="225720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7" name=""/>
          <p:cNvCxnSpPr>
            <a:stCxn id="1197" idx="4"/>
            <a:endCxn id="1151" idx="0"/>
          </p:cNvCxnSpPr>
          <p:nvPr/>
        </p:nvCxnSpPr>
        <p:spPr>
          <a:xfrm>
            <a:off x="27381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8" name=""/>
          <p:cNvCxnSpPr>
            <a:stCxn id="1188" idx="4"/>
            <a:endCxn id="1142" idx="0"/>
          </p:cNvCxnSpPr>
          <p:nvPr/>
        </p:nvCxnSpPr>
        <p:spPr>
          <a:xfrm>
            <a:off x="32205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9" name=""/>
          <p:cNvCxnSpPr>
            <a:stCxn id="1189" idx="4"/>
            <a:endCxn id="1143" idx="0"/>
          </p:cNvCxnSpPr>
          <p:nvPr/>
        </p:nvCxnSpPr>
        <p:spPr>
          <a:xfrm>
            <a:off x="370152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0" name=""/>
          <p:cNvCxnSpPr>
            <a:stCxn id="1214" idx="4"/>
            <a:endCxn id="1168" idx="0"/>
          </p:cNvCxnSpPr>
          <p:nvPr/>
        </p:nvCxnSpPr>
        <p:spPr>
          <a:xfrm>
            <a:off x="418428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1" name=""/>
          <p:cNvCxnSpPr>
            <a:stCxn id="1215" idx="4"/>
            <a:endCxn id="1169" idx="0"/>
          </p:cNvCxnSpPr>
          <p:nvPr/>
        </p:nvCxnSpPr>
        <p:spPr>
          <a:xfrm>
            <a:off x="466524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2" name=""/>
          <p:cNvCxnSpPr>
            <a:stCxn id="1206" idx="4"/>
            <a:endCxn id="1160" idx="0"/>
          </p:cNvCxnSpPr>
          <p:nvPr/>
        </p:nvCxnSpPr>
        <p:spPr>
          <a:xfrm>
            <a:off x="514800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3" name=""/>
          <p:cNvCxnSpPr>
            <a:stCxn id="1207" idx="4"/>
            <a:endCxn id="1161" idx="0"/>
          </p:cNvCxnSpPr>
          <p:nvPr/>
        </p:nvCxnSpPr>
        <p:spPr>
          <a:xfrm>
            <a:off x="56289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4" name=""/>
          <p:cNvCxnSpPr>
            <a:stCxn id="1226" idx="4"/>
            <a:endCxn id="1180" idx="0"/>
          </p:cNvCxnSpPr>
          <p:nvPr/>
        </p:nvCxnSpPr>
        <p:spPr>
          <a:xfrm>
            <a:off x="61653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5" name=""/>
          <p:cNvCxnSpPr>
            <a:stCxn id="1227" idx="4"/>
            <a:endCxn id="1181" idx="0"/>
          </p:cNvCxnSpPr>
          <p:nvPr/>
        </p:nvCxnSpPr>
        <p:spPr>
          <a:xfrm>
            <a:off x="664668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6" name=""/>
          <p:cNvCxnSpPr>
            <a:stCxn id="1148" idx="4"/>
            <a:endCxn id="1102" idx="0"/>
          </p:cNvCxnSpPr>
          <p:nvPr/>
        </p:nvCxnSpPr>
        <p:spPr>
          <a:xfrm>
            <a:off x="225720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7" name=""/>
          <p:cNvCxnSpPr>
            <a:stCxn id="1149" idx="4"/>
            <a:endCxn id="1103" idx="0"/>
          </p:cNvCxnSpPr>
          <p:nvPr/>
        </p:nvCxnSpPr>
        <p:spPr>
          <a:xfrm>
            <a:off x="27381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140" idx="4"/>
            <a:endCxn id="1094" idx="0"/>
          </p:cNvCxnSpPr>
          <p:nvPr/>
        </p:nvCxnSpPr>
        <p:spPr>
          <a:xfrm>
            <a:off x="32205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9" name=""/>
          <p:cNvCxnSpPr>
            <a:stCxn id="1141" idx="4"/>
            <a:endCxn id="1095" idx="0"/>
          </p:cNvCxnSpPr>
          <p:nvPr/>
        </p:nvCxnSpPr>
        <p:spPr>
          <a:xfrm>
            <a:off x="370152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0" name=""/>
          <p:cNvCxnSpPr>
            <a:stCxn id="1166" idx="4"/>
            <a:endCxn id="1119" idx="0"/>
          </p:cNvCxnSpPr>
          <p:nvPr/>
        </p:nvCxnSpPr>
        <p:spPr>
          <a:xfrm>
            <a:off x="418428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1" name=""/>
          <p:cNvCxnSpPr>
            <a:stCxn id="1167" idx="4"/>
            <a:endCxn id="1252" idx="0"/>
          </p:cNvCxnSpPr>
          <p:nvPr/>
        </p:nvCxnSpPr>
        <p:spPr>
          <a:xfrm>
            <a:off x="466704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3" name=""/>
          <p:cNvCxnSpPr>
            <a:stCxn id="1158" idx="4"/>
            <a:endCxn id="1112" idx="0"/>
          </p:cNvCxnSpPr>
          <p:nvPr/>
        </p:nvCxnSpPr>
        <p:spPr>
          <a:xfrm>
            <a:off x="514800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4" name=""/>
          <p:cNvCxnSpPr>
            <a:stCxn id="1159" idx="4"/>
            <a:endCxn id="1113" idx="0"/>
          </p:cNvCxnSpPr>
          <p:nvPr/>
        </p:nvCxnSpPr>
        <p:spPr>
          <a:xfrm>
            <a:off x="56289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5" name=""/>
          <p:cNvCxnSpPr>
            <a:stCxn id="1178" idx="4"/>
            <a:endCxn id="1124" idx="0"/>
          </p:cNvCxnSpPr>
          <p:nvPr/>
        </p:nvCxnSpPr>
        <p:spPr>
          <a:xfrm>
            <a:off x="61653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6" name=""/>
          <p:cNvCxnSpPr>
            <a:stCxn id="1179" idx="4"/>
            <a:endCxn id="1125" idx="0"/>
          </p:cNvCxnSpPr>
          <p:nvPr/>
        </p:nvCxnSpPr>
        <p:spPr>
          <a:xfrm>
            <a:off x="664668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57" name=""/>
          <p:cNvSpPr/>
          <p:nvPr/>
        </p:nvSpPr>
        <p:spPr>
          <a:xfrm>
            <a:off x="3170160" y="57531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652920" y="57531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9" name=""/>
          <p:cNvCxnSpPr>
            <a:stCxn id="1257" idx="6"/>
            <a:endCxn id="1258" idx="2"/>
          </p:cNvCxnSpPr>
          <p:nvPr/>
        </p:nvCxnSpPr>
        <p:spPr>
          <a:xfrm>
            <a:off x="327780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0" name=""/>
          <p:cNvSpPr/>
          <p:nvPr/>
        </p:nvSpPr>
        <p:spPr>
          <a:xfrm>
            <a:off x="2206800" y="5753160"/>
            <a:ext cx="107640" cy="950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268920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2" name=""/>
          <p:cNvCxnSpPr>
            <a:stCxn id="1260" idx="6"/>
            <a:endCxn id="1261" idx="2"/>
          </p:cNvCxnSpPr>
          <p:nvPr/>
        </p:nvCxnSpPr>
        <p:spPr>
          <a:xfrm>
            <a:off x="231408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3" name=""/>
          <p:cNvCxnSpPr>
            <a:stCxn id="1261" idx="6"/>
            <a:endCxn id="1257" idx="2"/>
          </p:cNvCxnSpPr>
          <p:nvPr/>
        </p:nvCxnSpPr>
        <p:spPr>
          <a:xfrm>
            <a:off x="2795760" y="58003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4" name=""/>
          <p:cNvSpPr/>
          <p:nvPr/>
        </p:nvSpPr>
        <p:spPr>
          <a:xfrm>
            <a:off x="5097600" y="575316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58000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6" name=""/>
          <p:cNvCxnSpPr>
            <a:stCxn id="1264" idx="6"/>
            <a:endCxn id="1265" idx="2"/>
          </p:cNvCxnSpPr>
          <p:nvPr/>
        </p:nvCxnSpPr>
        <p:spPr>
          <a:xfrm>
            <a:off x="520488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7" name=""/>
          <p:cNvSpPr/>
          <p:nvPr/>
        </p:nvSpPr>
        <p:spPr>
          <a:xfrm>
            <a:off x="4133880" y="57531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461628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9" name=""/>
          <p:cNvCxnSpPr>
            <a:stCxn id="1267" idx="6"/>
            <a:endCxn id="1268" idx="2"/>
          </p:cNvCxnSpPr>
          <p:nvPr/>
        </p:nvCxnSpPr>
        <p:spPr>
          <a:xfrm>
            <a:off x="4241880" y="58003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0" name=""/>
          <p:cNvCxnSpPr>
            <a:stCxn id="1268" idx="6"/>
            <a:endCxn id="1264" idx="2"/>
          </p:cNvCxnSpPr>
          <p:nvPr/>
        </p:nvCxnSpPr>
        <p:spPr>
          <a:xfrm>
            <a:off x="472248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1" name=""/>
          <p:cNvCxnSpPr>
            <a:stCxn id="1258" idx="6"/>
            <a:endCxn id="1267" idx="2"/>
          </p:cNvCxnSpPr>
          <p:nvPr/>
        </p:nvCxnSpPr>
        <p:spPr>
          <a:xfrm>
            <a:off x="375876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2" name=""/>
          <p:cNvSpPr/>
          <p:nvPr/>
        </p:nvSpPr>
        <p:spPr>
          <a:xfrm>
            <a:off x="611496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597720" y="57531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4" name=""/>
          <p:cNvCxnSpPr>
            <a:stCxn id="1272" idx="6"/>
            <a:endCxn id="1273" idx="2"/>
          </p:cNvCxnSpPr>
          <p:nvPr/>
        </p:nvCxnSpPr>
        <p:spPr>
          <a:xfrm>
            <a:off x="6221160" y="58003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5" name=""/>
          <p:cNvCxnSpPr>
            <a:stCxn id="1265" idx="6"/>
            <a:endCxn id="1272" idx="2"/>
          </p:cNvCxnSpPr>
          <p:nvPr/>
        </p:nvCxnSpPr>
        <p:spPr>
          <a:xfrm>
            <a:off x="5686560" y="580032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6" name=""/>
          <p:cNvSpPr/>
          <p:nvPr/>
        </p:nvSpPr>
        <p:spPr>
          <a:xfrm>
            <a:off x="3170160" y="53229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652920" y="53229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170160" y="48942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652920" y="48942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0" name=""/>
          <p:cNvCxnSpPr>
            <a:stCxn id="1278" idx="6"/>
            <a:endCxn id="1279" idx="2"/>
          </p:cNvCxnSpPr>
          <p:nvPr/>
        </p:nvCxnSpPr>
        <p:spPr>
          <a:xfrm>
            <a:off x="327780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1" name=""/>
          <p:cNvCxnSpPr>
            <a:stCxn id="1278" idx="4"/>
            <a:endCxn id="1276" idx="0"/>
          </p:cNvCxnSpPr>
          <p:nvPr/>
        </p:nvCxnSpPr>
        <p:spPr>
          <a:xfrm>
            <a:off x="322380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2" name=""/>
          <p:cNvCxnSpPr>
            <a:stCxn id="1276" idx="6"/>
            <a:endCxn id="1277" idx="2"/>
          </p:cNvCxnSpPr>
          <p:nvPr/>
        </p:nvCxnSpPr>
        <p:spPr>
          <a:xfrm>
            <a:off x="327780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3" name=""/>
          <p:cNvCxnSpPr>
            <a:stCxn id="1279" idx="4"/>
            <a:endCxn id="1277" idx="0"/>
          </p:cNvCxnSpPr>
          <p:nvPr/>
        </p:nvCxnSpPr>
        <p:spPr>
          <a:xfrm>
            <a:off x="370476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4" name=""/>
          <p:cNvSpPr/>
          <p:nvPr/>
        </p:nvSpPr>
        <p:spPr>
          <a:xfrm>
            <a:off x="2206800" y="532296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68920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206800" y="48942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68920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8" name=""/>
          <p:cNvCxnSpPr>
            <a:stCxn id="1286" idx="6"/>
            <a:endCxn id="1287" idx="2"/>
          </p:cNvCxnSpPr>
          <p:nvPr/>
        </p:nvCxnSpPr>
        <p:spPr>
          <a:xfrm>
            <a:off x="231408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9" name=""/>
          <p:cNvCxnSpPr>
            <a:stCxn id="1286" idx="4"/>
            <a:endCxn id="1284" idx="0"/>
          </p:cNvCxnSpPr>
          <p:nvPr/>
        </p:nvCxnSpPr>
        <p:spPr>
          <a:xfrm>
            <a:off x="226008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0" name=""/>
          <p:cNvCxnSpPr>
            <a:stCxn id="1284" idx="6"/>
            <a:endCxn id="1285" idx="2"/>
          </p:cNvCxnSpPr>
          <p:nvPr/>
        </p:nvCxnSpPr>
        <p:spPr>
          <a:xfrm>
            <a:off x="231408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1" name=""/>
          <p:cNvCxnSpPr>
            <a:stCxn id="1287" idx="4"/>
            <a:endCxn id="1285" idx="0"/>
          </p:cNvCxnSpPr>
          <p:nvPr/>
        </p:nvCxnSpPr>
        <p:spPr>
          <a:xfrm>
            <a:off x="274140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2" name=""/>
          <p:cNvCxnSpPr>
            <a:stCxn id="1287" idx="6"/>
            <a:endCxn id="1278" idx="2"/>
          </p:cNvCxnSpPr>
          <p:nvPr/>
        </p:nvCxnSpPr>
        <p:spPr>
          <a:xfrm>
            <a:off x="2795760" y="4941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3" name=""/>
          <p:cNvCxnSpPr>
            <a:stCxn id="1285" idx="6"/>
            <a:endCxn id="1276" idx="2"/>
          </p:cNvCxnSpPr>
          <p:nvPr/>
        </p:nvCxnSpPr>
        <p:spPr>
          <a:xfrm>
            <a:off x="2795760" y="5370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4" name=""/>
          <p:cNvSpPr/>
          <p:nvPr/>
        </p:nvSpPr>
        <p:spPr>
          <a:xfrm>
            <a:off x="5097600" y="532296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58000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097600" y="48942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58000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8" name=""/>
          <p:cNvCxnSpPr>
            <a:stCxn id="1296" idx="6"/>
            <a:endCxn id="1297" idx="2"/>
          </p:cNvCxnSpPr>
          <p:nvPr/>
        </p:nvCxnSpPr>
        <p:spPr>
          <a:xfrm>
            <a:off x="520488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9" name=""/>
          <p:cNvCxnSpPr>
            <a:stCxn id="1296" idx="4"/>
            <a:endCxn id="1294" idx="0"/>
          </p:cNvCxnSpPr>
          <p:nvPr/>
        </p:nvCxnSpPr>
        <p:spPr>
          <a:xfrm>
            <a:off x="515124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0" name=""/>
          <p:cNvCxnSpPr>
            <a:stCxn id="1294" idx="6"/>
            <a:endCxn id="1295" idx="2"/>
          </p:cNvCxnSpPr>
          <p:nvPr/>
        </p:nvCxnSpPr>
        <p:spPr>
          <a:xfrm>
            <a:off x="520488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1" name=""/>
          <p:cNvCxnSpPr>
            <a:stCxn id="1297" idx="4"/>
            <a:endCxn id="1295" idx="0"/>
          </p:cNvCxnSpPr>
          <p:nvPr/>
        </p:nvCxnSpPr>
        <p:spPr>
          <a:xfrm>
            <a:off x="563364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2" name=""/>
          <p:cNvSpPr/>
          <p:nvPr/>
        </p:nvSpPr>
        <p:spPr>
          <a:xfrm>
            <a:off x="4133880" y="53229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61628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133880" y="48942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61628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6" name=""/>
          <p:cNvCxnSpPr>
            <a:stCxn id="1304" idx="6"/>
            <a:endCxn id="1305" idx="2"/>
          </p:cNvCxnSpPr>
          <p:nvPr/>
        </p:nvCxnSpPr>
        <p:spPr>
          <a:xfrm>
            <a:off x="4241880" y="4941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7" name=""/>
          <p:cNvCxnSpPr>
            <a:stCxn id="1304" idx="4"/>
            <a:endCxn id="1302" idx="0"/>
          </p:cNvCxnSpPr>
          <p:nvPr/>
        </p:nvCxnSpPr>
        <p:spPr>
          <a:xfrm>
            <a:off x="418752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8" name=""/>
          <p:cNvCxnSpPr>
            <a:stCxn id="1302" idx="6"/>
            <a:endCxn id="1303" idx="2"/>
          </p:cNvCxnSpPr>
          <p:nvPr/>
        </p:nvCxnSpPr>
        <p:spPr>
          <a:xfrm>
            <a:off x="4241880" y="5370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9" name=""/>
          <p:cNvCxnSpPr>
            <a:stCxn id="1305" idx="4"/>
            <a:endCxn id="1303" idx="0"/>
          </p:cNvCxnSpPr>
          <p:nvPr/>
        </p:nvCxnSpPr>
        <p:spPr>
          <a:xfrm>
            <a:off x="466848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0" name=""/>
          <p:cNvCxnSpPr>
            <a:stCxn id="1305" idx="6"/>
            <a:endCxn id="1296" idx="2"/>
          </p:cNvCxnSpPr>
          <p:nvPr/>
        </p:nvCxnSpPr>
        <p:spPr>
          <a:xfrm>
            <a:off x="472248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1" name=""/>
          <p:cNvCxnSpPr>
            <a:stCxn id="1303" idx="6"/>
            <a:endCxn id="1294" idx="2"/>
          </p:cNvCxnSpPr>
          <p:nvPr/>
        </p:nvCxnSpPr>
        <p:spPr>
          <a:xfrm>
            <a:off x="472248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2" name=""/>
          <p:cNvCxnSpPr>
            <a:stCxn id="1279" idx="6"/>
            <a:endCxn id="1304" idx="2"/>
          </p:cNvCxnSpPr>
          <p:nvPr/>
        </p:nvCxnSpPr>
        <p:spPr>
          <a:xfrm>
            <a:off x="375876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3" name=""/>
          <p:cNvCxnSpPr>
            <a:stCxn id="1277" idx="6"/>
            <a:endCxn id="1302" idx="2"/>
          </p:cNvCxnSpPr>
          <p:nvPr/>
        </p:nvCxnSpPr>
        <p:spPr>
          <a:xfrm>
            <a:off x="375876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14" name=""/>
          <p:cNvSpPr/>
          <p:nvPr/>
        </p:nvSpPr>
        <p:spPr>
          <a:xfrm>
            <a:off x="611496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597720" y="53229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11496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597720" y="48942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8" name=""/>
          <p:cNvCxnSpPr>
            <a:stCxn id="1316" idx="6"/>
            <a:endCxn id="1317" idx="2"/>
          </p:cNvCxnSpPr>
          <p:nvPr/>
        </p:nvCxnSpPr>
        <p:spPr>
          <a:xfrm>
            <a:off x="6221160" y="49413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9" name=""/>
          <p:cNvCxnSpPr>
            <a:stCxn id="1316" idx="4"/>
            <a:endCxn id="1314" idx="0"/>
          </p:cNvCxnSpPr>
          <p:nvPr/>
        </p:nvCxnSpPr>
        <p:spPr>
          <a:xfrm>
            <a:off x="616860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0" name=""/>
          <p:cNvCxnSpPr>
            <a:stCxn id="1314" idx="6"/>
            <a:endCxn id="1315" idx="2"/>
          </p:cNvCxnSpPr>
          <p:nvPr/>
        </p:nvCxnSpPr>
        <p:spPr>
          <a:xfrm>
            <a:off x="6221160" y="53701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1" name=""/>
          <p:cNvCxnSpPr>
            <a:stCxn id="1317" idx="4"/>
            <a:endCxn id="1315" idx="0"/>
          </p:cNvCxnSpPr>
          <p:nvPr/>
        </p:nvCxnSpPr>
        <p:spPr>
          <a:xfrm>
            <a:off x="664956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2" name=""/>
          <p:cNvCxnSpPr>
            <a:stCxn id="1297" idx="6"/>
            <a:endCxn id="1316" idx="2"/>
          </p:cNvCxnSpPr>
          <p:nvPr/>
        </p:nvCxnSpPr>
        <p:spPr>
          <a:xfrm>
            <a:off x="5686560" y="49413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3" name=""/>
          <p:cNvCxnSpPr>
            <a:stCxn id="1295" idx="6"/>
            <a:endCxn id="1314" idx="2"/>
          </p:cNvCxnSpPr>
          <p:nvPr/>
        </p:nvCxnSpPr>
        <p:spPr>
          <a:xfrm>
            <a:off x="5686560" y="537012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4" name=""/>
          <p:cNvCxnSpPr>
            <a:stCxn id="1284" idx="4"/>
            <a:endCxn id="1260" idx="0"/>
          </p:cNvCxnSpPr>
          <p:nvPr/>
        </p:nvCxnSpPr>
        <p:spPr>
          <a:xfrm>
            <a:off x="226008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5" name=""/>
          <p:cNvCxnSpPr>
            <a:stCxn id="1285" idx="4"/>
            <a:endCxn id="1261" idx="0"/>
          </p:cNvCxnSpPr>
          <p:nvPr/>
        </p:nvCxnSpPr>
        <p:spPr>
          <a:xfrm>
            <a:off x="274140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6" name=""/>
          <p:cNvCxnSpPr>
            <a:stCxn id="1276" idx="4"/>
            <a:endCxn id="1257" idx="0"/>
          </p:cNvCxnSpPr>
          <p:nvPr/>
        </p:nvCxnSpPr>
        <p:spPr>
          <a:xfrm>
            <a:off x="322380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7" name=""/>
          <p:cNvCxnSpPr>
            <a:stCxn id="1277" idx="4"/>
            <a:endCxn id="1258" idx="0"/>
          </p:cNvCxnSpPr>
          <p:nvPr/>
        </p:nvCxnSpPr>
        <p:spPr>
          <a:xfrm>
            <a:off x="370476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8" name=""/>
          <p:cNvCxnSpPr>
            <a:stCxn id="1302" idx="4"/>
            <a:endCxn id="1267" idx="0"/>
          </p:cNvCxnSpPr>
          <p:nvPr/>
        </p:nvCxnSpPr>
        <p:spPr>
          <a:xfrm>
            <a:off x="418752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9" name=""/>
          <p:cNvCxnSpPr>
            <a:stCxn id="1303" idx="4"/>
            <a:endCxn id="1268" idx="0"/>
          </p:cNvCxnSpPr>
          <p:nvPr/>
        </p:nvCxnSpPr>
        <p:spPr>
          <a:xfrm>
            <a:off x="466848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0" name=""/>
          <p:cNvCxnSpPr>
            <a:stCxn id="1294" idx="4"/>
            <a:endCxn id="1264" idx="0"/>
          </p:cNvCxnSpPr>
          <p:nvPr/>
        </p:nvCxnSpPr>
        <p:spPr>
          <a:xfrm>
            <a:off x="515124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1" name=""/>
          <p:cNvCxnSpPr>
            <a:stCxn id="1295" idx="4"/>
            <a:endCxn id="1265" idx="0"/>
          </p:cNvCxnSpPr>
          <p:nvPr/>
        </p:nvCxnSpPr>
        <p:spPr>
          <a:xfrm>
            <a:off x="563364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2" name=""/>
          <p:cNvCxnSpPr>
            <a:stCxn id="1314" idx="4"/>
            <a:endCxn id="1272" idx="0"/>
          </p:cNvCxnSpPr>
          <p:nvPr/>
        </p:nvCxnSpPr>
        <p:spPr>
          <a:xfrm>
            <a:off x="616860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3" name=""/>
          <p:cNvCxnSpPr>
            <a:stCxn id="1315" idx="4"/>
            <a:endCxn id="1273" idx="0"/>
          </p:cNvCxnSpPr>
          <p:nvPr/>
        </p:nvCxnSpPr>
        <p:spPr>
          <a:xfrm>
            <a:off x="664956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4" name=""/>
          <p:cNvSpPr/>
          <p:nvPr/>
        </p:nvSpPr>
        <p:spPr>
          <a:xfrm>
            <a:off x="338148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862440" y="575316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344840" y="575316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82760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30856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79132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32628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898720" y="575316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41776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38148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862440" y="446400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530856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79132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32628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898720" y="446400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41776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38148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862440" y="31748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4344840" y="317484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482760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530856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579132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632628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898720" y="31748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41776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38148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862440" y="18860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344840" y="188604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482760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530856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79132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32628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898720" y="18860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41776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2309760" y="42256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2309760" y="37954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2309760" y="3365640"/>
            <a:ext cx="0" cy="1425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2309760" y="293652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2309760" y="250632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2309760" y="202860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2309760" y="5513040"/>
            <a:ext cx="0" cy="1443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2309760" y="50842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2309760" y="46540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4130640" y="3365640"/>
            <a:ext cx="963720" cy="1431720"/>
            <a:chOff x="4130640" y="3365640"/>
            <a:chExt cx="963720" cy="1431720"/>
          </a:xfrm>
        </p:grpSpPr>
        <p:sp>
          <p:nvSpPr>
            <p:cNvPr id="1082" name=""/>
            <p:cNvSpPr/>
            <p:nvPr/>
          </p:nvSpPr>
          <p:spPr>
            <a:xfrm>
              <a:off x="4130640" y="4464000"/>
              <a:ext cx="1080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13400" y="4464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78" name=""/>
            <p:cNvCxnSpPr>
              <a:stCxn id="1082" idx="6"/>
              <a:endCxn id="1084" idx="2"/>
            </p:cNvCxnSpPr>
            <p:nvPr/>
          </p:nvCxnSpPr>
          <p:spPr>
            <a:xfrm>
              <a:off x="4238280" y="45111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9" name=""/>
            <p:cNvCxnSpPr>
              <a:stCxn id="1084" idx="6"/>
              <a:endCxn id="1076" idx="2"/>
            </p:cNvCxnSpPr>
            <p:nvPr/>
          </p:nvCxnSpPr>
          <p:spPr>
            <a:xfrm>
              <a:off x="4719240" y="45111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21" name=""/>
            <p:cNvSpPr/>
            <p:nvPr/>
          </p:nvSpPr>
          <p:spPr>
            <a:xfrm>
              <a:off x="4130640" y="4033800"/>
              <a:ext cx="108000" cy="95400"/>
            </a:xfrm>
            <a:prstGeom prst="ellipse">
              <a:avLst/>
            </a:prstGeom>
            <a:solidFill>
              <a:srgbClr val="ff0000">
                <a:alpha val="99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613400" y="40338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130640" y="3605040"/>
              <a:ext cx="1080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613400" y="360504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1" name=""/>
            <p:cNvCxnSpPr>
              <a:stCxn id="1119" idx="6"/>
              <a:endCxn id="1252" idx="2"/>
            </p:cNvCxnSpPr>
            <p:nvPr/>
          </p:nvCxnSpPr>
          <p:spPr>
            <a:xfrm>
              <a:off x="4238280" y="36525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2" name=""/>
            <p:cNvCxnSpPr>
              <a:stCxn id="1119" idx="4"/>
              <a:endCxn id="1121" idx="0"/>
            </p:cNvCxnSpPr>
            <p:nvPr/>
          </p:nvCxnSpPr>
          <p:spPr>
            <a:xfrm>
              <a:off x="4184280" y="37004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3" name=""/>
            <p:cNvCxnSpPr>
              <a:stCxn id="1121" idx="6"/>
              <a:endCxn id="1380" idx="2"/>
            </p:cNvCxnSpPr>
            <p:nvPr/>
          </p:nvCxnSpPr>
          <p:spPr>
            <a:xfrm>
              <a:off x="4238280" y="40809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4" name=""/>
            <p:cNvCxnSpPr>
              <a:stCxn id="1252" idx="4"/>
              <a:endCxn id="1380" idx="0"/>
            </p:cNvCxnSpPr>
            <p:nvPr/>
          </p:nvCxnSpPr>
          <p:spPr>
            <a:xfrm>
              <a:off x="4665240" y="37004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5" name=""/>
            <p:cNvCxnSpPr>
              <a:stCxn id="1252" idx="6"/>
              <a:endCxn id="1112" idx="2"/>
            </p:cNvCxnSpPr>
            <p:nvPr/>
          </p:nvCxnSpPr>
          <p:spPr>
            <a:xfrm>
              <a:off x="4719240" y="36525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6" name=""/>
            <p:cNvCxnSpPr>
              <a:stCxn id="1380" idx="6"/>
              <a:endCxn id="1110" idx="2"/>
            </p:cNvCxnSpPr>
            <p:nvPr/>
          </p:nvCxnSpPr>
          <p:spPr>
            <a:xfrm>
              <a:off x="4719240" y="40809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7" name=""/>
            <p:cNvCxnSpPr>
              <a:stCxn id="1121" idx="4"/>
              <a:endCxn id="1082" idx="0"/>
            </p:cNvCxnSpPr>
            <p:nvPr/>
          </p:nvCxnSpPr>
          <p:spPr>
            <a:xfrm>
              <a:off x="4184280" y="41292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8" name=""/>
            <p:cNvCxnSpPr>
              <a:stCxn id="1380" idx="4"/>
              <a:endCxn id="1084" idx="0"/>
            </p:cNvCxnSpPr>
            <p:nvPr/>
          </p:nvCxnSpPr>
          <p:spPr>
            <a:xfrm>
              <a:off x="4665240" y="41292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9" name=""/>
            <p:cNvSpPr/>
            <p:nvPr/>
          </p:nvSpPr>
          <p:spPr>
            <a:xfrm flipV="1">
              <a:off x="4238640" y="379548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4238640" y="3365640"/>
              <a:ext cx="0" cy="14256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238640" y="42260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238640" y="46544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344840" y="4464000"/>
              <a:ext cx="1605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27600" y="4464000"/>
              <a:ext cx="16020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226760" y="373860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1469520" y="570240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7" name=""/>
          <p:cNvGrpSpPr/>
          <p:nvPr/>
        </p:nvGrpSpPr>
        <p:grpSpPr>
          <a:xfrm>
            <a:off x="5668200" y="2487240"/>
            <a:ext cx="831600" cy="1432440"/>
            <a:chOff x="5668200" y="2487240"/>
            <a:chExt cx="831600" cy="1432440"/>
          </a:xfrm>
        </p:grpSpPr>
        <p:sp>
          <p:nvSpPr>
            <p:cNvPr id="1398" name=""/>
            <p:cNvSpPr/>
            <p:nvPr/>
          </p:nvSpPr>
          <p:spPr>
            <a:xfrm flipV="1">
              <a:off x="5680440" y="29174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5680440" y="24872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680440" y="334800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680440" y="377676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668200" y="284796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1165-A505-433D-929E-DA8E2B0D8DA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uning Comb-Need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4" name="" descr=""/>
          <p:cNvPicPr/>
          <p:nvPr/>
        </p:nvPicPr>
        <p:blipFill>
          <a:blip r:embed="rId1"/>
          <a:stretch/>
        </p:blipFill>
        <p:spPr>
          <a:xfrm>
            <a:off x="1071720" y="1730520"/>
            <a:ext cx="4425840" cy="4573440"/>
          </a:xfrm>
          <a:prstGeom prst="rect">
            <a:avLst/>
          </a:prstGeom>
          <a:ln w="0">
            <a:noFill/>
          </a:ln>
        </p:spPr>
      </p:pic>
      <p:pic>
        <p:nvPicPr>
          <p:cNvPr id="1405" name="" descr=""/>
          <p:cNvPicPr/>
          <p:nvPr/>
        </p:nvPicPr>
        <p:blipFill>
          <a:blip r:embed="rId2"/>
          <a:stretch/>
        </p:blipFill>
        <p:spPr>
          <a:xfrm>
            <a:off x="2549520" y="5345280"/>
            <a:ext cx="5148360" cy="115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63F-0D26-428E-BF77-9F87EBE1D9B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ery Freq. &lt; Event Freq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7" name="" descr=""/>
          <p:cNvPicPr/>
          <p:nvPr/>
        </p:nvPicPr>
        <p:blipFill>
          <a:blip r:embed="rId1"/>
          <a:stretch/>
        </p:blipFill>
        <p:spPr>
          <a:xfrm>
            <a:off x="2521080" y="1690560"/>
            <a:ext cx="4843440" cy="476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2264-C105-4604-8569-0E6AF8D4CD2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ery Freq. &lt; Event Freq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1"/>
          <a:stretch/>
        </p:blipFill>
        <p:spPr>
          <a:xfrm>
            <a:off x="2627280" y="1801800"/>
            <a:ext cx="4313160" cy="424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5C0E-0C3B-4710-91B1-50D1ABCCC8A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Reverse Comb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1944720" y="1706400"/>
            <a:ext cx="4500000" cy="3962160"/>
            <a:chOff x="1944720" y="1706400"/>
            <a:chExt cx="4500000" cy="3962160"/>
          </a:xfrm>
        </p:grpSpPr>
        <p:sp>
          <p:nvSpPr>
            <p:cNvPr id="1412" name=""/>
            <p:cNvSpPr/>
            <p:nvPr/>
          </p:nvSpPr>
          <p:spPr>
            <a:xfrm>
              <a:off x="290808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390480" y="42843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4" name=""/>
            <p:cNvCxnSpPr>
              <a:stCxn id="1412" idx="6"/>
              <a:endCxn id="1413" idx="2"/>
            </p:cNvCxnSpPr>
            <p:nvPr/>
          </p:nvCxnSpPr>
          <p:spPr>
            <a:xfrm>
              <a:off x="3014280" y="4331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5" name=""/>
            <p:cNvCxnSpPr>
              <a:stCxn id="1412" idx="4"/>
            </p:cNvCxnSpPr>
            <p:nvPr/>
          </p:nvCxnSpPr>
          <p:spPr>
            <a:xfrm>
              <a:off x="296172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6" name=""/>
            <p:cNvCxnSpPr>
              <a:stCxn id="1413" idx="4"/>
            </p:cNvCxnSpPr>
            <p:nvPr/>
          </p:nvCxnSpPr>
          <p:spPr>
            <a:xfrm>
              <a:off x="344412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17" name=""/>
            <p:cNvSpPr/>
            <p:nvPr/>
          </p:nvSpPr>
          <p:spPr>
            <a:xfrm>
              <a:off x="1944720" y="42843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42712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9" name=""/>
            <p:cNvCxnSpPr>
              <a:stCxn id="1417" idx="6"/>
              <a:endCxn id="1418" idx="2"/>
            </p:cNvCxnSpPr>
            <p:nvPr/>
          </p:nvCxnSpPr>
          <p:spPr>
            <a:xfrm>
              <a:off x="2050920" y="4331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0" name=""/>
            <p:cNvCxnSpPr>
              <a:stCxn id="1418" idx="4"/>
            </p:cNvCxnSpPr>
            <p:nvPr/>
          </p:nvCxnSpPr>
          <p:spPr>
            <a:xfrm>
              <a:off x="248076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1" name=""/>
            <p:cNvCxnSpPr>
              <a:stCxn id="1418" idx="6"/>
              <a:endCxn id="1412" idx="2"/>
            </p:cNvCxnSpPr>
            <p:nvPr/>
          </p:nvCxnSpPr>
          <p:spPr>
            <a:xfrm>
              <a:off x="253332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22" name=""/>
            <p:cNvSpPr/>
            <p:nvPr/>
          </p:nvSpPr>
          <p:spPr>
            <a:xfrm>
              <a:off x="4835160" y="42843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31792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4" name=""/>
            <p:cNvCxnSpPr>
              <a:stCxn id="1422" idx="6"/>
              <a:endCxn id="1423" idx="2"/>
            </p:cNvCxnSpPr>
            <p:nvPr/>
          </p:nvCxnSpPr>
          <p:spPr>
            <a:xfrm>
              <a:off x="494316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5" name=""/>
            <p:cNvCxnSpPr>
              <a:stCxn id="1422" idx="4"/>
            </p:cNvCxnSpPr>
            <p:nvPr/>
          </p:nvCxnSpPr>
          <p:spPr>
            <a:xfrm>
              <a:off x="488880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6" name=""/>
            <p:cNvCxnSpPr>
              <a:stCxn id="1423" idx="4"/>
            </p:cNvCxnSpPr>
            <p:nvPr/>
          </p:nvCxnSpPr>
          <p:spPr>
            <a:xfrm>
              <a:off x="537156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27" name=""/>
            <p:cNvSpPr/>
            <p:nvPr/>
          </p:nvSpPr>
          <p:spPr>
            <a:xfrm>
              <a:off x="3871800" y="428436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54200" y="42843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9" name=""/>
            <p:cNvCxnSpPr>
              <a:stCxn id="1427" idx="6"/>
              <a:endCxn id="1428" idx="2"/>
            </p:cNvCxnSpPr>
            <p:nvPr/>
          </p:nvCxnSpPr>
          <p:spPr>
            <a:xfrm>
              <a:off x="397944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0" name=""/>
            <p:cNvCxnSpPr>
              <a:stCxn id="1427" idx="4"/>
            </p:cNvCxnSpPr>
            <p:nvPr/>
          </p:nvCxnSpPr>
          <p:spPr>
            <a:xfrm>
              <a:off x="392508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1" name=""/>
            <p:cNvCxnSpPr>
              <a:stCxn id="1428" idx="4"/>
            </p:cNvCxnSpPr>
            <p:nvPr/>
          </p:nvCxnSpPr>
          <p:spPr>
            <a:xfrm>
              <a:off x="440784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2" name=""/>
            <p:cNvCxnSpPr>
              <a:stCxn id="1428" idx="6"/>
              <a:endCxn id="1422" idx="2"/>
            </p:cNvCxnSpPr>
            <p:nvPr/>
          </p:nvCxnSpPr>
          <p:spPr>
            <a:xfrm>
              <a:off x="4460400" y="43315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3" name=""/>
            <p:cNvCxnSpPr>
              <a:stCxn id="1413" idx="6"/>
              <a:endCxn id="1427" idx="2"/>
            </p:cNvCxnSpPr>
            <p:nvPr/>
          </p:nvCxnSpPr>
          <p:spPr>
            <a:xfrm>
              <a:off x="349704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34" name=""/>
            <p:cNvSpPr/>
            <p:nvPr/>
          </p:nvSpPr>
          <p:spPr>
            <a:xfrm>
              <a:off x="585288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333840" y="42843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36" name=""/>
            <p:cNvCxnSpPr>
              <a:stCxn id="1434" idx="6"/>
              <a:endCxn id="1435" idx="2"/>
            </p:cNvCxnSpPr>
            <p:nvPr/>
          </p:nvCxnSpPr>
          <p:spPr>
            <a:xfrm>
              <a:off x="595908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7" name=""/>
            <p:cNvCxnSpPr>
              <a:stCxn id="1434" idx="4"/>
            </p:cNvCxnSpPr>
            <p:nvPr/>
          </p:nvCxnSpPr>
          <p:spPr>
            <a:xfrm>
              <a:off x="590652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8" name=""/>
            <p:cNvCxnSpPr>
              <a:stCxn id="1435" idx="4"/>
            </p:cNvCxnSpPr>
            <p:nvPr/>
          </p:nvCxnSpPr>
          <p:spPr>
            <a:xfrm>
              <a:off x="638748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9" name=""/>
            <p:cNvCxnSpPr>
              <a:stCxn id="1423" idx="6"/>
              <a:endCxn id="1434" idx="2"/>
            </p:cNvCxnSpPr>
            <p:nvPr/>
          </p:nvCxnSpPr>
          <p:spPr>
            <a:xfrm>
              <a:off x="5424120" y="43315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40" name=""/>
            <p:cNvSpPr/>
            <p:nvPr/>
          </p:nvSpPr>
          <p:spPr>
            <a:xfrm>
              <a:off x="290808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390480" y="38541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90808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390480" y="34254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4" name=""/>
            <p:cNvCxnSpPr>
              <a:stCxn id="1442" idx="6"/>
              <a:endCxn id="1443" idx="2"/>
            </p:cNvCxnSpPr>
            <p:nvPr/>
          </p:nvCxnSpPr>
          <p:spPr>
            <a:xfrm>
              <a:off x="3014280" y="34729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5" name=""/>
            <p:cNvCxnSpPr>
              <a:stCxn id="1442" idx="4"/>
              <a:endCxn id="1440" idx="0"/>
            </p:cNvCxnSpPr>
            <p:nvPr/>
          </p:nvCxnSpPr>
          <p:spPr>
            <a:xfrm>
              <a:off x="296172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6" name=""/>
            <p:cNvCxnSpPr>
              <a:stCxn id="1440" idx="6"/>
              <a:endCxn id="1441" idx="2"/>
            </p:cNvCxnSpPr>
            <p:nvPr/>
          </p:nvCxnSpPr>
          <p:spPr>
            <a:xfrm>
              <a:off x="3014280" y="39013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7" name=""/>
            <p:cNvCxnSpPr>
              <a:stCxn id="1443" idx="4"/>
              <a:endCxn id="1441" idx="0"/>
            </p:cNvCxnSpPr>
            <p:nvPr/>
          </p:nvCxnSpPr>
          <p:spPr>
            <a:xfrm>
              <a:off x="344268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48" name=""/>
            <p:cNvSpPr/>
            <p:nvPr/>
          </p:nvSpPr>
          <p:spPr>
            <a:xfrm>
              <a:off x="1944720" y="38541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42712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944720" y="34254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42712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52" name=""/>
            <p:cNvCxnSpPr>
              <a:stCxn id="1450" idx="6"/>
              <a:endCxn id="1451" idx="2"/>
            </p:cNvCxnSpPr>
            <p:nvPr/>
          </p:nvCxnSpPr>
          <p:spPr>
            <a:xfrm>
              <a:off x="2050920" y="34729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3" name=""/>
            <p:cNvCxnSpPr>
              <a:stCxn id="1448" idx="6"/>
              <a:endCxn id="1449" idx="2"/>
            </p:cNvCxnSpPr>
            <p:nvPr/>
          </p:nvCxnSpPr>
          <p:spPr>
            <a:xfrm>
              <a:off x="2050920" y="39013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4" name=""/>
            <p:cNvCxnSpPr>
              <a:stCxn id="1451" idx="4"/>
              <a:endCxn id="1449" idx="0"/>
            </p:cNvCxnSpPr>
            <p:nvPr/>
          </p:nvCxnSpPr>
          <p:spPr>
            <a:xfrm>
              <a:off x="247896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5" name=""/>
            <p:cNvCxnSpPr>
              <a:stCxn id="1451" idx="6"/>
              <a:endCxn id="1442" idx="2"/>
            </p:cNvCxnSpPr>
            <p:nvPr/>
          </p:nvCxnSpPr>
          <p:spPr>
            <a:xfrm>
              <a:off x="253332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6" name=""/>
            <p:cNvCxnSpPr>
              <a:stCxn id="1449" idx="6"/>
              <a:endCxn id="1440" idx="2"/>
            </p:cNvCxnSpPr>
            <p:nvPr/>
          </p:nvCxnSpPr>
          <p:spPr>
            <a:xfrm>
              <a:off x="253332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7" name=""/>
            <p:cNvSpPr/>
            <p:nvPr/>
          </p:nvSpPr>
          <p:spPr>
            <a:xfrm>
              <a:off x="4835160" y="38541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31792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835160" y="34254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31792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1" name=""/>
            <p:cNvCxnSpPr>
              <a:stCxn id="1459" idx="6"/>
              <a:endCxn id="1460" idx="2"/>
            </p:cNvCxnSpPr>
            <p:nvPr/>
          </p:nvCxnSpPr>
          <p:spPr>
            <a:xfrm>
              <a:off x="494316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2" name=""/>
            <p:cNvCxnSpPr>
              <a:stCxn id="1459" idx="4"/>
              <a:endCxn id="1457" idx="0"/>
            </p:cNvCxnSpPr>
            <p:nvPr/>
          </p:nvCxnSpPr>
          <p:spPr>
            <a:xfrm>
              <a:off x="488880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3" name=""/>
            <p:cNvCxnSpPr>
              <a:stCxn id="1457" idx="6"/>
              <a:endCxn id="1458" idx="2"/>
            </p:cNvCxnSpPr>
            <p:nvPr/>
          </p:nvCxnSpPr>
          <p:spPr>
            <a:xfrm>
              <a:off x="494316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4" name=""/>
            <p:cNvCxnSpPr>
              <a:stCxn id="1460" idx="4"/>
              <a:endCxn id="1458" idx="0"/>
            </p:cNvCxnSpPr>
            <p:nvPr/>
          </p:nvCxnSpPr>
          <p:spPr>
            <a:xfrm>
              <a:off x="536976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65" name=""/>
            <p:cNvSpPr/>
            <p:nvPr/>
          </p:nvSpPr>
          <p:spPr>
            <a:xfrm>
              <a:off x="3871800" y="3854160"/>
              <a:ext cx="107280" cy="95400"/>
            </a:xfrm>
            <a:prstGeom prst="ellipse">
              <a:avLst/>
            </a:prstGeom>
            <a:solidFill>
              <a:srgbClr val="ff0000">
                <a:alpha val="99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354200" y="38541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871800" y="342540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354200" y="34254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9" name=""/>
            <p:cNvCxnSpPr>
              <a:stCxn id="1467" idx="6"/>
              <a:endCxn id="1468" idx="2"/>
            </p:cNvCxnSpPr>
            <p:nvPr/>
          </p:nvCxnSpPr>
          <p:spPr>
            <a:xfrm>
              <a:off x="397944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0" name=""/>
            <p:cNvCxnSpPr>
              <a:stCxn id="1467" idx="4"/>
              <a:endCxn id="1465" idx="0"/>
            </p:cNvCxnSpPr>
            <p:nvPr/>
          </p:nvCxnSpPr>
          <p:spPr>
            <a:xfrm>
              <a:off x="392508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1" name=""/>
            <p:cNvCxnSpPr>
              <a:stCxn id="1465" idx="6"/>
              <a:endCxn id="1466" idx="2"/>
            </p:cNvCxnSpPr>
            <p:nvPr/>
          </p:nvCxnSpPr>
          <p:spPr>
            <a:xfrm>
              <a:off x="397944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2" name=""/>
            <p:cNvCxnSpPr>
              <a:stCxn id="1468" idx="4"/>
              <a:endCxn id="1466" idx="0"/>
            </p:cNvCxnSpPr>
            <p:nvPr/>
          </p:nvCxnSpPr>
          <p:spPr>
            <a:xfrm>
              <a:off x="440640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3" name=""/>
            <p:cNvCxnSpPr>
              <a:stCxn id="1468" idx="6"/>
              <a:endCxn id="1459" idx="2"/>
            </p:cNvCxnSpPr>
            <p:nvPr/>
          </p:nvCxnSpPr>
          <p:spPr>
            <a:xfrm>
              <a:off x="4460400" y="34729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4" name=""/>
            <p:cNvCxnSpPr>
              <a:stCxn id="1466" idx="6"/>
              <a:endCxn id="1457" idx="2"/>
            </p:cNvCxnSpPr>
            <p:nvPr/>
          </p:nvCxnSpPr>
          <p:spPr>
            <a:xfrm>
              <a:off x="4460400" y="39013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5" name=""/>
            <p:cNvCxnSpPr>
              <a:stCxn id="1443" idx="6"/>
              <a:endCxn id="1467" idx="2"/>
            </p:cNvCxnSpPr>
            <p:nvPr/>
          </p:nvCxnSpPr>
          <p:spPr>
            <a:xfrm>
              <a:off x="349704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6" name=""/>
            <p:cNvCxnSpPr>
              <a:stCxn id="1441" idx="6"/>
              <a:endCxn id="1465" idx="2"/>
            </p:cNvCxnSpPr>
            <p:nvPr/>
          </p:nvCxnSpPr>
          <p:spPr>
            <a:xfrm>
              <a:off x="349704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77" name=""/>
            <p:cNvSpPr/>
            <p:nvPr/>
          </p:nvSpPr>
          <p:spPr>
            <a:xfrm>
              <a:off x="585288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33840" y="38541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85288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33840" y="34254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1" name=""/>
            <p:cNvCxnSpPr>
              <a:stCxn id="1479" idx="6"/>
              <a:endCxn id="1480" idx="2"/>
            </p:cNvCxnSpPr>
            <p:nvPr/>
          </p:nvCxnSpPr>
          <p:spPr>
            <a:xfrm>
              <a:off x="595908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2" name=""/>
            <p:cNvCxnSpPr>
              <a:stCxn id="1479" idx="4"/>
              <a:endCxn id="1477" idx="0"/>
            </p:cNvCxnSpPr>
            <p:nvPr/>
          </p:nvCxnSpPr>
          <p:spPr>
            <a:xfrm>
              <a:off x="590652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3" name=""/>
            <p:cNvCxnSpPr>
              <a:stCxn id="1477" idx="6"/>
              <a:endCxn id="1478" idx="2"/>
            </p:cNvCxnSpPr>
            <p:nvPr/>
          </p:nvCxnSpPr>
          <p:spPr>
            <a:xfrm>
              <a:off x="595908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4" name=""/>
            <p:cNvCxnSpPr>
              <a:stCxn id="1480" idx="4"/>
              <a:endCxn id="1478" idx="0"/>
            </p:cNvCxnSpPr>
            <p:nvPr/>
          </p:nvCxnSpPr>
          <p:spPr>
            <a:xfrm>
              <a:off x="638748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5" name=""/>
            <p:cNvCxnSpPr>
              <a:stCxn id="1460" idx="6"/>
              <a:endCxn id="1479" idx="2"/>
            </p:cNvCxnSpPr>
            <p:nvPr/>
          </p:nvCxnSpPr>
          <p:spPr>
            <a:xfrm>
              <a:off x="5424120" y="34729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6" name=""/>
            <p:cNvCxnSpPr>
              <a:stCxn id="1458" idx="6"/>
              <a:endCxn id="1477" idx="2"/>
            </p:cNvCxnSpPr>
            <p:nvPr/>
          </p:nvCxnSpPr>
          <p:spPr>
            <a:xfrm>
              <a:off x="5424120" y="39013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7" name=""/>
            <p:cNvCxnSpPr>
              <a:stCxn id="1449" idx="4"/>
              <a:endCxn id="1418" idx="0"/>
            </p:cNvCxnSpPr>
            <p:nvPr/>
          </p:nvCxnSpPr>
          <p:spPr>
            <a:xfrm>
              <a:off x="247896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8" name=""/>
            <p:cNvCxnSpPr>
              <a:stCxn id="1440" idx="4"/>
              <a:endCxn id="1412" idx="0"/>
            </p:cNvCxnSpPr>
            <p:nvPr/>
          </p:nvCxnSpPr>
          <p:spPr>
            <a:xfrm>
              <a:off x="296172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9" name=""/>
            <p:cNvCxnSpPr>
              <a:stCxn id="1441" idx="4"/>
              <a:endCxn id="1413" idx="0"/>
            </p:cNvCxnSpPr>
            <p:nvPr/>
          </p:nvCxnSpPr>
          <p:spPr>
            <a:xfrm>
              <a:off x="344268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0" name=""/>
            <p:cNvCxnSpPr>
              <a:stCxn id="1465" idx="4"/>
              <a:endCxn id="1427" idx="0"/>
            </p:cNvCxnSpPr>
            <p:nvPr/>
          </p:nvCxnSpPr>
          <p:spPr>
            <a:xfrm>
              <a:off x="392508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1" name=""/>
            <p:cNvCxnSpPr>
              <a:stCxn id="1466" idx="4"/>
              <a:endCxn id="1428" idx="0"/>
            </p:cNvCxnSpPr>
            <p:nvPr/>
          </p:nvCxnSpPr>
          <p:spPr>
            <a:xfrm>
              <a:off x="440640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2" name=""/>
            <p:cNvCxnSpPr>
              <a:stCxn id="1457" idx="4"/>
              <a:endCxn id="1422" idx="0"/>
            </p:cNvCxnSpPr>
            <p:nvPr/>
          </p:nvCxnSpPr>
          <p:spPr>
            <a:xfrm>
              <a:off x="488880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3" name=""/>
            <p:cNvCxnSpPr>
              <a:stCxn id="1458" idx="4"/>
              <a:endCxn id="1423" idx="0"/>
            </p:cNvCxnSpPr>
            <p:nvPr/>
          </p:nvCxnSpPr>
          <p:spPr>
            <a:xfrm>
              <a:off x="536976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4" name=""/>
            <p:cNvCxnSpPr>
              <a:stCxn id="1477" idx="4"/>
              <a:endCxn id="1434" idx="0"/>
            </p:cNvCxnSpPr>
            <p:nvPr/>
          </p:nvCxnSpPr>
          <p:spPr>
            <a:xfrm>
              <a:off x="590652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5" name=""/>
            <p:cNvCxnSpPr>
              <a:stCxn id="1478" idx="4"/>
              <a:endCxn id="1435" idx="0"/>
            </p:cNvCxnSpPr>
            <p:nvPr/>
          </p:nvCxnSpPr>
          <p:spPr>
            <a:xfrm>
              <a:off x="638748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96" name=""/>
            <p:cNvSpPr/>
            <p:nvPr/>
          </p:nvSpPr>
          <p:spPr>
            <a:xfrm>
              <a:off x="290808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390480" y="29952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90808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390480" y="2565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0" name=""/>
            <p:cNvCxnSpPr>
              <a:stCxn id="1498" idx="6"/>
              <a:endCxn id="1499" idx="2"/>
            </p:cNvCxnSpPr>
            <p:nvPr/>
          </p:nvCxnSpPr>
          <p:spPr>
            <a:xfrm>
              <a:off x="3014280" y="2612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1" name=""/>
            <p:cNvCxnSpPr>
              <a:stCxn id="1498" idx="4"/>
              <a:endCxn id="1496" idx="0"/>
            </p:cNvCxnSpPr>
            <p:nvPr/>
          </p:nvCxnSpPr>
          <p:spPr>
            <a:xfrm>
              <a:off x="296172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2" name=""/>
            <p:cNvCxnSpPr>
              <a:stCxn id="1496" idx="6"/>
              <a:endCxn id="1497" idx="2"/>
            </p:cNvCxnSpPr>
            <p:nvPr/>
          </p:nvCxnSpPr>
          <p:spPr>
            <a:xfrm>
              <a:off x="3014280" y="30427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3" name=""/>
            <p:cNvCxnSpPr>
              <a:stCxn id="1499" idx="4"/>
              <a:endCxn id="1497" idx="0"/>
            </p:cNvCxnSpPr>
            <p:nvPr/>
          </p:nvCxnSpPr>
          <p:spPr>
            <a:xfrm>
              <a:off x="344268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04" name=""/>
            <p:cNvSpPr/>
            <p:nvPr/>
          </p:nvSpPr>
          <p:spPr>
            <a:xfrm>
              <a:off x="1944720" y="29952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42712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944720" y="2565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42712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8" name=""/>
            <p:cNvCxnSpPr>
              <a:stCxn id="1506" idx="6"/>
              <a:endCxn id="1507" idx="2"/>
            </p:cNvCxnSpPr>
            <p:nvPr/>
          </p:nvCxnSpPr>
          <p:spPr>
            <a:xfrm>
              <a:off x="2050920" y="2612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9" name=""/>
            <p:cNvCxnSpPr>
              <a:stCxn id="1504" idx="6"/>
              <a:endCxn id="1505" idx="2"/>
            </p:cNvCxnSpPr>
            <p:nvPr/>
          </p:nvCxnSpPr>
          <p:spPr>
            <a:xfrm>
              <a:off x="2050920" y="30427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0" name=""/>
            <p:cNvCxnSpPr>
              <a:stCxn id="1507" idx="4"/>
              <a:endCxn id="1505" idx="0"/>
            </p:cNvCxnSpPr>
            <p:nvPr/>
          </p:nvCxnSpPr>
          <p:spPr>
            <a:xfrm>
              <a:off x="247896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1" name=""/>
            <p:cNvCxnSpPr>
              <a:stCxn id="1507" idx="6"/>
              <a:endCxn id="1498" idx="2"/>
            </p:cNvCxnSpPr>
            <p:nvPr/>
          </p:nvCxnSpPr>
          <p:spPr>
            <a:xfrm>
              <a:off x="253332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2" name=""/>
            <p:cNvCxnSpPr>
              <a:stCxn id="1505" idx="6"/>
              <a:endCxn id="1496" idx="2"/>
            </p:cNvCxnSpPr>
            <p:nvPr/>
          </p:nvCxnSpPr>
          <p:spPr>
            <a:xfrm>
              <a:off x="253332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13" name=""/>
            <p:cNvSpPr/>
            <p:nvPr/>
          </p:nvSpPr>
          <p:spPr>
            <a:xfrm>
              <a:off x="4835160" y="29952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31792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835160" y="2565000"/>
              <a:ext cx="107640" cy="954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31792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7" name=""/>
            <p:cNvCxnSpPr>
              <a:stCxn id="1515" idx="6"/>
              <a:endCxn id="1516" idx="2"/>
            </p:cNvCxnSpPr>
            <p:nvPr/>
          </p:nvCxnSpPr>
          <p:spPr>
            <a:xfrm>
              <a:off x="494316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8" name=""/>
            <p:cNvCxnSpPr>
              <a:stCxn id="1515" idx="4"/>
              <a:endCxn id="1513" idx="0"/>
            </p:cNvCxnSpPr>
            <p:nvPr/>
          </p:nvCxnSpPr>
          <p:spPr>
            <a:xfrm>
              <a:off x="488880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9" name=""/>
            <p:cNvCxnSpPr>
              <a:stCxn id="1513" idx="6"/>
              <a:endCxn id="1514" idx="2"/>
            </p:cNvCxnSpPr>
            <p:nvPr/>
          </p:nvCxnSpPr>
          <p:spPr>
            <a:xfrm>
              <a:off x="494316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0" name=""/>
            <p:cNvCxnSpPr>
              <a:stCxn id="1516" idx="4"/>
              <a:endCxn id="1514" idx="0"/>
            </p:cNvCxnSpPr>
            <p:nvPr/>
          </p:nvCxnSpPr>
          <p:spPr>
            <a:xfrm>
              <a:off x="536976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21" name=""/>
            <p:cNvSpPr/>
            <p:nvPr/>
          </p:nvSpPr>
          <p:spPr>
            <a:xfrm>
              <a:off x="3871800" y="299520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354200" y="29952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871800" y="256500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354200" y="2565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5" name=""/>
            <p:cNvCxnSpPr>
              <a:stCxn id="1523" idx="6"/>
              <a:endCxn id="1524" idx="2"/>
            </p:cNvCxnSpPr>
            <p:nvPr/>
          </p:nvCxnSpPr>
          <p:spPr>
            <a:xfrm>
              <a:off x="397944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6" name=""/>
            <p:cNvCxnSpPr>
              <a:stCxn id="1523" idx="4"/>
              <a:endCxn id="1521" idx="0"/>
            </p:cNvCxnSpPr>
            <p:nvPr/>
          </p:nvCxnSpPr>
          <p:spPr>
            <a:xfrm>
              <a:off x="392508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7" name=""/>
            <p:cNvCxnSpPr>
              <a:stCxn id="1521" idx="6"/>
              <a:endCxn id="1522" idx="2"/>
            </p:cNvCxnSpPr>
            <p:nvPr/>
          </p:nvCxnSpPr>
          <p:spPr>
            <a:xfrm>
              <a:off x="397944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8" name=""/>
            <p:cNvCxnSpPr>
              <a:stCxn id="1524" idx="4"/>
              <a:endCxn id="1522" idx="0"/>
            </p:cNvCxnSpPr>
            <p:nvPr/>
          </p:nvCxnSpPr>
          <p:spPr>
            <a:xfrm>
              <a:off x="440640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9" name=""/>
            <p:cNvCxnSpPr>
              <a:stCxn id="1524" idx="6"/>
              <a:endCxn id="1515" idx="2"/>
            </p:cNvCxnSpPr>
            <p:nvPr/>
          </p:nvCxnSpPr>
          <p:spPr>
            <a:xfrm>
              <a:off x="4460400" y="26125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0" name=""/>
            <p:cNvCxnSpPr>
              <a:stCxn id="1522" idx="6"/>
              <a:endCxn id="1513" idx="2"/>
            </p:cNvCxnSpPr>
            <p:nvPr/>
          </p:nvCxnSpPr>
          <p:spPr>
            <a:xfrm>
              <a:off x="4460400" y="30427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1" name=""/>
            <p:cNvCxnSpPr>
              <a:stCxn id="1499" idx="6"/>
              <a:endCxn id="1523" idx="2"/>
            </p:cNvCxnSpPr>
            <p:nvPr/>
          </p:nvCxnSpPr>
          <p:spPr>
            <a:xfrm>
              <a:off x="349704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2" name=""/>
            <p:cNvCxnSpPr>
              <a:stCxn id="1497" idx="6"/>
              <a:endCxn id="1521" idx="2"/>
            </p:cNvCxnSpPr>
            <p:nvPr/>
          </p:nvCxnSpPr>
          <p:spPr>
            <a:xfrm>
              <a:off x="349704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33" name=""/>
            <p:cNvSpPr/>
            <p:nvPr/>
          </p:nvSpPr>
          <p:spPr>
            <a:xfrm>
              <a:off x="585288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333840" y="29952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85288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333840" y="25650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7" name=""/>
            <p:cNvCxnSpPr>
              <a:stCxn id="1535" idx="6"/>
              <a:endCxn id="1536" idx="2"/>
            </p:cNvCxnSpPr>
            <p:nvPr/>
          </p:nvCxnSpPr>
          <p:spPr>
            <a:xfrm>
              <a:off x="595908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8" name=""/>
            <p:cNvCxnSpPr>
              <a:stCxn id="1535" idx="4"/>
              <a:endCxn id="1533" idx="0"/>
            </p:cNvCxnSpPr>
            <p:nvPr/>
          </p:nvCxnSpPr>
          <p:spPr>
            <a:xfrm>
              <a:off x="590652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9" name=""/>
            <p:cNvCxnSpPr>
              <a:stCxn id="1533" idx="6"/>
              <a:endCxn id="1534" idx="2"/>
            </p:cNvCxnSpPr>
            <p:nvPr/>
          </p:nvCxnSpPr>
          <p:spPr>
            <a:xfrm>
              <a:off x="595908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0" name=""/>
            <p:cNvCxnSpPr>
              <a:stCxn id="1536" idx="4"/>
              <a:endCxn id="1534" idx="0"/>
            </p:cNvCxnSpPr>
            <p:nvPr/>
          </p:nvCxnSpPr>
          <p:spPr>
            <a:xfrm>
              <a:off x="638748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1" name=""/>
            <p:cNvCxnSpPr>
              <a:stCxn id="1516" idx="6"/>
              <a:endCxn id="1535" idx="2"/>
            </p:cNvCxnSpPr>
            <p:nvPr/>
          </p:nvCxnSpPr>
          <p:spPr>
            <a:xfrm>
              <a:off x="5424120" y="26125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2" name=""/>
            <p:cNvCxnSpPr>
              <a:stCxn id="1514" idx="6"/>
              <a:endCxn id="1533" idx="2"/>
            </p:cNvCxnSpPr>
            <p:nvPr/>
          </p:nvCxnSpPr>
          <p:spPr>
            <a:xfrm>
              <a:off x="5424120" y="30427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43" name=""/>
            <p:cNvSpPr/>
            <p:nvPr/>
          </p:nvSpPr>
          <p:spPr>
            <a:xfrm>
              <a:off x="290808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390480" y="21366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90808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390480" y="17064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7" name=""/>
            <p:cNvCxnSpPr>
              <a:stCxn id="1545" idx="6"/>
              <a:endCxn id="1546" idx="2"/>
            </p:cNvCxnSpPr>
            <p:nvPr/>
          </p:nvCxnSpPr>
          <p:spPr>
            <a:xfrm>
              <a:off x="3014280" y="1753560"/>
              <a:ext cx="37656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48" name=""/>
            <p:cNvCxnSpPr>
              <a:stCxn id="1545" idx="4"/>
              <a:endCxn id="1543" idx="0"/>
            </p:cNvCxnSpPr>
            <p:nvPr/>
          </p:nvCxnSpPr>
          <p:spPr>
            <a:xfrm>
              <a:off x="296172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9" name=""/>
            <p:cNvCxnSpPr>
              <a:stCxn id="1543" idx="6"/>
              <a:endCxn id="1544" idx="2"/>
            </p:cNvCxnSpPr>
            <p:nvPr/>
          </p:nvCxnSpPr>
          <p:spPr>
            <a:xfrm>
              <a:off x="3014280" y="218376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0" name=""/>
            <p:cNvCxnSpPr>
              <a:stCxn id="1546" idx="4"/>
              <a:endCxn id="1544" idx="0"/>
            </p:cNvCxnSpPr>
            <p:nvPr/>
          </p:nvCxnSpPr>
          <p:spPr>
            <a:xfrm>
              <a:off x="344268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51" name=""/>
            <p:cNvSpPr/>
            <p:nvPr/>
          </p:nvSpPr>
          <p:spPr>
            <a:xfrm>
              <a:off x="1944720" y="21366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42712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944720" y="17064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42712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5" name=""/>
            <p:cNvCxnSpPr>
              <a:stCxn id="1553" idx="6"/>
              <a:endCxn id="1554" idx="2"/>
            </p:cNvCxnSpPr>
            <p:nvPr/>
          </p:nvCxnSpPr>
          <p:spPr>
            <a:xfrm>
              <a:off x="2050920" y="175356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6" name=""/>
            <p:cNvCxnSpPr>
              <a:stCxn id="1551" idx="6"/>
              <a:endCxn id="1552" idx="2"/>
            </p:cNvCxnSpPr>
            <p:nvPr/>
          </p:nvCxnSpPr>
          <p:spPr>
            <a:xfrm>
              <a:off x="2050920" y="218376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7" name=""/>
            <p:cNvCxnSpPr>
              <a:stCxn id="1554" idx="4"/>
              <a:endCxn id="1552" idx="0"/>
            </p:cNvCxnSpPr>
            <p:nvPr/>
          </p:nvCxnSpPr>
          <p:spPr>
            <a:xfrm>
              <a:off x="247896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8" name=""/>
            <p:cNvCxnSpPr>
              <a:stCxn id="1554" idx="6"/>
              <a:endCxn id="1545" idx="2"/>
            </p:cNvCxnSpPr>
            <p:nvPr/>
          </p:nvCxnSpPr>
          <p:spPr>
            <a:xfrm>
              <a:off x="253332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59" name=""/>
            <p:cNvCxnSpPr>
              <a:stCxn id="1552" idx="6"/>
              <a:endCxn id="1543" idx="2"/>
            </p:cNvCxnSpPr>
            <p:nvPr/>
          </p:nvCxnSpPr>
          <p:spPr>
            <a:xfrm>
              <a:off x="253332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60" name=""/>
            <p:cNvSpPr/>
            <p:nvPr/>
          </p:nvSpPr>
          <p:spPr>
            <a:xfrm>
              <a:off x="4835160" y="21366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31792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835160" y="17064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31792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64" name=""/>
            <p:cNvCxnSpPr>
              <a:stCxn id="1562" idx="6"/>
              <a:endCxn id="1563" idx="2"/>
            </p:cNvCxnSpPr>
            <p:nvPr/>
          </p:nvCxnSpPr>
          <p:spPr>
            <a:xfrm>
              <a:off x="494316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65" name=""/>
            <p:cNvCxnSpPr>
              <a:stCxn id="1562" idx="4"/>
              <a:endCxn id="1560" idx="0"/>
            </p:cNvCxnSpPr>
            <p:nvPr/>
          </p:nvCxnSpPr>
          <p:spPr>
            <a:xfrm>
              <a:off x="488880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6" name=""/>
            <p:cNvCxnSpPr>
              <a:stCxn id="1560" idx="6"/>
              <a:endCxn id="1561" idx="2"/>
            </p:cNvCxnSpPr>
            <p:nvPr/>
          </p:nvCxnSpPr>
          <p:spPr>
            <a:xfrm>
              <a:off x="494316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7" name=""/>
            <p:cNvCxnSpPr>
              <a:stCxn id="1563" idx="4"/>
              <a:endCxn id="1561" idx="0"/>
            </p:cNvCxnSpPr>
            <p:nvPr/>
          </p:nvCxnSpPr>
          <p:spPr>
            <a:xfrm>
              <a:off x="536976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68" name=""/>
            <p:cNvSpPr/>
            <p:nvPr/>
          </p:nvSpPr>
          <p:spPr>
            <a:xfrm>
              <a:off x="3871800" y="2136600"/>
              <a:ext cx="10728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354200" y="21366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871800" y="1706400"/>
              <a:ext cx="10728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354200" y="17064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2" name=""/>
            <p:cNvCxnSpPr>
              <a:stCxn id="1570" idx="6"/>
              <a:endCxn id="1571" idx="2"/>
            </p:cNvCxnSpPr>
            <p:nvPr/>
          </p:nvCxnSpPr>
          <p:spPr>
            <a:xfrm>
              <a:off x="397944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73" name=""/>
            <p:cNvCxnSpPr>
              <a:stCxn id="1570" idx="4"/>
              <a:endCxn id="1568" idx="0"/>
            </p:cNvCxnSpPr>
            <p:nvPr/>
          </p:nvCxnSpPr>
          <p:spPr>
            <a:xfrm>
              <a:off x="392508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4" name=""/>
            <p:cNvCxnSpPr>
              <a:stCxn id="1568" idx="6"/>
              <a:endCxn id="1569" idx="2"/>
            </p:cNvCxnSpPr>
            <p:nvPr/>
          </p:nvCxnSpPr>
          <p:spPr>
            <a:xfrm>
              <a:off x="397944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5" name=""/>
            <p:cNvCxnSpPr>
              <a:stCxn id="1571" idx="4"/>
              <a:endCxn id="1569" idx="0"/>
            </p:cNvCxnSpPr>
            <p:nvPr/>
          </p:nvCxnSpPr>
          <p:spPr>
            <a:xfrm>
              <a:off x="440784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6" name=""/>
            <p:cNvCxnSpPr>
              <a:stCxn id="1571" idx="6"/>
              <a:endCxn id="1562" idx="2"/>
            </p:cNvCxnSpPr>
            <p:nvPr/>
          </p:nvCxnSpPr>
          <p:spPr>
            <a:xfrm>
              <a:off x="4460400" y="1753560"/>
              <a:ext cx="37476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77" name=""/>
            <p:cNvCxnSpPr>
              <a:stCxn id="1569" idx="6"/>
              <a:endCxn id="1560" idx="2"/>
            </p:cNvCxnSpPr>
            <p:nvPr/>
          </p:nvCxnSpPr>
          <p:spPr>
            <a:xfrm>
              <a:off x="4460400" y="218376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8" name=""/>
            <p:cNvCxnSpPr>
              <a:stCxn id="1546" idx="6"/>
              <a:endCxn id="1570" idx="2"/>
            </p:cNvCxnSpPr>
            <p:nvPr/>
          </p:nvCxnSpPr>
          <p:spPr>
            <a:xfrm>
              <a:off x="349704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79" name=""/>
            <p:cNvCxnSpPr>
              <a:stCxn id="1544" idx="6"/>
              <a:endCxn id="1568" idx="2"/>
            </p:cNvCxnSpPr>
            <p:nvPr/>
          </p:nvCxnSpPr>
          <p:spPr>
            <a:xfrm>
              <a:off x="349704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80" name=""/>
            <p:cNvSpPr/>
            <p:nvPr/>
          </p:nvSpPr>
          <p:spPr>
            <a:xfrm>
              <a:off x="585288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333840" y="21366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85288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333840" y="17064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4" name=""/>
            <p:cNvCxnSpPr>
              <a:stCxn id="1582" idx="6"/>
              <a:endCxn id="1583" idx="2"/>
            </p:cNvCxnSpPr>
            <p:nvPr/>
          </p:nvCxnSpPr>
          <p:spPr>
            <a:xfrm>
              <a:off x="5959080" y="17535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5" name=""/>
            <p:cNvCxnSpPr>
              <a:stCxn id="1582" idx="4"/>
              <a:endCxn id="1580" idx="0"/>
            </p:cNvCxnSpPr>
            <p:nvPr/>
          </p:nvCxnSpPr>
          <p:spPr>
            <a:xfrm>
              <a:off x="590652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6" name=""/>
            <p:cNvCxnSpPr>
              <a:stCxn id="1580" idx="6"/>
              <a:endCxn id="1581" idx="2"/>
            </p:cNvCxnSpPr>
            <p:nvPr/>
          </p:nvCxnSpPr>
          <p:spPr>
            <a:xfrm>
              <a:off x="595908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7" name=""/>
            <p:cNvCxnSpPr>
              <a:stCxn id="1583" idx="4"/>
              <a:endCxn id="1581" idx="0"/>
            </p:cNvCxnSpPr>
            <p:nvPr/>
          </p:nvCxnSpPr>
          <p:spPr>
            <a:xfrm>
              <a:off x="638748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8" name=""/>
            <p:cNvCxnSpPr>
              <a:stCxn id="1563" idx="6"/>
              <a:endCxn id="1582" idx="2"/>
            </p:cNvCxnSpPr>
            <p:nvPr/>
          </p:nvCxnSpPr>
          <p:spPr>
            <a:xfrm>
              <a:off x="5424120" y="1753560"/>
              <a:ext cx="429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89" name=""/>
            <p:cNvCxnSpPr>
              <a:stCxn id="1561" idx="6"/>
              <a:endCxn id="1580" idx="2"/>
            </p:cNvCxnSpPr>
            <p:nvPr/>
          </p:nvCxnSpPr>
          <p:spPr>
            <a:xfrm>
              <a:off x="5424120" y="218376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0" name=""/>
            <p:cNvCxnSpPr>
              <a:stCxn id="1552" idx="4"/>
              <a:endCxn id="1507" idx="0"/>
            </p:cNvCxnSpPr>
            <p:nvPr/>
          </p:nvCxnSpPr>
          <p:spPr>
            <a:xfrm>
              <a:off x="247896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1" name=""/>
            <p:cNvCxnSpPr>
              <a:stCxn id="1543" idx="4"/>
              <a:endCxn id="1498" idx="0"/>
            </p:cNvCxnSpPr>
            <p:nvPr/>
          </p:nvCxnSpPr>
          <p:spPr>
            <a:xfrm>
              <a:off x="296172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2" name=""/>
            <p:cNvCxnSpPr>
              <a:stCxn id="1544" idx="4"/>
              <a:endCxn id="1499" idx="0"/>
            </p:cNvCxnSpPr>
            <p:nvPr/>
          </p:nvCxnSpPr>
          <p:spPr>
            <a:xfrm>
              <a:off x="344268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3" name=""/>
            <p:cNvCxnSpPr>
              <a:stCxn id="1568" idx="4"/>
              <a:endCxn id="1523" idx="0"/>
            </p:cNvCxnSpPr>
            <p:nvPr/>
          </p:nvCxnSpPr>
          <p:spPr>
            <a:xfrm>
              <a:off x="392508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4" name=""/>
            <p:cNvCxnSpPr>
              <a:stCxn id="1569" idx="4"/>
              <a:endCxn id="1524" idx="0"/>
            </p:cNvCxnSpPr>
            <p:nvPr/>
          </p:nvCxnSpPr>
          <p:spPr>
            <a:xfrm>
              <a:off x="440640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5" name=""/>
            <p:cNvCxnSpPr>
              <a:stCxn id="1560" idx="4"/>
              <a:endCxn id="1515" idx="0"/>
            </p:cNvCxnSpPr>
            <p:nvPr/>
          </p:nvCxnSpPr>
          <p:spPr>
            <a:xfrm>
              <a:off x="488880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6" name=""/>
            <p:cNvCxnSpPr>
              <a:stCxn id="1561" idx="4"/>
              <a:endCxn id="1516" idx="0"/>
            </p:cNvCxnSpPr>
            <p:nvPr/>
          </p:nvCxnSpPr>
          <p:spPr>
            <a:xfrm>
              <a:off x="536976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7" name=""/>
            <p:cNvCxnSpPr>
              <a:stCxn id="1580" idx="4"/>
              <a:endCxn id="1535" idx="0"/>
            </p:cNvCxnSpPr>
            <p:nvPr/>
          </p:nvCxnSpPr>
          <p:spPr>
            <a:xfrm>
              <a:off x="590652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8" name=""/>
            <p:cNvCxnSpPr>
              <a:stCxn id="1581" idx="4"/>
              <a:endCxn id="1536" idx="0"/>
            </p:cNvCxnSpPr>
            <p:nvPr/>
          </p:nvCxnSpPr>
          <p:spPr>
            <a:xfrm>
              <a:off x="638748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9" name=""/>
            <p:cNvCxnSpPr>
              <a:stCxn id="1505" idx="4"/>
              <a:endCxn id="1451" idx="0"/>
            </p:cNvCxnSpPr>
            <p:nvPr/>
          </p:nvCxnSpPr>
          <p:spPr>
            <a:xfrm>
              <a:off x="247896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0" name=""/>
            <p:cNvCxnSpPr>
              <a:stCxn id="1496" idx="4"/>
              <a:endCxn id="1442" idx="0"/>
            </p:cNvCxnSpPr>
            <p:nvPr/>
          </p:nvCxnSpPr>
          <p:spPr>
            <a:xfrm>
              <a:off x="296172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1" name=""/>
            <p:cNvCxnSpPr>
              <a:stCxn id="1497" idx="4"/>
              <a:endCxn id="1443" idx="0"/>
            </p:cNvCxnSpPr>
            <p:nvPr/>
          </p:nvCxnSpPr>
          <p:spPr>
            <a:xfrm>
              <a:off x="344268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2" name=""/>
            <p:cNvCxnSpPr>
              <a:stCxn id="1521" idx="4"/>
              <a:endCxn id="1467" idx="0"/>
            </p:cNvCxnSpPr>
            <p:nvPr/>
          </p:nvCxnSpPr>
          <p:spPr>
            <a:xfrm>
              <a:off x="392508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3" name=""/>
            <p:cNvCxnSpPr>
              <a:stCxn id="1522" idx="4"/>
              <a:endCxn id="1468" idx="0"/>
            </p:cNvCxnSpPr>
            <p:nvPr/>
          </p:nvCxnSpPr>
          <p:spPr>
            <a:xfrm>
              <a:off x="440640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4" name=""/>
            <p:cNvCxnSpPr>
              <a:stCxn id="1513" idx="4"/>
              <a:endCxn id="1459" idx="0"/>
            </p:cNvCxnSpPr>
            <p:nvPr/>
          </p:nvCxnSpPr>
          <p:spPr>
            <a:xfrm>
              <a:off x="488880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5" name=""/>
            <p:cNvCxnSpPr>
              <a:stCxn id="1514" idx="4"/>
              <a:endCxn id="1460" idx="0"/>
            </p:cNvCxnSpPr>
            <p:nvPr/>
          </p:nvCxnSpPr>
          <p:spPr>
            <a:xfrm>
              <a:off x="536976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6" name=""/>
            <p:cNvCxnSpPr>
              <a:stCxn id="1533" idx="4"/>
              <a:endCxn id="1479" idx="0"/>
            </p:cNvCxnSpPr>
            <p:nvPr/>
          </p:nvCxnSpPr>
          <p:spPr>
            <a:xfrm>
              <a:off x="590652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7" name=""/>
            <p:cNvCxnSpPr>
              <a:stCxn id="1534" idx="4"/>
              <a:endCxn id="1480" idx="0"/>
            </p:cNvCxnSpPr>
            <p:nvPr/>
          </p:nvCxnSpPr>
          <p:spPr>
            <a:xfrm>
              <a:off x="638748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08" name=""/>
            <p:cNvSpPr/>
            <p:nvPr/>
          </p:nvSpPr>
          <p:spPr>
            <a:xfrm>
              <a:off x="291132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393720" y="55735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0" name=""/>
            <p:cNvCxnSpPr>
              <a:stCxn id="1608" idx="6"/>
              <a:endCxn id="1609" idx="2"/>
            </p:cNvCxnSpPr>
            <p:nvPr/>
          </p:nvCxnSpPr>
          <p:spPr>
            <a:xfrm>
              <a:off x="3018960" y="56206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1" name=""/>
            <p:cNvSpPr/>
            <p:nvPr/>
          </p:nvSpPr>
          <p:spPr>
            <a:xfrm>
              <a:off x="194760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43036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3" name=""/>
            <p:cNvCxnSpPr>
              <a:stCxn id="1611" idx="6"/>
              <a:endCxn id="1612" idx="2"/>
            </p:cNvCxnSpPr>
            <p:nvPr/>
          </p:nvCxnSpPr>
          <p:spPr>
            <a:xfrm>
              <a:off x="205560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4" name=""/>
            <p:cNvCxnSpPr>
              <a:stCxn id="1612" idx="6"/>
              <a:endCxn id="1608" idx="2"/>
            </p:cNvCxnSpPr>
            <p:nvPr/>
          </p:nvCxnSpPr>
          <p:spPr>
            <a:xfrm>
              <a:off x="253656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5" name=""/>
            <p:cNvSpPr/>
            <p:nvPr/>
          </p:nvSpPr>
          <p:spPr>
            <a:xfrm>
              <a:off x="483840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32116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7" name=""/>
            <p:cNvCxnSpPr>
              <a:stCxn id="1615" idx="6"/>
              <a:endCxn id="1616" idx="2"/>
            </p:cNvCxnSpPr>
            <p:nvPr/>
          </p:nvCxnSpPr>
          <p:spPr>
            <a:xfrm>
              <a:off x="494640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8" name=""/>
            <p:cNvSpPr/>
            <p:nvPr/>
          </p:nvSpPr>
          <p:spPr>
            <a:xfrm>
              <a:off x="387468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35744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0" name=""/>
            <p:cNvCxnSpPr>
              <a:stCxn id="1618" idx="6"/>
              <a:endCxn id="1619" idx="2"/>
            </p:cNvCxnSpPr>
            <p:nvPr/>
          </p:nvCxnSpPr>
          <p:spPr>
            <a:xfrm>
              <a:off x="398268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1" name=""/>
            <p:cNvCxnSpPr>
              <a:stCxn id="1619" idx="6"/>
              <a:endCxn id="1615" idx="2"/>
            </p:cNvCxnSpPr>
            <p:nvPr/>
          </p:nvCxnSpPr>
          <p:spPr>
            <a:xfrm>
              <a:off x="446364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2" name=""/>
            <p:cNvCxnSpPr>
              <a:stCxn id="1609" idx="6"/>
              <a:endCxn id="1618" idx="2"/>
            </p:cNvCxnSpPr>
            <p:nvPr/>
          </p:nvCxnSpPr>
          <p:spPr>
            <a:xfrm>
              <a:off x="3499920" y="56206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3" name=""/>
            <p:cNvSpPr/>
            <p:nvPr/>
          </p:nvSpPr>
          <p:spPr>
            <a:xfrm>
              <a:off x="585612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38520" y="55735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5" name=""/>
            <p:cNvCxnSpPr>
              <a:stCxn id="1623" idx="6"/>
              <a:endCxn id="1624" idx="2"/>
            </p:cNvCxnSpPr>
            <p:nvPr/>
          </p:nvCxnSpPr>
          <p:spPr>
            <a:xfrm>
              <a:off x="5962320" y="562068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6" name=""/>
            <p:cNvCxnSpPr>
              <a:stCxn id="1616" idx="6"/>
              <a:endCxn id="1623" idx="2"/>
            </p:cNvCxnSpPr>
            <p:nvPr/>
          </p:nvCxnSpPr>
          <p:spPr>
            <a:xfrm>
              <a:off x="5427360" y="562068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7" name=""/>
            <p:cNvSpPr/>
            <p:nvPr/>
          </p:nvSpPr>
          <p:spPr>
            <a:xfrm>
              <a:off x="291132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393720" y="51433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91132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393720" y="47145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1" name=""/>
            <p:cNvCxnSpPr>
              <a:stCxn id="1629" idx="6"/>
              <a:endCxn id="1630" idx="2"/>
            </p:cNvCxnSpPr>
            <p:nvPr/>
          </p:nvCxnSpPr>
          <p:spPr>
            <a:xfrm>
              <a:off x="3018960" y="47617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2" name=""/>
            <p:cNvCxnSpPr>
              <a:stCxn id="1629" idx="4"/>
              <a:endCxn id="1627" idx="0"/>
            </p:cNvCxnSpPr>
            <p:nvPr/>
          </p:nvCxnSpPr>
          <p:spPr>
            <a:xfrm>
              <a:off x="296496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3" name=""/>
            <p:cNvCxnSpPr>
              <a:stCxn id="1627" idx="6"/>
              <a:endCxn id="1628" idx="2"/>
            </p:cNvCxnSpPr>
            <p:nvPr/>
          </p:nvCxnSpPr>
          <p:spPr>
            <a:xfrm>
              <a:off x="3018960" y="51904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4" name=""/>
            <p:cNvCxnSpPr>
              <a:stCxn id="1630" idx="4"/>
              <a:endCxn id="1628" idx="0"/>
            </p:cNvCxnSpPr>
            <p:nvPr/>
          </p:nvCxnSpPr>
          <p:spPr>
            <a:xfrm>
              <a:off x="344592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35" name=""/>
            <p:cNvSpPr/>
            <p:nvPr/>
          </p:nvSpPr>
          <p:spPr>
            <a:xfrm>
              <a:off x="194760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43036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94760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43036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9" name=""/>
            <p:cNvCxnSpPr>
              <a:stCxn id="1637" idx="6"/>
              <a:endCxn id="1638" idx="2"/>
            </p:cNvCxnSpPr>
            <p:nvPr/>
          </p:nvCxnSpPr>
          <p:spPr>
            <a:xfrm>
              <a:off x="205560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0" name=""/>
            <p:cNvCxnSpPr>
              <a:stCxn id="1635" idx="6"/>
              <a:endCxn id="1636" idx="2"/>
            </p:cNvCxnSpPr>
            <p:nvPr/>
          </p:nvCxnSpPr>
          <p:spPr>
            <a:xfrm>
              <a:off x="205560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1" name=""/>
            <p:cNvCxnSpPr>
              <a:stCxn id="1638" idx="4"/>
              <a:endCxn id="1636" idx="0"/>
            </p:cNvCxnSpPr>
            <p:nvPr/>
          </p:nvCxnSpPr>
          <p:spPr>
            <a:xfrm>
              <a:off x="248220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2" name=""/>
            <p:cNvCxnSpPr>
              <a:stCxn id="1638" idx="6"/>
              <a:endCxn id="1629" idx="2"/>
            </p:cNvCxnSpPr>
            <p:nvPr/>
          </p:nvCxnSpPr>
          <p:spPr>
            <a:xfrm>
              <a:off x="253656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3" name=""/>
            <p:cNvCxnSpPr>
              <a:stCxn id="1636" idx="6"/>
              <a:endCxn id="1627" idx="2"/>
            </p:cNvCxnSpPr>
            <p:nvPr/>
          </p:nvCxnSpPr>
          <p:spPr>
            <a:xfrm>
              <a:off x="253656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44" name=""/>
            <p:cNvSpPr/>
            <p:nvPr/>
          </p:nvSpPr>
          <p:spPr>
            <a:xfrm>
              <a:off x="483840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32116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83840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32116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8" name=""/>
            <p:cNvCxnSpPr>
              <a:stCxn id="1646" idx="6"/>
              <a:endCxn id="1647" idx="2"/>
            </p:cNvCxnSpPr>
            <p:nvPr/>
          </p:nvCxnSpPr>
          <p:spPr>
            <a:xfrm>
              <a:off x="494640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9" name=""/>
            <p:cNvCxnSpPr>
              <a:stCxn id="1646" idx="4"/>
              <a:endCxn id="1644" idx="0"/>
            </p:cNvCxnSpPr>
            <p:nvPr/>
          </p:nvCxnSpPr>
          <p:spPr>
            <a:xfrm>
              <a:off x="489204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0" name=""/>
            <p:cNvCxnSpPr>
              <a:stCxn id="1644" idx="6"/>
              <a:endCxn id="1645" idx="2"/>
            </p:cNvCxnSpPr>
            <p:nvPr/>
          </p:nvCxnSpPr>
          <p:spPr>
            <a:xfrm>
              <a:off x="494640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1" name=""/>
            <p:cNvCxnSpPr>
              <a:stCxn id="1647" idx="4"/>
              <a:endCxn id="1645" idx="0"/>
            </p:cNvCxnSpPr>
            <p:nvPr/>
          </p:nvCxnSpPr>
          <p:spPr>
            <a:xfrm>
              <a:off x="537480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52" name=""/>
            <p:cNvSpPr/>
            <p:nvPr/>
          </p:nvSpPr>
          <p:spPr>
            <a:xfrm>
              <a:off x="387468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35744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87468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35744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6" name=""/>
            <p:cNvCxnSpPr>
              <a:stCxn id="1654" idx="6"/>
              <a:endCxn id="1655" idx="2"/>
            </p:cNvCxnSpPr>
            <p:nvPr/>
          </p:nvCxnSpPr>
          <p:spPr>
            <a:xfrm>
              <a:off x="398268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7" name=""/>
            <p:cNvCxnSpPr>
              <a:stCxn id="1654" idx="4"/>
              <a:endCxn id="1652" idx="0"/>
            </p:cNvCxnSpPr>
            <p:nvPr/>
          </p:nvCxnSpPr>
          <p:spPr>
            <a:xfrm>
              <a:off x="392832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8" name=""/>
            <p:cNvCxnSpPr>
              <a:stCxn id="1652" idx="6"/>
              <a:endCxn id="1653" idx="2"/>
            </p:cNvCxnSpPr>
            <p:nvPr/>
          </p:nvCxnSpPr>
          <p:spPr>
            <a:xfrm>
              <a:off x="398268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9" name=""/>
            <p:cNvCxnSpPr>
              <a:stCxn id="1655" idx="4"/>
              <a:endCxn id="1653" idx="0"/>
            </p:cNvCxnSpPr>
            <p:nvPr/>
          </p:nvCxnSpPr>
          <p:spPr>
            <a:xfrm>
              <a:off x="440928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0" name=""/>
            <p:cNvCxnSpPr>
              <a:stCxn id="1655" idx="6"/>
              <a:endCxn id="1646" idx="2"/>
            </p:cNvCxnSpPr>
            <p:nvPr/>
          </p:nvCxnSpPr>
          <p:spPr>
            <a:xfrm>
              <a:off x="446364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1" name=""/>
            <p:cNvCxnSpPr>
              <a:stCxn id="1653" idx="6"/>
              <a:endCxn id="1644" idx="2"/>
            </p:cNvCxnSpPr>
            <p:nvPr/>
          </p:nvCxnSpPr>
          <p:spPr>
            <a:xfrm>
              <a:off x="446364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2" name=""/>
            <p:cNvCxnSpPr>
              <a:stCxn id="1630" idx="6"/>
              <a:endCxn id="1654" idx="2"/>
            </p:cNvCxnSpPr>
            <p:nvPr/>
          </p:nvCxnSpPr>
          <p:spPr>
            <a:xfrm>
              <a:off x="3499920" y="47617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3" name=""/>
            <p:cNvCxnSpPr>
              <a:stCxn id="1628" idx="6"/>
              <a:endCxn id="1652" idx="2"/>
            </p:cNvCxnSpPr>
            <p:nvPr/>
          </p:nvCxnSpPr>
          <p:spPr>
            <a:xfrm>
              <a:off x="3499920" y="51904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64" name=""/>
            <p:cNvSpPr/>
            <p:nvPr/>
          </p:nvSpPr>
          <p:spPr>
            <a:xfrm>
              <a:off x="585612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338520" y="51433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85612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338520" y="47145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8" name=""/>
            <p:cNvCxnSpPr>
              <a:stCxn id="1666" idx="6"/>
              <a:endCxn id="1667" idx="2"/>
            </p:cNvCxnSpPr>
            <p:nvPr/>
          </p:nvCxnSpPr>
          <p:spPr>
            <a:xfrm>
              <a:off x="5962320" y="47617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9" name=""/>
            <p:cNvCxnSpPr>
              <a:stCxn id="1666" idx="4"/>
              <a:endCxn id="1664" idx="0"/>
            </p:cNvCxnSpPr>
            <p:nvPr/>
          </p:nvCxnSpPr>
          <p:spPr>
            <a:xfrm>
              <a:off x="590976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0" name=""/>
            <p:cNvCxnSpPr>
              <a:stCxn id="1664" idx="6"/>
              <a:endCxn id="1665" idx="2"/>
            </p:cNvCxnSpPr>
            <p:nvPr/>
          </p:nvCxnSpPr>
          <p:spPr>
            <a:xfrm>
              <a:off x="5962320" y="519048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1" name=""/>
            <p:cNvCxnSpPr>
              <a:stCxn id="1667" idx="4"/>
              <a:endCxn id="1665" idx="0"/>
            </p:cNvCxnSpPr>
            <p:nvPr/>
          </p:nvCxnSpPr>
          <p:spPr>
            <a:xfrm>
              <a:off x="639072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2" name=""/>
            <p:cNvCxnSpPr>
              <a:stCxn id="1647" idx="6"/>
              <a:endCxn id="1666" idx="2"/>
            </p:cNvCxnSpPr>
            <p:nvPr/>
          </p:nvCxnSpPr>
          <p:spPr>
            <a:xfrm>
              <a:off x="5427360" y="47617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3" name=""/>
            <p:cNvCxnSpPr>
              <a:stCxn id="1645" idx="6"/>
              <a:endCxn id="1664" idx="2"/>
            </p:cNvCxnSpPr>
            <p:nvPr/>
          </p:nvCxnSpPr>
          <p:spPr>
            <a:xfrm>
              <a:off x="5427360" y="519048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4" name=""/>
            <p:cNvCxnSpPr>
              <a:stCxn id="1635" idx="4"/>
              <a:endCxn id="1611" idx="0"/>
            </p:cNvCxnSpPr>
            <p:nvPr/>
          </p:nvCxnSpPr>
          <p:spPr>
            <a:xfrm>
              <a:off x="200124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5" name=""/>
            <p:cNvCxnSpPr>
              <a:stCxn id="1636" idx="4"/>
              <a:endCxn id="1612" idx="0"/>
            </p:cNvCxnSpPr>
            <p:nvPr/>
          </p:nvCxnSpPr>
          <p:spPr>
            <a:xfrm>
              <a:off x="248220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6" name=""/>
            <p:cNvCxnSpPr>
              <a:stCxn id="1627" idx="4"/>
              <a:endCxn id="1608" idx="0"/>
            </p:cNvCxnSpPr>
            <p:nvPr/>
          </p:nvCxnSpPr>
          <p:spPr>
            <a:xfrm>
              <a:off x="296496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7" name=""/>
            <p:cNvCxnSpPr>
              <a:stCxn id="1628" idx="4"/>
              <a:endCxn id="1609" idx="0"/>
            </p:cNvCxnSpPr>
            <p:nvPr/>
          </p:nvCxnSpPr>
          <p:spPr>
            <a:xfrm>
              <a:off x="344592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8" name=""/>
            <p:cNvCxnSpPr>
              <a:stCxn id="1652" idx="4"/>
              <a:endCxn id="1618" idx="0"/>
            </p:cNvCxnSpPr>
            <p:nvPr/>
          </p:nvCxnSpPr>
          <p:spPr>
            <a:xfrm>
              <a:off x="392832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9" name=""/>
            <p:cNvCxnSpPr>
              <a:stCxn id="1653" idx="4"/>
              <a:endCxn id="1619" idx="0"/>
            </p:cNvCxnSpPr>
            <p:nvPr/>
          </p:nvCxnSpPr>
          <p:spPr>
            <a:xfrm>
              <a:off x="440928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0" name=""/>
            <p:cNvCxnSpPr>
              <a:stCxn id="1644" idx="4"/>
              <a:endCxn id="1615" idx="0"/>
            </p:cNvCxnSpPr>
            <p:nvPr/>
          </p:nvCxnSpPr>
          <p:spPr>
            <a:xfrm>
              <a:off x="489204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1" name=""/>
            <p:cNvCxnSpPr>
              <a:stCxn id="1645" idx="4"/>
              <a:endCxn id="1616" idx="0"/>
            </p:cNvCxnSpPr>
            <p:nvPr/>
          </p:nvCxnSpPr>
          <p:spPr>
            <a:xfrm>
              <a:off x="537480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2" name=""/>
            <p:cNvCxnSpPr>
              <a:stCxn id="1664" idx="4"/>
              <a:endCxn id="1623" idx="0"/>
            </p:cNvCxnSpPr>
            <p:nvPr/>
          </p:nvCxnSpPr>
          <p:spPr>
            <a:xfrm>
              <a:off x="590976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3" name=""/>
            <p:cNvCxnSpPr>
              <a:stCxn id="1665" idx="4"/>
              <a:endCxn id="1624" idx="0"/>
            </p:cNvCxnSpPr>
            <p:nvPr/>
          </p:nvCxnSpPr>
          <p:spPr>
            <a:xfrm>
              <a:off x="639072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4" name=""/>
            <p:cNvCxnSpPr/>
            <p:nvPr/>
          </p:nvCxnSpPr>
          <p:spPr>
            <a:xfrm>
              <a:off x="199800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5" name=""/>
            <p:cNvCxnSpPr/>
            <p:nvPr/>
          </p:nvCxnSpPr>
          <p:spPr>
            <a:xfrm>
              <a:off x="199800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6" name=""/>
            <p:cNvCxnSpPr/>
            <p:nvPr/>
          </p:nvCxnSpPr>
          <p:spPr>
            <a:xfrm>
              <a:off x="199800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7" name=""/>
            <p:cNvCxnSpPr/>
            <p:nvPr/>
          </p:nvCxnSpPr>
          <p:spPr>
            <a:xfrm>
              <a:off x="199800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8" name=""/>
            <p:cNvCxnSpPr/>
            <p:nvPr/>
          </p:nvCxnSpPr>
          <p:spPr>
            <a:xfrm>
              <a:off x="199800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9" name=""/>
            <p:cNvCxnSpPr/>
            <p:nvPr/>
          </p:nvCxnSpPr>
          <p:spPr>
            <a:xfrm>
              <a:off x="199800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0" name=""/>
            <p:cNvCxnSpPr/>
            <p:nvPr/>
          </p:nvCxnSpPr>
          <p:spPr>
            <a:xfrm>
              <a:off x="199800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1" name=""/>
            <p:cNvCxnSpPr/>
            <p:nvPr/>
          </p:nvCxnSpPr>
          <p:spPr>
            <a:xfrm>
              <a:off x="200124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692" name=""/>
            <p:cNvGrpSpPr/>
            <p:nvPr/>
          </p:nvGrpSpPr>
          <p:grpSpPr>
            <a:xfrm>
              <a:off x="4001760" y="1858320"/>
              <a:ext cx="0" cy="3629160"/>
              <a:chOff x="4001760" y="1858320"/>
              <a:chExt cx="0" cy="3629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4001760" y="405576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4001760" y="362520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V="1">
                <a:off x="4001760" y="3195360"/>
                <a:ext cx="0" cy="142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V="1">
                <a:off x="4001760" y="276624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4001760" y="233604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4001760" y="185832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001760" y="5343120"/>
                <a:ext cx="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001760" y="491436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001760" y="448416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2" name=""/>
            <p:cNvGrpSpPr/>
            <p:nvPr/>
          </p:nvGrpSpPr>
          <p:grpSpPr>
            <a:xfrm>
              <a:off x="2158200" y="2101680"/>
              <a:ext cx="4039920" cy="0"/>
              <a:chOff x="2158200" y="2101680"/>
              <a:chExt cx="4039920" cy="0"/>
            </a:xfrm>
          </p:grpSpPr>
          <p:sp>
            <p:nvSpPr>
              <p:cNvPr id="1703" name=""/>
              <p:cNvSpPr/>
              <p:nvPr/>
            </p:nvSpPr>
            <p:spPr>
              <a:xfrm flipH="1">
                <a:off x="359496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07268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455220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02848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50800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03972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2158200" y="2101680"/>
                <a:ext cx="160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263916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>
                <a:off x="311724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4938480" y="1858320"/>
              <a:ext cx="0" cy="1479960"/>
              <a:chOff x="4938480" y="1858320"/>
              <a:chExt cx="0" cy="1479960"/>
            </a:xfrm>
          </p:grpSpPr>
          <p:sp>
            <p:nvSpPr>
              <p:cNvPr id="1713" name=""/>
              <p:cNvSpPr/>
              <p:nvPr/>
            </p:nvSpPr>
            <p:spPr>
              <a:xfrm>
                <a:off x="4938480" y="319536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938480" y="276660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4938480" y="233604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V="1">
                <a:off x="4938480" y="185832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2172600" y="3839760"/>
              <a:ext cx="4039920" cy="0"/>
              <a:chOff x="2172600" y="3839760"/>
              <a:chExt cx="4039920" cy="0"/>
            </a:xfrm>
          </p:grpSpPr>
          <p:sp>
            <p:nvSpPr>
              <p:cNvPr id="1718" name=""/>
              <p:cNvSpPr/>
              <p:nvPr/>
            </p:nvSpPr>
            <p:spPr>
              <a:xfrm flipH="1">
                <a:off x="360936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408708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56660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04288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552240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05412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>
                <a:off x="2172600" y="3839760"/>
                <a:ext cx="160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265356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313164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2158200" y="5557680"/>
              <a:ext cx="4039920" cy="0"/>
              <a:chOff x="2158200" y="5557680"/>
              <a:chExt cx="4039920" cy="0"/>
            </a:xfrm>
          </p:grpSpPr>
          <p:sp>
            <p:nvSpPr>
              <p:cNvPr id="1728" name=""/>
              <p:cNvSpPr/>
              <p:nvPr/>
            </p:nvSpPr>
            <p:spPr>
              <a:xfrm flipH="1">
                <a:off x="359496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407268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55220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02848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550800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03972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2158200" y="5557680"/>
                <a:ext cx="160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263916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311724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7" name=""/>
            <p:cNvSpPr/>
            <p:nvPr/>
          </p:nvSpPr>
          <p:spPr>
            <a:xfrm>
              <a:off x="4901400" y="2288880"/>
              <a:ext cx="87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Qu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086640" y="340344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9" name=""/>
          <p:cNvSpPr/>
          <p:nvPr/>
        </p:nvSpPr>
        <p:spPr>
          <a:xfrm>
            <a:off x="1598760" y="5811840"/>
            <a:ext cx="670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query frequency &gt; event frequenc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BC5F-B1EA-493B-8724-531E434A175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e Spectrum of Push and Pul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1" name=""/>
          <p:cNvGrpSpPr/>
          <p:nvPr/>
        </p:nvGrpSpPr>
        <p:grpSpPr>
          <a:xfrm>
            <a:off x="685800" y="2209680"/>
            <a:ext cx="8001000" cy="1282680"/>
            <a:chOff x="685800" y="2209680"/>
            <a:chExt cx="8001000" cy="1282680"/>
          </a:xfrm>
        </p:grpSpPr>
        <p:sp>
          <p:nvSpPr>
            <p:cNvPr id="1742" name=""/>
            <p:cNvSpPr/>
            <p:nvPr/>
          </p:nvSpPr>
          <p:spPr>
            <a:xfrm>
              <a:off x="1066680" y="2971800"/>
              <a:ext cx="693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85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543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904760" y="22096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ll +Local 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562360" y="22096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sh +Local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733560" y="312408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 &amp;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06668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00100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1081800" y="543564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Inter-spike spacing in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944720" y="5227560"/>
            <a:ext cx="1371600" cy="0"/>
          </a:xfrm>
          <a:prstGeom prst="line">
            <a:avLst/>
          </a:prstGeom>
          <a:ln w="1908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5256000" y="5029200"/>
            <a:ext cx="18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Revers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o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3" name=""/>
          <p:cNvGrpSpPr/>
          <p:nvPr/>
        </p:nvGrpSpPr>
        <p:grpSpPr>
          <a:xfrm>
            <a:off x="1828800" y="4038480"/>
            <a:ext cx="5103720" cy="551520"/>
            <a:chOff x="1828800" y="4038480"/>
            <a:chExt cx="5103720" cy="551520"/>
          </a:xfrm>
        </p:grpSpPr>
        <p:sp>
          <p:nvSpPr>
            <p:cNvPr id="1754" name=""/>
            <p:cNvSpPr/>
            <p:nvPr/>
          </p:nvSpPr>
          <p:spPr>
            <a:xfrm>
              <a:off x="1828800" y="4038480"/>
              <a:ext cx="5103720" cy="0"/>
            </a:xfrm>
            <a:prstGeom prst="line">
              <a:avLst/>
            </a:prstGeom>
            <a:ln w="25560">
              <a:solidFill>
                <a:srgbClr val="0000cc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203200" y="4191120"/>
              <a:ext cx="416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Relative query frequency 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6" name="" descr=""/>
          <p:cNvPicPr/>
          <p:nvPr/>
        </p:nvPicPr>
        <p:blipFill>
          <a:blip r:embed="rId1"/>
          <a:stretch/>
        </p:blipFill>
        <p:spPr>
          <a:xfrm>
            <a:off x="4419720" y="5105520"/>
            <a:ext cx="504720" cy="35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200B-725B-46AD-99BB-666C9119BC7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id-term Review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balancing push and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ndom networ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adaptive sche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0D32-53FC-46D0-98C2-FB04B2173F6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trategies for Improving Reliabilit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enh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leaved mesh (transient failur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ting update (permanent failur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lated fail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hance and balance query success rate at different geo-lo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-level redundancy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=2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471C-626F-4E08-8CC5-F6757B9C4F0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patial Diversit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55744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3040200" y="44737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4" name=""/>
          <p:cNvCxnSpPr>
            <a:stCxn id="1762" idx="6"/>
            <a:endCxn id="1763" idx="2"/>
          </p:cNvCxnSpPr>
          <p:nvPr/>
        </p:nvCxnSpPr>
        <p:spPr>
          <a:xfrm>
            <a:off x="2663640" y="45208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5" name=""/>
          <p:cNvCxnSpPr>
            <a:stCxn id="1762" idx="4"/>
          </p:cNvCxnSpPr>
          <p:nvPr/>
        </p:nvCxnSpPr>
        <p:spPr>
          <a:xfrm>
            <a:off x="261108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6" name=""/>
          <p:cNvCxnSpPr>
            <a:stCxn id="1763" idx="4"/>
          </p:cNvCxnSpPr>
          <p:nvPr/>
        </p:nvCxnSpPr>
        <p:spPr>
          <a:xfrm>
            <a:off x="309384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67" name=""/>
          <p:cNvSpPr/>
          <p:nvPr/>
        </p:nvSpPr>
        <p:spPr>
          <a:xfrm>
            <a:off x="159372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076480" y="44737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9" name=""/>
          <p:cNvCxnSpPr>
            <a:stCxn id="1767" idx="6"/>
            <a:endCxn id="1768" idx="2"/>
          </p:cNvCxnSpPr>
          <p:nvPr/>
        </p:nvCxnSpPr>
        <p:spPr>
          <a:xfrm>
            <a:off x="1699920" y="45208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0" name=""/>
          <p:cNvCxnSpPr>
            <a:stCxn id="1767" idx="4"/>
          </p:cNvCxnSpPr>
          <p:nvPr/>
        </p:nvCxnSpPr>
        <p:spPr>
          <a:xfrm>
            <a:off x="164736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1" name=""/>
          <p:cNvCxnSpPr>
            <a:stCxn id="1768" idx="4"/>
          </p:cNvCxnSpPr>
          <p:nvPr/>
        </p:nvCxnSpPr>
        <p:spPr>
          <a:xfrm>
            <a:off x="213012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2" name=""/>
          <p:cNvCxnSpPr>
            <a:stCxn id="1768" idx="6"/>
            <a:endCxn id="1762" idx="2"/>
          </p:cNvCxnSpPr>
          <p:nvPr/>
        </p:nvCxnSpPr>
        <p:spPr>
          <a:xfrm>
            <a:off x="2182320" y="45208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3" name=""/>
          <p:cNvSpPr/>
          <p:nvPr/>
        </p:nvSpPr>
        <p:spPr>
          <a:xfrm>
            <a:off x="4484520" y="44737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967280" y="44737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5" name=""/>
          <p:cNvCxnSpPr>
            <a:stCxn id="1773" idx="6"/>
            <a:endCxn id="1774" idx="2"/>
          </p:cNvCxnSpPr>
          <p:nvPr/>
        </p:nvCxnSpPr>
        <p:spPr>
          <a:xfrm>
            <a:off x="4592160" y="45208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6" name=""/>
          <p:cNvCxnSpPr>
            <a:stCxn id="1773" idx="4"/>
          </p:cNvCxnSpPr>
          <p:nvPr/>
        </p:nvCxnSpPr>
        <p:spPr>
          <a:xfrm>
            <a:off x="453816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7" name=""/>
          <p:cNvCxnSpPr>
            <a:stCxn id="1774" idx="4"/>
          </p:cNvCxnSpPr>
          <p:nvPr/>
        </p:nvCxnSpPr>
        <p:spPr>
          <a:xfrm>
            <a:off x="502092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8" name=""/>
          <p:cNvSpPr/>
          <p:nvPr/>
        </p:nvSpPr>
        <p:spPr>
          <a:xfrm>
            <a:off x="3521160" y="44737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00356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0" name=""/>
          <p:cNvCxnSpPr>
            <a:stCxn id="1778" idx="6"/>
            <a:endCxn id="1779" idx="2"/>
          </p:cNvCxnSpPr>
          <p:nvPr/>
        </p:nvCxnSpPr>
        <p:spPr>
          <a:xfrm>
            <a:off x="3629160" y="45208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1" name=""/>
          <p:cNvCxnSpPr>
            <a:stCxn id="1778" idx="4"/>
          </p:cNvCxnSpPr>
          <p:nvPr/>
        </p:nvCxnSpPr>
        <p:spPr>
          <a:xfrm>
            <a:off x="357480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2" name=""/>
          <p:cNvCxnSpPr>
            <a:stCxn id="1779" idx="4"/>
          </p:cNvCxnSpPr>
          <p:nvPr/>
        </p:nvCxnSpPr>
        <p:spPr>
          <a:xfrm>
            <a:off x="405720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3" name=""/>
          <p:cNvCxnSpPr>
            <a:stCxn id="1779" idx="6"/>
            <a:endCxn id="1773" idx="2"/>
          </p:cNvCxnSpPr>
          <p:nvPr/>
        </p:nvCxnSpPr>
        <p:spPr>
          <a:xfrm>
            <a:off x="4110120" y="45208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4" name=""/>
          <p:cNvCxnSpPr>
            <a:stCxn id="1763" idx="6"/>
            <a:endCxn id="1778" idx="2"/>
          </p:cNvCxnSpPr>
          <p:nvPr/>
        </p:nvCxnSpPr>
        <p:spPr>
          <a:xfrm>
            <a:off x="3146040" y="45208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85" name=""/>
          <p:cNvSpPr/>
          <p:nvPr/>
        </p:nvSpPr>
        <p:spPr>
          <a:xfrm>
            <a:off x="550224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983200" y="44737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7" name=""/>
          <p:cNvCxnSpPr>
            <a:stCxn id="1785" idx="6"/>
            <a:endCxn id="1786" idx="2"/>
          </p:cNvCxnSpPr>
          <p:nvPr/>
        </p:nvCxnSpPr>
        <p:spPr>
          <a:xfrm>
            <a:off x="5608800" y="45208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8" name=""/>
          <p:cNvCxnSpPr>
            <a:stCxn id="1785" idx="4"/>
          </p:cNvCxnSpPr>
          <p:nvPr/>
        </p:nvCxnSpPr>
        <p:spPr>
          <a:xfrm>
            <a:off x="555588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9" name=""/>
          <p:cNvCxnSpPr>
            <a:stCxn id="1786" idx="4"/>
          </p:cNvCxnSpPr>
          <p:nvPr/>
        </p:nvCxnSpPr>
        <p:spPr>
          <a:xfrm>
            <a:off x="603684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0" name=""/>
          <p:cNvCxnSpPr>
            <a:stCxn id="1774" idx="6"/>
            <a:endCxn id="1785" idx="2"/>
          </p:cNvCxnSpPr>
          <p:nvPr/>
        </p:nvCxnSpPr>
        <p:spPr>
          <a:xfrm>
            <a:off x="5073120" y="452088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1" name=""/>
          <p:cNvSpPr/>
          <p:nvPr/>
        </p:nvSpPr>
        <p:spPr>
          <a:xfrm>
            <a:off x="255744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040200" y="40435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255744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3040200" y="361476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5" name=""/>
          <p:cNvCxnSpPr>
            <a:stCxn id="1793" idx="6"/>
            <a:endCxn id="1794" idx="2"/>
          </p:cNvCxnSpPr>
          <p:nvPr/>
        </p:nvCxnSpPr>
        <p:spPr>
          <a:xfrm>
            <a:off x="2663640" y="36619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6" name=""/>
          <p:cNvCxnSpPr>
            <a:stCxn id="1793" idx="4"/>
            <a:endCxn id="1791" idx="0"/>
          </p:cNvCxnSpPr>
          <p:nvPr/>
        </p:nvCxnSpPr>
        <p:spPr>
          <a:xfrm>
            <a:off x="261108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7" name=""/>
          <p:cNvCxnSpPr>
            <a:stCxn id="1791" idx="6"/>
            <a:endCxn id="1792" idx="2"/>
          </p:cNvCxnSpPr>
          <p:nvPr/>
        </p:nvCxnSpPr>
        <p:spPr>
          <a:xfrm>
            <a:off x="2663640" y="40906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8" name=""/>
          <p:cNvCxnSpPr>
            <a:stCxn id="1794" idx="4"/>
            <a:endCxn id="1792" idx="0"/>
          </p:cNvCxnSpPr>
          <p:nvPr/>
        </p:nvCxnSpPr>
        <p:spPr>
          <a:xfrm>
            <a:off x="309204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9" name=""/>
          <p:cNvSpPr/>
          <p:nvPr/>
        </p:nvSpPr>
        <p:spPr>
          <a:xfrm>
            <a:off x="159372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2076480" y="40435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159372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2076480" y="361476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3" name=""/>
          <p:cNvCxnSpPr>
            <a:stCxn id="1801" idx="6"/>
            <a:endCxn id="1802" idx="2"/>
          </p:cNvCxnSpPr>
          <p:nvPr/>
        </p:nvCxnSpPr>
        <p:spPr>
          <a:xfrm>
            <a:off x="1699920" y="36619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4" name=""/>
          <p:cNvCxnSpPr>
            <a:stCxn id="1801" idx="4"/>
            <a:endCxn id="1799" idx="0"/>
          </p:cNvCxnSpPr>
          <p:nvPr/>
        </p:nvCxnSpPr>
        <p:spPr>
          <a:xfrm>
            <a:off x="164736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5" name=""/>
          <p:cNvCxnSpPr>
            <a:stCxn id="1799" idx="6"/>
            <a:endCxn id="1800" idx="2"/>
          </p:cNvCxnSpPr>
          <p:nvPr/>
        </p:nvCxnSpPr>
        <p:spPr>
          <a:xfrm>
            <a:off x="1699920" y="40906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6" name=""/>
          <p:cNvCxnSpPr>
            <a:stCxn id="1802" idx="4"/>
            <a:endCxn id="1800" idx="0"/>
          </p:cNvCxnSpPr>
          <p:nvPr/>
        </p:nvCxnSpPr>
        <p:spPr>
          <a:xfrm>
            <a:off x="212832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7" name=""/>
          <p:cNvCxnSpPr>
            <a:stCxn id="1802" idx="6"/>
            <a:endCxn id="1793" idx="2"/>
          </p:cNvCxnSpPr>
          <p:nvPr/>
        </p:nvCxnSpPr>
        <p:spPr>
          <a:xfrm>
            <a:off x="2182320" y="36619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8" name=""/>
          <p:cNvCxnSpPr>
            <a:stCxn id="1800" idx="6"/>
            <a:endCxn id="1791" idx="2"/>
          </p:cNvCxnSpPr>
          <p:nvPr/>
        </p:nvCxnSpPr>
        <p:spPr>
          <a:xfrm>
            <a:off x="2182320" y="40906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09" name=""/>
          <p:cNvSpPr/>
          <p:nvPr/>
        </p:nvSpPr>
        <p:spPr>
          <a:xfrm>
            <a:off x="4484520" y="40435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4967280" y="40435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4484520" y="361476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4967280" y="361476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3" name=""/>
          <p:cNvCxnSpPr>
            <a:stCxn id="1811" idx="6"/>
            <a:endCxn id="1812" idx="2"/>
          </p:cNvCxnSpPr>
          <p:nvPr/>
        </p:nvCxnSpPr>
        <p:spPr>
          <a:xfrm>
            <a:off x="4592160" y="36619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4" name=""/>
          <p:cNvCxnSpPr>
            <a:stCxn id="1811" idx="4"/>
            <a:endCxn id="1809" idx="0"/>
          </p:cNvCxnSpPr>
          <p:nvPr/>
        </p:nvCxnSpPr>
        <p:spPr>
          <a:xfrm>
            <a:off x="453816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5" name=""/>
          <p:cNvCxnSpPr>
            <a:stCxn id="1809" idx="6"/>
            <a:endCxn id="1810" idx="2"/>
          </p:cNvCxnSpPr>
          <p:nvPr/>
        </p:nvCxnSpPr>
        <p:spPr>
          <a:xfrm>
            <a:off x="4592160" y="40906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6" name=""/>
          <p:cNvCxnSpPr>
            <a:stCxn id="1812" idx="4"/>
            <a:endCxn id="1810" idx="0"/>
          </p:cNvCxnSpPr>
          <p:nvPr/>
        </p:nvCxnSpPr>
        <p:spPr>
          <a:xfrm>
            <a:off x="501948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7" name=""/>
          <p:cNvSpPr/>
          <p:nvPr/>
        </p:nvSpPr>
        <p:spPr>
          <a:xfrm>
            <a:off x="3521160" y="4043520"/>
            <a:ext cx="108000" cy="95040"/>
          </a:xfrm>
          <a:prstGeom prst="ellipse">
            <a:avLst/>
          </a:prstGeom>
          <a:solidFill>
            <a:srgbClr val="ff0000">
              <a:alpha val="99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00356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3521160" y="361476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400356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1" name=""/>
          <p:cNvCxnSpPr>
            <a:stCxn id="1819" idx="6"/>
            <a:endCxn id="1820" idx="2"/>
          </p:cNvCxnSpPr>
          <p:nvPr/>
        </p:nvCxnSpPr>
        <p:spPr>
          <a:xfrm>
            <a:off x="3629160" y="3661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2" name=""/>
          <p:cNvCxnSpPr>
            <a:stCxn id="1819" idx="4"/>
            <a:endCxn id="1817" idx="0"/>
          </p:cNvCxnSpPr>
          <p:nvPr/>
        </p:nvCxnSpPr>
        <p:spPr>
          <a:xfrm>
            <a:off x="357480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3" name=""/>
          <p:cNvCxnSpPr>
            <a:stCxn id="1817" idx="6"/>
            <a:endCxn id="1818" idx="2"/>
          </p:cNvCxnSpPr>
          <p:nvPr/>
        </p:nvCxnSpPr>
        <p:spPr>
          <a:xfrm>
            <a:off x="3629160" y="40906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4" name=""/>
          <p:cNvCxnSpPr>
            <a:stCxn id="1820" idx="4"/>
            <a:endCxn id="1818" idx="0"/>
          </p:cNvCxnSpPr>
          <p:nvPr/>
        </p:nvCxnSpPr>
        <p:spPr>
          <a:xfrm>
            <a:off x="405576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5" name=""/>
          <p:cNvCxnSpPr>
            <a:stCxn id="1820" idx="6"/>
            <a:endCxn id="1811" idx="2"/>
          </p:cNvCxnSpPr>
          <p:nvPr/>
        </p:nvCxnSpPr>
        <p:spPr>
          <a:xfrm>
            <a:off x="4110120" y="3661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6" name=""/>
          <p:cNvCxnSpPr>
            <a:stCxn id="1818" idx="6"/>
            <a:endCxn id="1809" idx="2"/>
          </p:cNvCxnSpPr>
          <p:nvPr/>
        </p:nvCxnSpPr>
        <p:spPr>
          <a:xfrm>
            <a:off x="4110120" y="40906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7" name=""/>
          <p:cNvCxnSpPr>
            <a:stCxn id="1794" idx="6"/>
            <a:endCxn id="1819" idx="2"/>
          </p:cNvCxnSpPr>
          <p:nvPr/>
        </p:nvCxnSpPr>
        <p:spPr>
          <a:xfrm>
            <a:off x="3146040" y="36619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8" name=""/>
          <p:cNvCxnSpPr>
            <a:stCxn id="1792" idx="6"/>
            <a:endCxn id="1817" idx="2"/>
          </p:cNvCxnSpPr>
          <p:nvPr/>
        </p:nvCxnSpPr>
        <p:spPr>
          <a:xfrm>
            <a:off x="3146040" y="40906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29" name=""/>
          <p:cNvSpPr/>
          <p:nvPr/>
        </p:nvSpPr>
        <p:spPr>
          <a:xfrm>
            <a:off x="550224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5983200" y="40435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550224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983200" y="361476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3" name=""/>
          <p:cNvCxnSpPr>
            <a:stCxn id="1831" idx="6"/>
            <a:endCxn id="1832" idx="2"/>
          </p:cNvCxnSpPr>
          <p:nvPr/>
        </p:nvCxnSpPr>
        <p:spPr>
          <a:xfrm>
            <a:off x="5608800" y="3661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4" name=""/>
          <p:cNvCxnSpPr>
            <a:stCxn id="1831" idx="4"/>
            <a:endCxn id="1829" idx="0"/>
          </p:cNvCxnSpPr>
          <p:nvPr/>
        </p:nvCxnSpPr>
        <p:spPr>
          <a:xfrm>
            <a:off x="555588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5" name=""/>
          <p:cNvCxnSpPr>
            <a:stCxn id="1829" idx="6"/>
            <a:endCxn id="1830" idx="2"/>
          </p:cNvCxnSpPr>
          <p:nvPr/>
        </p:nvCxnSpPr>
        <p:spPr>
          <a:xfrm>
            <a:off x="5608800" y="40906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6" name=""/>
          <p:cNvCxnSpPr>
            <a:stCxn id="1832" idx="4"/>
            <a:endCxn id="1830" idx="0"/>
          </p:cNvCxnSpPr>
          <p:nvPr/>
        </p:nvCxnSpPr>
        <p:spPr>
          <a:xfrm>
            <a:off x="603684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7" name=""/>
          <p:cNvCxnSpPr>
            <a:stCxn id="1812" idx="6"/>
            <a:endCxn id="1831" idx="2"/>
          </p:cNvCxnSpPr>
          <p:nvPr/>
        </p:nvCxnSpPr>
        <p:spPr>
          <a:xfrm>
            <a:off x="5073120" y="36619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8" name=""/>
          <p:cNvCxnSpPr>
            <a:stCxn id="1810" idx="6"/>
            <a:endCxn id="1829" idx="2"/>
          </p:cNvCxnSpPr>
          <p:nvPr/>
        </p:nvCxnSpPr>
        <p:spPr>
          <a:xfrm>
            <a:off x="5073120" y="409068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9" name=""/>
          <p:cNvCxnSpPr>
            <a:stCxn id="1799" idx="4"/>
            <a:endCxn id="1767" idx="0"/>
          </p:cNvCxnSpPr>
          <p:nvPr/>
        </p:nvCxnSpPr>
        <p:spPr>
          <a:xfrm>
            <a:off x="164736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0" name=""/>
          <p:cNvCxnSpPr>
            <a:stCxn id="1800" idx="4"/>
            <a:endCxn id="1768" idx="0"/>
          </p:cNvCxnSpPr>
          <p:nvPr/>
        </p:nvCxnSpPr>
        <p:spPr>
          <a:xfrm>
            <a:off x="212832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1" name=""/>
          <p:cNvCxnSpPr>
            <a:stCxn id="1791" idx="4"/>
            <a:endCxn id="1762" idx="0"/>
          </p:cNvCxnSpPr>
          <p:nvPr/>
        </p:nvCxnSpPr>
        <p:spPr>
          <a:xfrm>
            <a:off x="261108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2" name=""/>
          <p:cNvCxnSpPr>
            <a:stCxn id="1792" idx="4"/>
            <a:endCxn id="1763" idx="0"/>
          </p:cNvCxnSpPr>
          <p:nvPr/>
        </p:nvCxnSpPr>
        <p:spPr>
          <a:xfrm>
            <a:off x="309204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3" name=""/>
          <p:cNvCxnSpPr>
            <a:stCxn id="1817" idx="4"/>
            <a:endCxn id="1778" idx="0"/>
          </p:cNvCxnSpPr>
          <p:nvPr/>
        </p:nvCxnSpPr>
        <p:spPr>
          <a:xfrm>
            <a:off x="357480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4" name=""/>
          <p:cNvCxnSpPr>
            <a:stCxn id="1818" idx="4"/>
            <a:endCxn id="1779" idx="0"/>
          </p:cNvCxnSpPr>
          <p:nvPr/>
        </p:nvCxnSpPr>
        <p:spPr>
          <a:xfrm>
            <a:off x="405576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5" name=""/>
          <p:cNvCxnSpPr>
            <a:stCxn id="1809" idx="4"/>
            <a:endCxn id="1773" idx="0"/>
          </p:cNvCxnSpPr>
          <p:nvPr/>
        </p:nvCxnSpPr>
        <p:spPr>
          <a:xfrm>
            <a:off x="453816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6" name=""/>
          <p:cNvCxnSpPr>
            <a:stCxn id="1810" idx="4"/>
            <a:endCxn id="1774" idx="0"/>
          </p:cNvCxnSpPr>
          <p:nvPr/>
        </p:nvCxnSpPr>
        <p:spPr>
          <a:xfrm>
            <a:off x="501948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7" name=""/>
          <p:cNvCxnSpPr>
            <a:stCxn id="1829" idx="4"/>
            <a:endCxn id="1785" idx="0"/>
          </p:cNvCxnSpPr>
          <p:nvPr/>
        </p:nvCxnSpPr>
        <p:spPr>
          <a:xfrm>
            <a:off x="555588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8" name=""/>
          <p:cNvCxnSpPr>
            <a:stCxn id="1830" idx="4"/>
            <a:endCxn id="1786" idx="0"/>
          </p:cNvCxnSpPr>
          <p:nvPr/>
        </p:nvCxnSpPr>
        <p:spPr>
          <a:xfrm>
            <a:off x="603684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49" name=""/>
          <p:cNvSpPr/>
          <p:nvPr/>
        </p:nvSpPr>
        <p:spPr>
          <a:xfrm>
            <a:off x="255744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3040200" y="31845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255744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3040200" y="27543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3" name=""/>
          <p:cNvCxnSpPr>
            <a:stCxn id="1851" idx="6"/>
            <a:endCxn id="1852" idx="2"/>
          </p:cNvCxnSpPr>
          <p:nvPr/>
        </p:nvCxnSpPr>
        <p:spPr>
          <a:xfrm>
            <a:off x="2663640" y="28015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4" name=""/>
          <p:cNvCxnSpPr>
            <a:stCxn id="1851" idx="4"/>
            <a:endCxn id="1849" idx="0"/>
          </p:cNvCxnSpPr>
          <p:nvPr/>
        </p:nvCxnSpPr>
        <p:spPr>
          <a:xfrm>
            <a:off x="261108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5" name=""/>
          <p:cNvCxnSpPr>
            <a:stCxn id="1849" idx="6"/>
            <a:endCxn id="1850" idx="2"/>
          </p:cNvCxnSpPr>
          <p:nvPr/>
        </p:nvCxnSpPr>
        <p:spPr>
          <a:xfrm>
            <a:off x="2663640" y="32317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6" name=""/>
          <p:cNvCxnSpPr>
            <a:stCxn id="1852" idx="4"/>
            <a:endCxn id="1850" idx="0"/>
          </p:cNvCxnSpPr>
          <p:nvPr/>
        </p:nvCxnSpPr>
        <p:spPr>
          <a:xfrm>
            <a:off x="309204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7" name=""/>
          <p:cNvSpPr/>
          <p:nvPr/>
        </p:nvSpPr>
        <p:spPr>
          <a:xfrm>
            <a:off x="159372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2076480" y="31845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59372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2076480" y="27543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1" name=""/>
          <p:cNvCxnSpPr>
            <a:stCxn id="1859" idx="6"/>
            <a:endCxn id="1860" idx="2"/>
          </p:cNvCxnSpPr>
          <p:nvPr/>
        </p:nvCxnSpPr>
        <p:spPr>
          <a:xfrm>
            <a:off x="1699920" y="28015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2" name=""/>
          <p:cNvCxnSpPr>
            <a:stCxn id="1859" idx="4"/>
            <a:endCxn id="1857" idx="0"/>
          </p:cNvCxnSpPr>
          <p:nvPr/>
        </p:nvCxnSpPr>
        <p:spPr>
          <a:xfrm>
            <a:off x="164736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3" name=""/>
          <p:cNvCxnSpPr>
            <a:stCxn id="1857" idx="6"/>
            <a:endCxn id="1858" idx="2"/>
          </p:cNvCxnSpPr>
          <p:nvPr/>
        </p:nvCxnSpPr>
        <p:spPr>
          <a:xfrm>
            <a:off x="1699920" y="32317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4" name=""/>
          <p:cNvCxnSpPr>
            <a:stCxn id="1860" idx="4"/>
            <a:endCxn id="1858" idx="0"/>
          </p:cNvCxnSpPr>
          <p:nvPr/>
        </p:nvCxnSpPr>
        <p:spPr>
          <a:xfrm>
            <a:off x="212832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5" name=""/>
          <p:cNvCxnSpPr>
            <a:stCxn id="1860" idx="6"/>
            <a:endCxn id="1851" idx="2"/>
          </p:cNvCxnSpPr>
          <p:nvPr/>
        </p:nvCxnSpPr>
        <p:spPr>
          <a:xfrm>
            <a:off x="2182320" y="28015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6" name=""/>
          <p:cNvCxnSpPr>
            <a:stCxn id="1858" idx="6"/>
            <a:endCxn id="1849" idx="2"/>
          </p:cNvCxnSpPr>
          <p:nvPr/>
        </p:nvCxnSpPr>
        <p:spPr>
          <a:xfrm>
            <a:off x="2182320" y="32317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67" name=""/>
          <p:cNvSpPr/>
          <p:nvPr/>
        </p:nvSpPr>
        <p:spPr>
          <a:xfrm>
            <a:off x="4484520" y="31845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4967280" y="31845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484520" y="27543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4967280" y="27543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1" name=""/>
          <p:cNvCxnSpPr>
            <a:stCxn id="1869" idx="6"/>
            <a:endCxn id="1870" idx="2"/>
          </p:cNvCxnSpPr>
          <p:nvPr/>
        </p:nvCxnSpPr>
        <p:spPr>
          <a:xfrm>
            <a:off x="4592160" y="28015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2" name=""/>
          <p:cNvCxnSpPr>
            <a:stCxn id="1869" idx="4"/>
            <a:endCxn id="1867" idx="0"/>
          </p:cNvCxnSpPr>
          <p:nvPr/>
        </p:nvCxnSpPr>
        <p:spPr>
          <a:xfrm>
            <a:off x="453816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3" name=""/>
          <p:cNvCxnSpPr>
            <a:stCxn id="1867" idx="6"/>
            <a:endCxn id="1868" idx="2"/>
          </p:cNvCxnSpPr>
          <p:nvPr/>
        </p:nvCxnSpPr>
        <p:spPr>
          <a:xfrm>
            <a:off x="4592160" y="32317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4" name=""/>
          <p:cNvCxnSpPr>
            <a:stCxn id="1870" idx="4"/>
            <a:endCxn id="1868" idx="0"/>
          </p:cNvCxnSpPr>
          <p:nvPr/>
        </p:nvCxnSpPr>
        <p:spPr>
          <a:xfrm>
            <a:off x="501948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5" name=""/>
          <p:cNvSpPr/>
          <p:nvPr/>
        </p:nvSpPr>
        <p:spPr>
          <a:xfrm>
            <a:off x="3521160" y="31845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400356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521160" y="27543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400356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9" name=""/>
          <p:cNvCxnSpPr>
            <a:stCxn id="1877" idx="6"/>
            <a:endCxn id="1878" idx="2"/>
          </p:cNvCxnSpPr>
          <p:nvPr/>
        </p:nvCxnSpPr>
        <p:spPr>
          <a:xfrm>
            <a:off x="3629160" y="28015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0" name=""/>
          <p:cNvCxnSpPr>
            <a:stCxn id="1877" idx="4"/>
            <a:endCxn id="1875" idx="0"/>
          </p:cNvCxnSpPr>
          <p:nvPr/>
        </p:nvCxnSpPr>
        <p:spPr>
          <a:xfrm>
            <a:off x="357480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1" name=""/>
          <p:cNvCxnSpPr>
            <a:stCxn id="1875" idx="6"/>
            <a:endCxn id="1876" idx="2"/>
          </p:cNvCxnSpPr>
          <p:nvPr/>
        </p:nvCxnSpPr>
        <p:spPr>
          <a:xfrm>
            <a:off x="3629160" y="32317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2" name=""/>
          <p:cNvCxnSpPr>
            <a:stCxn id="1878" idx="4"/>
            <a:endCxn id="1876" idx="0"/>
          </p:cNvCxnSpPr>
          <p:nvPr/>
        </p:nvCxnSpPr>
        <p:spPr>
          <a:xfrm>
            <a:off x="405576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3" name=""/>
          <p:cNvCxnSpPr>
            <a:stCxn id="1878" idx="6"/>
            <a:endCxn id="1869" idx="2"/>
          </p:cNvCxnSpPr>
          <p:nvPr/>
        </p:nvCxnSpPr>
        <p:spPr>
          <a:xfrm>
            <a:off x="4110120" y="28015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4" name=""/>
          <p:cNvCxnSpPr>
            <a:stCxn id="1876" idx="6"/>
            <a:endCxn id="1867" idx="2"/>
          </p:cNvCxnSpPr>
          <p:nvPr/>
        </p:nvCxnSpPr>
        <p:spPr>
          <a:xfrm>
            <a:off x="4110120" y="32317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5" name=""/>
          <p:cNvCxnSpPr>
            <a:stCxn id="1852" idx="6"/>
            <a:endCxn id="1877" idx="2"/>
          </p:cNvCxnSpPr>
          <p:nvPr/>
        </p:nvCxnSpPr>
        <p:spPr>
          <a:xfrm>
            <a:off x="3146040" y="28015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6" name=""/>
          <p:cNvCxnSpPr>
            <a:stCxn id="1850" idx="6"/>
            <a:endCxn id="1875" idx="2"/>
          </p:cNvCxnSpPr>
          <p:nvPr/>
        </p:nvCxnSpPr>
        <p:spPr>
          <a:xfrm>
            <a:off x="3146040" y="32317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7" name=""/>
          <p:cNvSpPr/>
          <p:nvPr/>
        </p:nvSpPr>
        <p:spPr>
          <a:xfrm>
            <a:off x="550224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5983200" y="31845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550224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5983200" y="27543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1" name=""/>
          <p:cNvCxnSpPr>
            <a:stCxn id="1889" idx="6"/>
            <a:endCxn id="1890" idx="2"/>
          </p:cNvCxnSpPr>
          <p:nvPr/>
        </p:nvCxnSpPr>
        <p:spPr>
          <a:xfrm>
            <a:off x="5608800" y="28015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2" name=""/>
          <p:cNvCxnSpPr>
            <a:stCxn id="1889" idx="4"/>
            <a:endCxn id="1887" idx="0"/>
          </p:cNvCxnSpPr>
          <p:nvPr/>
        </p:nvCxnSpPr>
        <p:spPr>
          <a:xfrm>
            <a:off x="555588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3" name=""/>
          <p:cNvCxnSpPr>
            <a:stCxn id="1887" idx="6"/>
            <a:endCxn id="1888" idx="2"/>
          </p:cNvCxnSpPr>
          <p:nvPr/>
        </p:nvCxnSpPr>
        <p:spPr>
          <a:xfrm>
            <a:off x="5608800" y="32317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4" name=""/>
          <p:cNvCxnSpPr>
            <a:stCxn id="1890" idx="4"/>
            <a:endCxn id="1888" idx="0"/>
          </p:cNvCxnSpPr>
          <p:nvPr/>
        </p:nvCxnSpPr>
        <p:spPr>
          <a:xfrm>
            <a:off x="603684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5" name=""/>
          <p:cNvCxnSpPr>
            <a:stCxn id="1870" idx="6"/>
            <a:endCxn id="1889" idx="2"/>
          </p:cNvCxnSpPr>
          <p:nvPr/>
        </p:nvCxnSpPr>
        <p:spPr>
          <a:xfrm>
            <a:off x="5073120" y="28015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6" name=""/>
          <p:cNvCxnSpPr>
            <a:stCxn id="1868" idx="6"/>
            <a:endCxn id="1887" idx="2"/>
          </p:cNvCxnSpPr>
          <p:nvPr/>
        </p:nvCxnSpPr>
        <p:spPr>
          <a:xfrm>
            <a:off x="5073120" y="32317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97" name=""/>
          <p:cNvSpPr/>
          <p:nvPr/>
        </p:nvSpPr>
        <p:spPr>
          <a:xfrm>
            <a:off x="255744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040200" y="23256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255744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040200" y="18954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1" name=""/>
          <p:cNvCxnSpPr>
            <a:stCxn id="1899" idx="6"/>
            <a:endCxn id="1900" idx="2"/>
          </p:cNvCxnSpPr>
          <p:nvPr/>
        </p:nvCxnSpPr>
        <p:spPr>
          <a:xfrm>
            <a:off x="2663640" y="1942920"/>
            <a:ext cx="3769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02" name=""/>
          <p:cNvCxnSpPr>
            <a:stCxn id="1899" idx="4"/>
            <a:endCxn id="1897" idx="0"/>
          </p:cNvCxnSpPr>
          <p:nvPr/>
        </p:nvCxnSpPr>
        <p:spPr>
          <a:xfrm>
            <a:off x="261108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3" name=""/>
          <p:cNvCxnSpPr>
            <a:stCxn id="1897" idx="6"/>
            <a:endCxn id="1898" idx="2"/>
          </p:cNvCxnSpPr>
          <p:nvPr/>
        </p:nvCxnSpPr>
        <p:spPr>
          <a:xfrm>
            <a:off x="2663640" y="23731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4" name=""/>
          <p:cNvCxnSpPr>
            <a:stCxn id="1900" idx="4"/>
            <a:endCxn id="1898" idx="0"/>
          </p:cNvCxnSpPr>
          <p:nvPr/>
        </p:nvCxnSpPr>
        <p:spPr>
          <a:xfrm>
            <a:off x="309204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05" name=""/>
          <p:cNvSpPr/>
          <p:nvPr/>
        </p:nvSpPr>
        <p:spPr>
          <a:xfrm>
            <a:off x="159372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2076480" y="23256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159372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2076480" y="18954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9" name=""/>
          <p:cNvCxnSpPr>
            <a:stCxn id="1907" idx="6"/>
            <a:endCxn id="1908" idx="2"/>
          </p:cNvCxnSpPr>
          <p:nvPr/>
        </p:nvCxnSpPr>
        <p:spPr>
          <a:xfrm>
            <a:off x="1699920" y="19429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0" name=""/>
          <p:cNvCxnSpPr>
            <a:stCxn id="1907" idx="4"/>
            <a:endCxn id="1905" idx="0"/>
          </p:cNvCxnSpPr>
          <p:nvPr/>
        </p:nvCxnSpPr>
        <p:spPr>
          <a:xfrm>
            <a:off x="164736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1" name=""/>
          <p:cNvCxnSpPr>
            <a:stCxn id="1905" idx="6"/>
            <a:endCxn id="1906" idx="2"/>
          </p:cNvCxnSpPr>
          <p:nvPr/>
        </p:nvCxnSpPr>
        <p:spPr>
          <a:xfrm>
            <a:off x="1699920" y="23731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2" name=""/>
          <p:cNvCxnSpPr>
            <a:stCxn id="1908" idx="4"/>
            <a:endCxn id="1906" idx="0"/>
          </p:cNvCxnSpPr>
          <p:nvPr/>
        </p:nvCxnSpPr>
        <p:spPr>
          <a:xfrm>
            <a:off x="212832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3" name=""/>
          <p:cNvCxnSpPr>
            <a:stCxn id="1908" idx="6"/>
            <a:endCxn id="1899" idx="2"/>
          </p:cNvCxnSpPr>
          <p:nvPr/>
        </p:nvCxnSpPr>
        <p:spPr>
          <a:xfrm>
            <a:off x="2182320" y="194292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14" name=""/>
          <p:cNvCxnSpPr>
            <a:stCxn id="1906" idx="6"/>
            <a:endCxn id="1897" idx="2"/>
          </p:cNvCxnSpPr>
          <p:nvPr/>
        </p:nvCxnSpPr>
        <p:spPr>
          <a:xfrm>
            <a:off x="2182320" y="2373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15" name=""/>
          <p:cNvSpPr/>
          <p:nvPr/>
        </p:nvSpPr>
        <p:spPr>
          <a:xfrm>
            <a:off x="4484520" y="23256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4967280" y="23256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4484520" y="18954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4967280" y="18954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9" name=""/>
          <p:cNvCxnSpPr>
            <a:stCxn id="1917" idx="6"/>
            <a:endCxn id="1918" idx="2"/>
          </p:cNvCxnSpPr>
          <p:nvPr/>
        </p:nvCxnSpPr>
        <p:spPr>
          <a:xfrm>
            <a:off x="4592160" y="194292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20" name=""/>
          <p:cNvCxnSpPr>
            <a:stCxn id="1917" idx="4"/>
            <a:endCxn id="1915" idx="0"/>
          </p:cNvCxnSpPr>
          <p:nvPr/>
        </p:nvCxnSpPr>
        <p:spPr>
          <a:xfrm>
            <a:off x="453816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1" name=""/>
          <p:cNvCxnSpPr>
            <a:stCxn id="1915" idx="6"/>
            <a:endCxn id="1916" idx="2"/>
          </p:cNvCxnSpPr>
          <p:nvPr/>
        </p:nvCxnSpPr>
        <p:spPr>
          <a:xfrm>
            <a:off x="4592160" y="2373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2" name=""/>
          <p:cNvCxnSpPr>
            <a:stCxn id="1918" idx="4"/>
            <a:endCxn id="1916" idx="0"/>
          </p:cNvCxnSpPr>
          <p:nvPr/>
        </p:nvCxnSpPr>
        <p:spPr>
          <a:xfrm>
            <a:off x="501948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23" name=""/>
          <p:cNvSpPr/>
          <p:nvPr/>
        </p:nvSpPr>
        <p:spPr>
          <a:xfrm>
            <a:off x="3521160" y="23256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00356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521160" y="18954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400356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7" name=""/>
          <p:cNvCxnSpPr>
            <a:stCxn id="1925" idx="6"/>
            <a:endCxn id="1926" idx="2"/>
          </p:cNvCxnSpPr>
          <p:nvPr/>
        </p:nvCxnSpPr>
        <p:spPr>
          <a:xfrm>
            <a:off x="3629160" y="194292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28" name=""/>
          <p:cNvCxnSpPr>
            <a:stCxn id="1925" idx="4"/>
            <a:endCxn id="1923" idx="0"/>
          </p:cNvCxnSpPr>
          <p:nvPr/>
        </p:nvCxnSpPr>
        <p:spPr>
          <a:xfrm>
            <a:off x="357480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9" name=""/>
          <p:cNvCxnSpPr>
            <a:stCxn id="1923" idx="6"/>
            <a:endCxn id="1924" idx="2"/>
          </p:cNvCxnSpPr>
          <p:nvPr/>
        </p:nvCxnSpPr>
        <p:spPr>
          <a:xfrm>
            <a:off x="3629160" y="2373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0" name=""/>
          <p:cNvCxnSpPr>
            <a:stCxn id="1926" idx="4"/>
            <a:endCxn id="1924" idx="0"/>
          </p:cNvCxnSpPr>
          <p:nvPr/>
        </p:nvCxnSpPr>
        <p:spPr>
          <a:xfrm>
            <a:off x="405576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1" name=""/>
          <p:cNvCxnSpPr>
            <a:stCxn id="1926" idx="6"/>
            <a:endCxn id="1917" idx="2"/>
          </p:cNvCxnSpPr>
          <p:nvPr/>
        </p:nvCxnSpPr>
        <p:spPr>
          <a:xfrm>
            <a:off x="4110120" y="194292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32" name=""/>
          <p:cNvCxnSpPr>
            <a:stCxn id="1924" idx="6"/>
            <a:endCxn id="1915" idx="2"/>
          </p:cNvCxnSpPr>
          <p:nvPr/>
        </p:nvCxnSpPr>
        <p:spPr>
          <a:xfrm>
            <a:off x="4110120" y="2373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3" name=""/>
          <p:cNvCxnSpPr>
            <a:stCxn id="1900" idx="6"/>
            <a:endCxn id="1925" idx="2"/>
          </p:cNvCxnSpPr>
          <p:nvPr/>
        </p:nvCxnSpPr>
        <p:spPr>
          <a:xfrm>
            <a:off x="3146040" y="194292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34" name=""/>
          <p:cNvCxnSpPr>
            <a:stCxn id="1898" idx="6"/>
            <a:endCxn id="1923" idx="2"/>
          </p:cNvCxnSpPr>
          <p:nvPr/>
        </p:nvCxnSpPr>
        <p:spPr>
          <a:xfrm>
            <a:off x="3146040" y="2373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35" name=""/>
          <p:cNvSpPr/>
          <p:nvPr/>
        </p:nvSpPr>
        <p:spPr>
          <a:xfrm>
            <a:off x="550224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983200" y="23256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50224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983200" y="18954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9" name=""/>
          <p:cNvCxnSpPr>
            <a:stCxn id="1937" idx="6"/>
            <a:endCxn id="1938" idx="2"/>
          </p:cNvCxnSpPr>
          <p:nvPr/>
        </p:nvCxnSpPr>
        <p:spPr>
          <a:xfrm>
            <a:off x="5608800" y="1942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0" name=""/>
          <p:cNvCxnSpPr>
            <a:stCxn id="1937" idx="4"/>
            <a:endCxn id="1935" idx="0"/>
          </p:cNvCxnSpPr>
          <p:nvPr/>
        </p:nvCxnSpPr>
        <p:spPr>
          <a:xfrm>
            <a:off x="555588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1" name=""/>
          <p:cNvCxnSpPr>
            <a:stCxn id="1935" idx="6"/>
            <a:endCxn id="1936" idx="2"/>
          </p:cNvCxnSpPr>
          <p:nvPr/>
        </p:nvCxnSpPr>
        <p:spPr>
          <a:xfrm>
            <a:off x="5608800" y="2373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2" name=""/>
          <p:cNvCxnSpPr>
            <a:stCxn id="1938" idx="4"/>
            <a:endCxn id="1936" idx="0"/>
          </p:cNvCxnSpPr>
          <p:nvPr/>
        </p:nvCxnSpPr>
        <p:spPr>
          <a:xfrm>
            <a:off x="603684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3" name=""/>
          <p:cNvCxnSpPr>
            <a:stCxn id="1918" idx="6"/>
            <a:endCxn id="1937" idx="2"/>
          </p:cNvCxnSpPr>
          <p:nvPr/>
        </p:nvCxnSpPr>
        <p:spPr>
          <a:xfrm>
            <a:off x="5073120" y="1942920"/>
            <a:ext cx="429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44" name=""/>
          <p:cNvCxnSpPr>
            <a:stCxn id="1916" idx="6"/>
            <a:endCxn id="1935" idx="2"/>
          </p:cNvCxnSpPr>
          <p:nvPr/>
        </p:nvCxnSpPr>
        <p:spPr>
          <a:xfrm>
            <a:off x="5073120" y="23731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5" name=""/>
          <p:cNvCxnSpPr>
            <a:stCxn id="1905" idx="4"/>
            <a:endCxn id="1859" idx="0"/>
          </p:cNvCxnSpPr>
          <p:nvPr/>
        </p:nvCxnSpPr>
        <p:spPr>
          <a:xfrm>
            <a:off x="164736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6" name=""/>
          <p:cNvCxnSpPr>
            <a:stCxn id="1906" idx="4"/>
            <a:endCxn id="1860" idx="0"/>
          </p:cNvCxnSpPr>
          <p:nvPr/>
        </p:nvCxnSpPr>
        <p:spPr>
          <a:xfrm>
            <a:off x="212832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7" name=""/>
          <p:cNvCxnSpPr>
            <a:stCxn id="1897" idx="4"/>
            <a:endCxn id="1851" idx="0"/>
          </p:cNvCxnSpPr>
          <p:nvPr/>
        </p:nvCxnSpPr>
        <p:spPr>
          <a:xfrm>
            <a:off x="261108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8" name=""/>
          <p:cNvCxnSpPr>
            <a:stCxn id="1898" idx="4"/>
            <a:endCxn id="1852" idx="0"/>
          </p:cNvCxnSpPr>
          <p:nvPr/>
        </p:nvCxnSpPr>
        <p:spPr>
          <a:xfrm>
            <a:off x="309204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9" name=""/>
          <p:cNvCxnSpPr>
            <a:stCxn id="1923" idx="4"/>
            <a:endCxn id="1877" idx="0"/>
          </p:cNvCxnSpPr>
          <p:nvPr/>
        </p:nvCxnSpPr>
        <p:spPr>
          <a:xfrm>
            <a:off x="357480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0" name=""/>
          <p:cNvCxnSpPr>
            <a:stCxn id="1924" idx="4"/>
            <a:endCxn id="1878" idx="0"/>
          </p:cNvCxnSpPr>
          <p:nvPr/>
        </p:nvCxnSpPr>
        <p:spPr>
          <a:xfrm>
            <a:off x="405576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1" name=""/>
          <p:cNvCxnSpPr>
            <a:stCxn id="1915" idx="4"/>
            <a:endCxn id="1869" idx="0"/>
          </p:cNvCxnSpPr>
          <p:nvPr/>
        </p:nvCxnSpPr>
        <p:spPr>
          <a:xfrm>
            <a:off x="453816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2" name=""/>
          <p:cNvCxnSpPr>
            <a:stCxn id="1916" idx="4"/>
            <a:endCxn id="1870" idx="0"/>
          </p:cNvCxnSpPr>
          <p:nvPr/>
        </p:nvCxnSpPr>
        <p:spPr>
          <a:xfrm>
            <a:off x="501948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3" name=""/>
          <p:cNvCxnSpPr>
            <a:stCxn id="1935" idx="4"/>
            <a:endCxn id="1889" idx="0"/>
          </p:cNvCxnSpPr>
          <p:nvPr/>
        </p:nvCxnSpPr>
        <p:spPr>
          <a:xfrm>
            <a:off x="555588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4" name=""/>
          <p:cNvCxnSpPr>
            <a:stCxn id="1936" idx="4"/>
            <a:endCxn id="1890" idx="0"/>
          </p:cNvCxnSpPr>
          <p:nvPr/>
        </p:nvCxnSpPr>
        <p:spPr>
          <a:xfrm>
            <a:off x="603684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5" name=""/>
          <p:cNvCxnSpPr>
            <a:stCxn id="1857" idx="4"/>
            <a:endCxn id="1801" idx="0"/>
          </p:cNvCxnSpPr>
          <p:nvPr/>
        </p:nvCxnSpPr>
        <p:spPr>
          <a:xfrm>
            <a:off x="164736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6" name=""/>
          <p:cNvCxnSpPr>
            <a:stCxn id="1858" idx="4"/>
            <a:endCxn id="1802" idx="0"/>
          </p:cNvCxnSpPr>
          <p:nvPr/>
        </p:nvCxnSpPr>
        <p:spPr>
          <a:xfrm>
            <a:off x="212832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7" name=""/>
          <p:cNvCxnSpPr>
            <a:stCxn id="1849" idx="4"/>
            <a:endCxn id="1793" idx="0"/>
          </p:cNvCxnSpPr>
          <p:nvPr/>
        </p:nvCxnSpPr>
        <p:spPr>
          <a:xfrm>
            <a:off x="261108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8" name=""/>
          <p:cNvCxnSpPr>
            <a:stCxn id="1850" idx="4"/>
            <a:endCxn id="1794" idx="0"/>
          </p:cNvCxnSpPr>
          <p:nvPr/>
        </p:nvCxnSpPr>
        <p:spPr>
          <a:xfrm>
            <a:off x="309204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9" name=""/>
          <p:cNvCxnSpPr>
            <a:stCxn id="1875" idx="4"/>
            <a:endCxn id="1819" idx="0"/>
          </p:cNvCxnSpPr>
          <p:nvPr/>
        </p:nvCxnSpPr>
        <p:spPr>
          <a:xfrm>
            <a:off x="357480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0" name=""/>
          <p:cNvCxnSpPr>
            <a:stCxn id="1876" idx="4"/>
            <a:endCxn id="1820" idx="0"/>
          </p:cNvCxnSpPr>
          <p:nvPr/>
        </p:nvCxnSpPr>
        <p:spPr>
          <a:xfrm>
            <a:off x="405576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1" name=""/>
          <p:cNvCxnSpPr>
            <a:stCxn id="1867" idx="4"/>
            <a:endCxn id="1811" idx="0"/>
          </p:cNvCxnSpPr>
          <p:nvPr/>
        </p:nvCxnSpPr>
        <p:spPr>
          <a:xfrm>
            <a:off x="453816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2" name=""/>
          <p:cNvCxnSpPr>
            <a:stCxn id="1868" idx="4"/>
            <a:endCxn id="1812" idx="0"/>
          </p:cNvCxnSpPr>
          <p:nvPr/>
        </p:nvCxnSpPr>
        <p:spPr>
          <a:xfrm>
            <a:off x="501948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3" name=""/>
          <p:cNvCxnSpPr>
            <a:stCxn id="1887" idx="4"/>
            <a:endCxn id="1831" idx="0"/>
          </p:cNvCxnSpPr>
          <p:nvPr/>
        </p:nvCxnSpPr>
        <p:spPr>
          <a:xfrm>
            <a:off x="555588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4" name=""/>
          <p:cNvCxnSpPr>
            <a:stCxn id="1888" idx="4"/>
            <a:endCxn id="1832" idx="0"/>
          </p:cNvCxnSpPr>
          <p:nvPr/>
        </p:nvCxnSpPr>
        <p:spPr>
          <a:xfrm>
            <a:off x="603684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65" name=""/>
          <p:cNvSpPr/>
          <p:nvPr/>
        </p:nvSpPr>
        <p:spPr>
          <a:xfrm>
            <a:off x="2560680" y="57625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3043080" y="57625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7" name=""/>
          <p:cNvCxnSpPr>
            <a:stCxn id="1965" idx="6"/>
            <a:endCxn id="1966" idx="2"/>
          </p:cNvCxnSpPr>
          <p:nvPr/>
        </p:nvCxnSpPr>
        <p:spPr>
          <a:xfrm>
            <a:off x="2668680" y="58100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68" name=""/>
          <p:cNvSpPr/>
          <p:nvPr/>
        </p:nvSpPr>
        <p:spPr>
          <a:xfrm>
            <a:off x="1596960" y="5762520"/>
            <a:ext cx="108000" cy="954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2079720" y="57625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0" name=""/>
          <p:cNvCxnSpPr>
            <a:stCxn id="1968" idx="6"/>
            <a:endCxn id="1969" idx="2"/>
          </p:cNvCxnSpPr>
          <p:nvPr/>
        </p:nvCxnSpPr>
        <p:spPr>
          <a:xfrm>
            <a:off x="170460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1" name=""/>
          <p:cNvCxnSpPr>
            <a:stCxn id="1969" idx="6"/>
            <a:endCxn id="1965" idx="2"/>
          </p:cNvCxnSpPr>
          <p:nvPr/>
        </p:nvCxnSpPr>
        <p:spPr>
          <a:xfrm>
            <a:off x="218556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72" name=""/>
          <p:cNvSpPr/>
          <p:nvPr/>
        </p:nvSpPr>
        <p:spPr>
          <a:xfrm>
            <a:off x="4487760" y="57625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4970520" y="57625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4" name=""/>
          <p:cNvCxnSpPr>
            <a:stCxn id="1972" idx="6"/>
            <a:endCxn id="1973" idx="2"/>
          </p:cNvCxnSpPr>
          <p:nvPr/>
        </p:nvCxnSpPr>
        <p:spPr>
          <a:xfrm>
            <a:off x="459540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75" name=""/>
          <p:cNvSpPr/>
          <p:nvPr/>
        </p:nvSpPr>
        <p:spPr>
          <a:xfrm>
            <a:off x="3524400" y="576252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4006800" y="57625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7" name=""/>
          <p:cNvCxnSpPr>
            <a:stCxn id="1975" idx="6"/>
            <a:endCxn id="1976" idx="2"/>
          </p:cNvCxnSpPr>
          <p:nvPr/>
        </p:nvCxnSpPr>
        <p:spPr>
          <a:xfrm>
            <a:off x="363168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8" name=""/>
          <p:cNvCxnSpPr>
            <a:stCxn id="1976" idx="6"/>
            <a:endCxn id="1972" idx="2"/>
          </p:cNvCxnSpPr>
          <p:nvPr/>
        </p:nvCxnSpPr>
        <p:spPr>
          <a:xfrm>
            <a:off x="4113360" y="58100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9" name=""/>
          <p:cNvCxnSpPr>
            <a:stCxn id="1966" idx="6"/>
            <a:endCxn id="1975" idx="2"/>
          </p:cNvCxnSpPr>
          <p:nvPr/>
        </p:nvCxnSpPr>
        <p:spPr>
          <a:xfrm>
            <a:off x="314928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80" name=""/>
          <p:cNvSpPr/>
          <p:nvPr/>
        </p:nvSpPr>
        <p:spPr>
          <a:xfrm>
            <a:off x="5505480" y="57625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5987880" y="57625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2" name=""/>
          <p:cNvCxnSpPr>
            <a:stCxn id="1980" idx="6"/>
            <a:endCxn id="1981" idx="2"/>
          </p:cNvCxnSpPr>
          <p:nvPr/>
        </p:nvCxnSpPr>
        <p:spPr>
          <a:xfrm>
            <a:off x="5611320" y="581004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3" name=""/>
          <p:cNvCxnSpPr>
            <a:stCxn id="1973" idx="6"/>
            <a:endCxn id="1980" idx="2"/>
          </p:cNvCxnSpPr>
          <p:nvPr/>
        </p:nvCxnSpPr>
        <p:spPr>
          <a:xfrm>
            <a:off x="5076360" y="581004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84" name=""/>
          <p:cNvSpPr/>
          <p:nvPr/>
        </p:nvSpPr>
        <p:spPr>
          <a:xfrm>
            <a:off x="2560680" y="53323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3043080" y="53323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560680" y="49039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3043080" y="49039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8" name=""/>
          <p:cNvCxnSpPr>
            <a:stCxn id="1986" idx="6"/>
            <a:endCxn id="1987" idx="2"/>
          </p:cNvCxnSpPr>
          <p:nvPr/>
        </p:nvCxnSpPr>
        <p:spPr>
          <a:xfrm>
            <a:off x="2668680" y="49510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9" name=""/>
          <p:cNvCxnSpPr>
            <a:stCxn id="1986" idx="4"/>
            <a:endCxn id="1984" idx="0"/>
          </p:cNvCxnSpPr>
          <p:nvPr/>
        </p:nvCxnSpPr>
        <p:spPr>
          <a:xfrm>
            <a:off x="261432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0" name=""/>
          <p:cNvCxnSpPr>
            <a:stCxn id="1984" idx="6"/>
            <a:endCxn id="1985" idx="2"/>
          </p:cNvCxnSpPr>
          <p:nvPr/>
        </p:nvCxnSpPr>
        <p:spPr>
          <a:xfrm>
            <a:off x="2668680" y="53798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1" name=""/>
          <p:cNvCxnSpPr>
            <a:stCxn id="1987" idx="4"/>
            <a:endCxn id="1985" idx="0"/>
          </p:cNvCxnSpPr>
          <p:nvPr/>
        </p:nvCxnSpPr>
        <p:spPr>
          <a:xfrm>
            <a:off x="309528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2" name=""/>
          <p:cNvSpPr/>
          <p:nvPr/>
        </p:nvSpPr>
        <p:spPr>
          <a:xfrm>
            <a:off x="1596960" y="53323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2079720" y="53323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1596960" y="49039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079720" y="49039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6" name=""/>
          <p:cNvCxnSpPr>
            <a:stCxn id="1994" idx="6"/>
            <a:endCxn id="1995" idx="2"/>
          </p:cNvCxnSpPr>
          <p:nvPr/>
        </p:nvCxnSpPr>
        <p:spPr>
          <a:xfrm>
            <a:off x="170460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7" name=""/>
          <p:cNvCxnSpPr>
            <a:stCxn id="1994" idx="4"/>
            <a:endCxn id="1992" idx="0"/>
          </p:cNvCxnSpPr>
          <p:nvPr/>
        </p:nvCxnSpPr>
        <p:spPr>
          <a:xfrm>
            <a:off x="165060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8" name=""/>
          <p:cNvCxnSpPr>
            <a:stCxn id="1992" idx="6"/>
            <a:endCxn id="1993" idx="2"/>
          </p:cNvCxnSpPr>
          <p:nvPr/>
        </p:nvCxnSpPr>
        <p:spPr>
          <a:xfrm>
            <a:off x="170460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9" name=""/>
          <p:cNvCxnSpPr>
            <a:stCxn id="1995" idx="4"/>
            <a:endCxn id="1993" idx="0"/>
          </p:cNvCxnSpPr>
          <p:nvPr/>
        </p:nvCxnSpPr>
        <p:spPr>
          <a:xfrm>
            <a:off x="213156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0" name=""/>
          <p:cNvCxnSpPr>
            <a:stCxn id="1995" idx="6"/>
            <a:endCxn id="1986" idx="2"/>
          </p:cNvCxnSpPr>
          <p:nvPr/>
        </p:nvCxnSpPr>
        <p:spPr>
          <a:xfrm>
            <a:off x="218556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1" name=""/>
          <p:cNvCxnSpPr>
            <a:stCxn id="1993" idx="6"/>
            <a:endCxn id="1984" idx="2"/>
          </p:cNvCxnSpPr>
          <p:nvPr/>
        </p:nvCxnSpPr>
        <p:spPr>
          <a:xfrm>
            <a:off x="218556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02" name=""/>
          <p:cNvSpPr/>
          <p:nvPr/>
        </p:nvSpPr>
        <p:spPr>
          <a:xfrm>
            <a:off x="4487760" y="53323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4970520" y="53323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4487760" y="49039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4970520" y="49039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6" name=""/>
          <p:cNvCxnSpPr>
            <a:stCxn id="2004" idx="6"/>
            <a:endCxn id="2005" idx="2"/>
          </p:cNvCxnSpPr>
          <p:nvPr/>
        </p:nvCxnSpPr>
        <p:spPr>
          <a:xfrm>
            <a:off x="459540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7" name=""/>
          <p:cNvCxnSpPr>
            <a:stCxn id="2004" idx="4"/>
            <a:endCxn id="2002" idx="0"/>
          </p:cNvCxnSpPr>
          <p:nvPr/>
        </p:nvCxnSpPr>
        <p:spPr>
          <a:xfrm>
            <a:off x="454140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8" name=""/>
          <p:cNvCxnSpPr>
            <a:stCxn id="2002" idx="6"/>
            <a:endCxn id="2003" idx="2"/>
          </p:cNvCxnSpPr>
          <p:nvPr/>
        </p:nvCxnSpPr>
        <p:spPr>
          <a:xfrm>
            <a:off x="459540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9" name=""/>
          <p:cNvCxnSpPr>
            <a:stCxn id="2005" idx="4"/>
            <a:endCxn id="2003" idx="0"/>
          </p:cNvCxnSpPr>
          <p:nvPr/>
        </p:nvCxnSpPr>
        <p:spPr>
          <a:xfrm>
            <a:off x="502416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10" name=""/>
          <p:cNvSpPr/>
          <p:nvPr/>
        </p:nvSpPr>
        <p:spPr>
          <a:xfrm>
            <a:off x="3524400" y="533232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4006800" y="53323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3524400" y="490392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4006800" y="49039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4" name=""/>
          <p:cNvCxnSpPr>
            <a:stCxn id="2012" idx="6"/>
            <a:endCxn id="2013" idx="2"/>
          </p:cNvCxnSpPr>
          <p:nvPr/>
        </p:nvCxnSpPr>
        <p:spPr>
          <a:xfrm>
            <a:off x="363168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5" name=""/>
          <p:cNvCxnSpPr>
            <a:stCxn id="2012" idx="4"/>
            <a:endCxn id="2010" idx="0"/>
          </p:cNvCxnSpPr>
          <p:nvPr/>
        </p:nvCxnSpPr>
        <p:spPr>
          <a:xfrm>
            <a:off x="357804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6" name=""/>
          <p:cNvCxnSpPr>
            <a:stCxn id="2010" idx="6"/>
            <a:endCxn id="2011" idx="2"/>
          </p:cNvCxnSpPr>
          <p:nvPr/>
        </p:nvCxnSpPr>
        <p:spPr>
          <a:xfrm>
            <a:off x="363168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7" name=""/>
          <p:cNvCxnSpPr>
            <a:stCxn id="2013" idx="4"/>
            <a:endCxn id="2011" idx="0"/>
          </p:cNvCxnSpPr>
          <p:nvPr/>
        </p:nvCxnSpPr>
        <p:spPr>
          <a:xfrm>
            <a:off x="405900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8" name=""/>
          <p:cNvCxnSpPr>
            <a:stCxn id="2013" idx="6"/>
            <a:endCxn id="2004" idx="2"/>
          </p:cNvCxnSpPr>
          <p:nvPr/>
        </p:nvCxnSpPr>
        <p:spPr>
          <a:xfrm>
            <a:off x="4113360" y="49510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9" name=""/>
          <p:cNvCxnSpPr>
            <a:stCxn id="2011" idx="6"/>
            <a:endCxn id="2002" idx="2"/>
          </p:cNvCxnSpPr>
          <p:nvPr/>
        </p:nvCxnSpPr>
        <p:spPr>
          <a:xfrm>
            <a:off x="4113360" y="53798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0" name=""/>
          <p:cNvCxnSpPr>
            <a:stCxn id="1987" idx="6"/>
            <a:endCxn id="2012" idx="2"/>
          </p:cNvCxnSpPr>
          <p:nvPr/>
        </p:nvCxnSpPr>
        <p:spPr>
          <a:xfrm>
            <a:off x="314928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1" name=""/>
          <p:cNvCxnSpPr>
            <a:stCxn id="1985" idx="6"/>
            <a:endCxn id="2010" idx="2"/>
          </p:cNvCxnSpPr>
          <p:nvPr/>
        </p:nvCxnSpPr>
        <p:spPr>
          <a:xfrm>
            <a:off x="314928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2" name=""/>
          <p:cNvSpPr/>
          <p:nvPr/>
        </p:nvSpPr>
        <p:spPr>
          <a:xfrm>
            <a:off x="5505480" y="53323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5987880" y="53323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5505480" y="49039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5987880" y="49039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6" name=""/>
          <p:cNvCxnSpPr>
            <a:stCxn id="2024" idx="6"/>
            <a:endCxn id="2025" idx="2"/>
          </p:cNvCxnSpPr>
          <p:nvPr/>
        </p:nvCxnSpPr>
        <p:spPr>
          <a:xfrm>
            <a:off x="5611320" y="49510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7" name=""/>
          <p:cNvCxnSpPr>
            <a:stCxn id="2024" idx="4"/>
            <a:endCxn id="2022" idx="0"/>
          </p:cNvCxnSpPr>
          <p:nvPr/>
        </p:nvCxnSpPr>
        <p:spPr>
          <a:xfrm>
            <a:off x="555912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8" name=""/>
          <p:cNvCxnSpPr>
            <a:stCxn id="2022" idx="6"/>
            <a:endCxn id="2023" idx="2"/>
          </p:cNvCxnSpPr>
          <p:nvPr/>
        </p:nvCxnSpPr>
        <p:spPr>
          <a:xfrm>
            <a:off x="5611320" y="537984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9" name=""/>
          <p:cNvCxnSpPr>
            <a:stCxn id="2025" idx="4"/>
            <a:endCxn id="2023" idx="0"/>
          </p:cNvCxnSpPr>
          <p:nvPr/>
        </p:nvCxnSpPr>
        <p:spPr>
          <a:xfrm>
            <a:off x="604008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0" name=""/>
          <p:cNvCxnSpPr>
            <a:stCxn id="2005" idx="6"/>
            <a:endCxn id="2024" idx="2"/>
          </p:cNvCxnSpPr>
          <p:nvPr/>
        </p:nvCxnSpPr>
        <p:spPr>
          <a:xfrm>
            <a:off x="5076360" y="495108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1" name=""/>
          <p:cNvCxnSpPr>
            <a:stCxn id="2003" idx="6"/>
            <a:endCxn id="2022" idx="2"/>
          </p:cNvCxnSpPr>
          <p:nvPr/>
        </p:nvCxnSpPr>
        <p:spPr>
          <a:xfrm>
            <a:off x="5076360" y="537984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2" name=""/>
          <p:cNvCxnSpPr>
            <a:stCxn id="1992" idx="4"/>
            <a:endCxn id="1968" idx="0"/>
          </p:cNvCxnSpPr>
          <p:nvPr/>
        </p:nvCxnSpPr>
        <p:spPr>
          <a:xfrm>
            <a:off x="165060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3" name=""/>
          <p:cNvCxnSpPr>
            <a:stCxn id="1993" idx="4"/>
            <a:endCxn id="1969" idx="0"/>
          </p:cNvCxnSpPr>
          <p:nvPr/>
        </p:nvCxnSpPr>
        <p:spPr>
          <a:xfrm>
            <a:off x="213156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4" name=""/>
          <p:cNvCxnSpPr>
            <a:stCxn id="1984" idx="4"/>
            <a:endCxn id="1965" idx="0"/>
          </p:cNvCxnSpPr>
          <p:nvPr/>
        </p:nvCxnSpPr>
        <p:spPr>
          <a:xfrm>
            <a:off x="261432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5" name=""/>
          <p:cNvCxnSpPr>
            <a:stCxn id="1985" idx="4"/>
            <a:endCxn id="1966" idx="0"/>
          </p:cNvCxnSpPr>
          <p:nvPr/>
        </p:nvCxnSpPr>
        <p:spPr>
          <a:xfrm>
            <a:off x="309528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6" name=""/>
          <p:cNvCxnSpPr>
            <a:stCxn id="2010" idx="4"/>
            <a:endCxn id="1975" idx="0"/>
          </p:cNvCxnSpPr>
          <p:nvPr/>
        </p:nvCxnSpPr>
        <p:spPr>
          <a:xfrm>
            <a:off x="357804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7" name=""/>
          <p:cNvCxnSpPr>
            <a:stCxn id="2011" idx="4"/>
            <a:endCxn id="1976" idx="0"/>
          </p:cNvCxnSpPr>
          <p:nvPr/>
        </p:nvCxnSpPr>
        <p:spPr>
          <a:xfrm>
            <a:off x="405900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8" name=""/>
          <p:cNvCxnSpPr>
            <a:stCxn id="2002" idx="4"/>
            <a:endCxn id="1972" idx="0"/>
          </p:cNvCxnSpPr>
          <p:nvPr/>
        </p:nvCxnSpPr>
        <p:spPr>
          <a:xfrm>
            <a:off x="454140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9" name=""/>
          <p:cNvCxnSpPr>
            <a:stCxn id="2003" idx="4"/>
            <a:endCxn id="1973" idx="0"/>
          </p:cNvCxnSpPr>
          <p:nvPr/>
        </p:nvCxnSpPr>
        <p:spPr>
          <a:xfrm>
            <a:off x="502416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0" name=""/>
          <p:cNvCxnSpPr>
            <a:stCxn id="2022" idx="4"/>
            <a:endCxn id="1980" idx="0"/>
          </p:cNvCxnSpPr>
          <p:nvPr/>
        </p:nvCxnSpPr>
        <p:spPr>
          <a:xfrm>
            <a:off x="555912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1" name=""/>
          <p:cNvCxnSpPr>
            <a:stCxn id="2023" idx="4"/>
            <a:endCxn id="1981" idx="0"/>
          </p:cNvCxnSpPr>
          <p:nvPr/>
        </p:nvCxnSpPr>
        <p:spPr>
          <a:xfrm>
            <a:off x="604008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42" name=""/>
          <p:cNvSpPr/>
          <p:nvPr/>
        </p:nvSpPr>
        <p:spPr>
          <a:xfrm>
            <a:off x="2771640" y="57625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252960" y="5762520"/>
            <a:ext cx="16164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373536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421812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469908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181480" y="57625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5716440" y="57625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289240" y="576252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180828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2771640" y="44737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3252960" y="4473720"/>
            <a:ext cx="16164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373536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421812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469908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5181480" y="44737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5716440" y="44737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2289240" y="447372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180828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2771640" y="318456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3252960" y="3184560"/>
            <a:ext cx="16164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3735360" y="318456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4218120" y="318456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4699080" y="318456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5181480" y="318456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5716440" y="318456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2289240" y="3184560"/>
            <a:ext cx="1620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1808280" y="3184560"/>
            <a:ext cx="160200" cy="0"/>
          </a:xfrm>
          <a:prstGeom prst="line">
            <a:avLst/>
          </a:prstGeom>
          <a:ln w="9360">
            <a:solidFill>
              <a:srgbClr val="0000cc">
                <a:alpha val="5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2771640" y="189540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3252960" y="1895400"/>
            <a:ext cx="16164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373536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421812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469908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5181480" y="189540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5716440" y="189540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2289240" y="1895400"/>
            <a:ext cx="1620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180828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V="1">
            <a:off x="1700280" y="423504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 flipV="1">
            <a:off x="1700280" y="380484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1700280" y="337464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1700280" y="2945880"/>
            <a:ext cx="0" cy="142920"/>
          </a:xfrm>
          <a:prstGeom prst="line">
            <a:avLst/>
          </a:prstGeom>
          <a:ln w="9360">
            <a:solidFill>
              <a:srgbClr val="0000cc">
                <a:alpha val="5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1700280" y="2515680"/>
            <a:ext cx="0" cy="142920"/>
          </a:xfrm>
          <a:prstGeom prst="line">
            <a:avLst/>
          </a:prstGeom>
          <a:ln w="9360">
            <a:solidFill>
              <a:srgbClr val="0000cc">
                <a:alpha val="5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1700280" y="2037960"/>
            <a:ext cx="0" cy="14292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 flipV="1">
            <a:off x="1700280" y="5522760"/>
            <a:ext cx="0" cy="1447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 flipV="1">
            <a:off x="1700280" y="509400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flipV="1">
            <a:off x="1700280" y="466380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860040" y="571176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8" name=""/>
          <p:cNvGrpSpPr/>
          <p:nvPr/>
        </p:nvGrpSpPr>
        <p:grpSpPr>
          <a:xfrm>
            <a:off x="4618080" y="2075040"/>
            <a:ext cx="0" cy="3628440"/>
            <a:chOff x="4618080" y="2075040"/>
            <a:chExt cx="0" cy="3628440"/>
          </a:xfrm>
        </p:grpSpPr>
        <p:sp>
          <p:nvSpPr>
            <p:cNvPr id="2089" name=""/>
            <p:cNvSpPr/>
            <p:nvPr/>
          </p:nvSpPr>
          <p:spPr>
            <a:xfrm flipV="1">
              <a:off x="4618080" y="427212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4618080" y="384192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4618080" y="341172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V="1">
              <a:off x="4618080" y="298260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4618080" y="255240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V="1">
              <a:off x="4618080" y="207504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V="1">
              <a:off x="4618080" y="5559120"/>
              <a:ext cx="0" cy="1443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4618080" y="513036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V="1">
              <a:off x="4618080" y="470016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8" name=""/>
          <p:cNvSpPr/>
          <p:nvPr/>
        </p:nvSpPr>
        <p:spPr>
          <a:xfrm>
            <a:off x="1346040" y="2433600"/>
            <a:ext cx="81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3625920" y="2472840"/>
            <a:ext cx="0" cy="2769120"/>
            <a:chOff x="3625920" y="2472840"/>
            <a:chExt cx="0" cy="2769120"/>
          </a:xfrm>
        </p:grpSpPr>
        <p:sp>
          <p:nvSpPr>
            <p:cNvPr id="2100" name=""/>
            <p:cNvSpPr/>
            <p:nvPr/>
          </p:nvSpPr>
          <p:spPr>
            <a:xfrm>
              <a:off x="3625920" y="467028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625920" y="424008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V="1">
              <a:off x="3625920" y="380952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V="1">
              <a:off x="3625920" y="338112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V="1">
              <a:off x="3625920" y="295092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3625920" y="247284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625920" y="509904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7" name=""/>
          <p:cNvSpPr/>
          <p:nvPr/>
        </p:nvSpPr>
        <p:spPr>
          <a:xfrm>
            <a:off x="3616920" y="37479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8" name=""/>
          <p:cNvGrpSpPr/>
          <p:nvPr/>
        </p:nvGrpSpPr>
        <p:grpSpPr>
          <a:xfrm>
            <a:off x="1773000" y="3298680"/>
            <a:ext cx="4090680" cy="12600"/>
            <a:chOff x="1773000" y="3298680"/>
            <a:chExt cx="4090680" cy="12600"/>
          </a:xfrm>
        </p:grpSpPr>
        <p:grpSp>
          <p:nvGrpSpPr>
            <p:cNvPr id="2109" name=""/>
            <p:cNvGrpSpPr/>
            <p:nvPr/>
          </p:nvGrpSpPr>
          <p:grpSpPr>
            <a:xfrm>
              <a:off x="4743000" y="3309840"/>
              <a:ext cx="1120680" cy="1440"/>
              <a:chOff x="4743000" y="3309840"/>
              <a:chExt cx="1120680" cy="1440"/>
            </a:xfrm>
          </p:grpSpPr>
          <p:sp>
            <p:nvSpPr>
              <p:cNvPr id="2110" name=""/>
              <p:cNvSpPr/>
              <p:nvPr/>
            </p:nvSpPr>
            <p:spPr>
              <a:xfrm>
                <a:off x="4743000" y="3309840"/>
                <a:ext cx="16164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223960" y="330984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703480" y="331128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3" name=""/>
            <p:cNvGrpSpPr/>
            <p:nvPr/>
          </p:nvGrpSpPr>
          <p:grpSpPr>
            <a:xfrm>
              <a:off x="1773000" y="3298680"/>
              <a:ext cx="2563920" cy="0"/>
              <a:chOff x="1773000" y="3298680"/>
              <a:chExt cx="2563920" cy="0"/>
            </a:xfrm>
          </p:grpSpPr>
          <p:sp>
            <p:nvSpPr>
              <p:cNvPr id="2114" name=""/>
              <p:cNvSpPr/>
              <p:nvPr/>
            </p:nvSpPr>
            <p:spPr>
              <a:xfrm flipH="1">
                <a:off x="273492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flipH="1">
                <a:off x="225396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H="1">
                <a:off x="177300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H="1">
                <a:off x="4175640" y="3298680"/>
                <a:ext cx="1612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H="1">
                <a:off x="369576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H="1">
                <a:off x="321444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0" name=""/>
          <p:cNvGrpSpPr/>
          <p:nvPr/>
        </p:nvGrpSpPr>
        <p:grpSpPr>
          <a:xfrm>
            <a:off x="1766520" y="2009880"/>
            <a:ext cx="4090680" cy="12600"/>
            <a:chOff x="1766520" y="2009880"/>
            <a:chExt cx="4090680" cy="12600"/>
          </a:xfrm>
        </p:grpSpPr>
        <p:grpSp>
          <p:nvGrpSpPr>
            <p:cNvPr id="2121" name=""/>
            <p:cNvGrpSpPr/>
            <p:nvPr/>
          </p:nvGrpSpPr>
          <p:grpSpPr>
            <a:xfrm>
              <a:off x="4736520" y="2021040"/>
              <a:ext cx="1120680" cy="1440"/>
              <a:chOff x="4736520" y="2021040"/>
              <a:chExt cx="1120680" cy="1440"/>
            </a:xfrm>
          </p:grpSpPr>
          <p:sp>
            <p:nvSpPr>
              <p:cNvPr id="2122" name=""/>
              <p:cNvSpPr/>
              <p:nvPr/>
            </p:nvSpPr>
            <p:spPr>
              <a:xfrm>
                <a:off x="4736520" y="2021040"/>
                <a:ext cx="16164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217480" y="202104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5697000" y="202248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5" name=""/>
            <p:cNvGrpSpPr/>
            <p:nvPr/>
          </p:nvGrpSpPr>
          <p:grpSpPr>
            <a:xfrm>
              <a:off x="1766520" y="2009880"/>
              <a:ext cx="2563920" cy="0"/>
              <a:chOff x="1766520" y="2009880"/>
              <a:chExt cx="2563920" cy="0"/>
            </a:xfrm>
          </p:grpSpPr>
          <p:sp>
            <p:nvSpPr>
              <p:cNvPr id="2126" name=""/>
              <p:cNvSpPr/>
              <p:nvPr/>
            </p:nvSpPr>
            <p:spPr>
              <a:xfrm flipH="1">
                <a:off x="272844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H="1">
                <a:off x="224748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H="1">
                <a:off x="176652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flipH="1">
                <a:off x="4169160" y="2009880"/>
                <a:ext cx="1612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H="1">
                <a:off x="368928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H="1">
                <a:off x="320796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2" name=""/>
          <p:cNvSpPr/>
          <p:nvPr/>
        </p:nvSpPr>
        <p:spPr>
          <a:xfrm>
            <a:off x="6550200" y="250668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versify 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atially us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een ar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122C-CD37-400B-B9A1-44C8E3CB9E9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Random Network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geographical flo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les and combs have certain wid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5" name=""/>
          <p:cNvGrpSpPr/>
          <p:nvPr/>
        </p:nvGrpSpPr>
        <p:grpSpPr>
          <a:xfrm>
            <a:off x="2109960" y="2705040"/>
            <a:ext cx="4926960" cy="3672000"/>
            <a:chOff x="2109960" y="2705040"/>
            <a:chExt cx="4926960" cy="3672000"/>
          </a:xfrm>
        </p:grpSpPr>
        <p:sp>
          <p:nvSpPr>
            <p:cNvPr id="2136" name=""/>
            <p:cNvSpPr/>
            <p:nvPr/>
          </p:nvSpPr>
          <p:spPr>
            <a:xfrm>
              <a:off x="2297520" y="3587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503240" y="3866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766600" y="40064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362480" y="4796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203560" y="40993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925520" y="42850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427080" y="52149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582520" y="48895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330000" y="50756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878360" y="51220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658320" y="526140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582520" y="53078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4127760" y="54475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550040" y="5261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893040" y="4610520"/>
              <a:ext cx="9396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438280" y="48895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001320" y="4703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907360" y="54475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799080" y="3587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159880" y="40528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098760" y="4517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051600" y="41922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517560" y="39600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770080" y="358776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019120" y="32162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939840" y="40064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878360" y="36345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723280" y="4145760"/>
              <a:ext cx="9396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333480" y="38203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203560" y="47034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250720" y="5354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330000" y="53546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127760" y="4703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145560" y="56797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67300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799080" y="3216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095280" y="40528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644000" y="48430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066280" y="4703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391480" y="43783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690800" y="4517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6849360" y="50756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910840" y="498240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987000" y="493596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301000" y="51685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174560" y="57261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770080" y="56332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831560" y="57261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615000" y="46105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268520" y="42390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673000" y="5075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330000" y="46573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517560" y="567972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362480" y="34484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394960" y="45640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427080" y="49824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661800" y="42390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517560" y="433188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770080" y="382032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20704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441760" y="43783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427080" y="47034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567840" y="39600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673000" y="4796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579040" y="56332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615000" y="54939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615000" y="37274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38028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676480" y="451764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051600" y="3587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286320" y="34948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766600" y="37274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09528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766600" y="44247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286320" y="27979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611520" y="28443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441760" y="28908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362480" y="28908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766600" y="30301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109960" y="2937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095280" y="28908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958000" y="30301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080600" y="2937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629320" y="3216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456080" y="29836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095280" y="33091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438280" y="3216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474240" y="3076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4" name="" descr=""/>
            <p:cNvPicPr/>
            <p:nvPr/>
          </p:nvPicPr>
          <p:blipFill>
            <a:blip r:embed="rId1"/>
            <a:stretch/>
          </p:blipFill>
          <p:spPr>
            <a:xfrm>
              <a:off x="2532240" y="3123360"/>
              <a:ext cx="509040" cy="5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5" name="" descr=""/>
            <p:cNvPicPr/>
            <p:nvPr/>
          </p:nvPicPr>
          <p:blipFill>
            <a:blip r:embed="rId2"/>
            <a:stretch/>
          </p:blipFill>
          <p:spPr>
            <a:xfrm rot="21063600">
              <a:off x="3141720" y="5074920"/>
              <a:ext cx="563040" cy="54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6" name="" descr=""/>
            <p:cNvPicPr/>
            <p:nvPr/>
          </p:nvPicPr>
          <p:blipFill>
            <a:blip r:embed="rId3"/>
            <a:stretch/>
          </p:blipFill>
          <p:spPr>
            <a:xfrm rot="21063600">
              <a:off x="5675760" y="4005720"/>
              <a:ext cx="563040" cy="54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7" name=""/>
            <p:cNvSpPr/>
            <p:nvPr/>
          </p:nvSpPr>
          <p:spPr>
            <a:xfrm>
              <a:off x="2719800" y="3681000"/>
              <a:ext cx="46440" cy="9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813760" y="3820320"/>
              <a:ext cx="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813760" y="4145760"/>
              <a:ext cx="0" cy="2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2954520" y="3355200"/>
              <a:ext cx="14076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3095280" y="2983320"/>
              <a:ext cx="46800" cy="2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3188880" y="3634200"/>
              <a:ext cx="56304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V="1">
              <a:off x="3939840" y="3494520"/>
              <a:ext cx="42228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503240" y="3541680"/>
              <a:ext cx="37512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019120" y="36810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V="1">
              <a:off x="5441760" y="3634200"/>
              <a:ext cx="28152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910840" y="3634560"/>
              <a:ext cx="9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6145560" y="3587400"/>
              <a:ext cx="18756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H="1">
              <a:off x="2766600" y="4517640"/>
              <a:ext cx="46800" cy="2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719800" y="4935960"/>
              <a:ext cx="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2673000" y="5307840"/>
              <a:ext cx="468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2813760" y="4796640"/>
              <a:ext cx="14076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3142440" y="47502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3517560" y="4657320"/>
              <a:ext cx="37512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3987000" y="4703400"/>
              <a:ext cx="14076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221720" y="479664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503240" y="4843080"/>
              <a:ext cx="14076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4737600" y="4796640"/>
              <a:ext cx="28152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207040" y="4796640"/>
              <a:ext cx="32832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629320" y="4935960"/>
              <a:ext cx="28152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98760" y="5028840"/>
              <a:ext cx="32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H="1">
              <a:off x="3564720" y="4610520"/>
              <a:ext cx="281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H="1">
              <a:off x="5394960" y="3541680"/>
              <a:ext cx="281520" cy="46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H="1" flipV="1">
              <a:off x="5628960" y="4842720"/>
              <a:ext cx="234360" cy="46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V="1">
              <a:off x="3752280" y="5028840"/>
              <a:ext cx="234720" cy="18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 flipV="1">
              <a:off x="3939840" y="4749840"/>
              <a:ext cx="46800" cy="13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H="1" flipV="1">
              <a:off x="3657960" y="4424400"/>
              <a:ext cx="187560" cy="13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>
              <a:off x="3611160" y="5400720"/>
              <a:ext cx="93960" cy="23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770080" y="4610520"/>
              <a:ext cx="93600" cy="232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 flipH="1">
              <a:off x="5723280" y="4285080"/>
              <a:ext cx="46800" cy="18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 flipV="1">
              <a:off x="5770080" y="3913200"/>
              <a:ext cx="46800" cy="13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 flipV="1">
              <a:off x="5817240" y="3681000"/>
              <a:ext cx="0" cy="92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470760" y="4239000"/>
              <a:ext cx="609840" cy="153396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488560" y="3541680"/>
              <a:ext cx="609840" cy="153396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485080" y="4564080"/>
              <a:ext cx="4551840" cy="4183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485080" y="3402000"/>
              <a:ext cx="4551840" cy="4183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673000" y="2705040"/>
              <a:ext cx="563040" cy="367200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BDCC-3D1F-4EC5-9D31-0567DF4CAD1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imple, reliable, and efficient</a:t>
            </a: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 on-demand information discovery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1F43-9AEE-4EB2-950A-DA0FEB0192E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imulation Using Prowler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mod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ion model: Threshol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layer: Simulates Berkeley Motes’ C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efault radio mod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45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02,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05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0" name="" descr=""/>
          <p:cNvPicPr/>
          <p:nvPr/>
        </p:nvPicPr>
        <p:blipFill>
          <a:blip r:embed="rId1"/>
          <a:stretch/>
        </p:blipFill>
        <p:spPr>
          <a:xfrm>
            <a:off x="2050920" y="2195640"/>
            <a:ext cx="5265720" cy="88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B8B-B89B-4902-83F6-B6CE7E8F212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wo Experime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optimal spacing of the comb &amp; needle length given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obustness of the protocol in a really sparse net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3" name="" descr=""/>
          <p:cNvPicPr/>
          <p:nvPr/>
        </p:nvPicPr>
        <p:blipFill>
          <a:blip r:embed="rId1"/>
          <a:stretch/>
        </p:blipFill>
        <p:spPr>
          <a:xfrm>
            <a:off x="3938760" y="2560680"/>
            <a:ext cx="1779480" cy="1341360"/>
          </a:xfrm>
          <a:prstGeom prst="rect">
            <a:avLst/>
          </a:prstGeom>
          <a:ln w="0">
            <a:noFill/>
          </a:ln>
        </p:spPr>
      </p:pic>
      <p:pic>
        <p:nvPicPr>
          <p:cNvPr id="2274" name="" descr=""/>
          <p:cNvPicPr/>
          <p:nvPr/>
        </p:nvPicPr>
        <p:blipFill>
          <a:blip r:embed="rId2"/>
          <a:stretch/>
        </p:blipFill>
        <p:spPr>
          <a:xfrm>
            <a:off x="4216320" y="4705200"/>
            <a:ext cx="1893960" cy="145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6D7F-B00C-4F11-A686-345710888A7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periment 1 Resul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6" name="" descr=""/>
          <p:cNvPicPr/>
          <p:nvPr/>
        </p:nvPicPr>
        <p:blipFill>
          <a:blip r:embed="rId1"/>
          <a:stretch/>
        </p:blipFill>
        <p:spPr>
          <a:xfrm>
            <a:off x="630360" y="1657440"/>
            <a:ext cx="3882960" cy="340344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2"/>
          <a:stretch/>
        </p:blipFill>
        <p:spPr>
          <a:xfrm>
            <a:off x="4730760" y="1738440"/>
            <a:ext cx="4033800" cy="3317760"/>
          </a:xfrm>
          <a:prstGeom prst="rect">
            <a:avLst/>
          </a:prstGeom>
          <a:ln w="0">
            <a:noFill/>
          </a:ln>
        </p:spPr>
      </p:pic>
      <p:sp>
        <p:nvSpPr>
          <p:cNvPr id="2278" name=""/>
          <p:cNvSpPr/>
          <p:nvPr/>
        </p:nvSpPr>
        <p:spPr>
          <a:xfrm>
            <a:off x="1554480" y="53038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=1, s=3 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086520" y="53164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=1, s=3 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0" name="" descr=""/>
          <p:cNvPicPr/>
          <p:nvPr/>
        </p:nvPicPr>
        <p:blipFill>
          <a:blip r:embed="rId3"/>
          <a:stretch/>
        </p:blipFill>
        <p:spPr>
          <a:xfrm>
            <a:off x="3471840" y="5767560"/>
            <a:ext cx="3813120" cy="853920"/>
          </a:xfrm>
          <a:prstGeom prst="rect">
            <a:avLst/>
          </a:prstGeom>
          <a:ln w="0">
            <a:noFill/>
          </a:ln>
        </p:spPr>
      </p:pic>
      <p:sp>
        <p:nvSpPr>
          <p:cNvPr id="2281" name=""/>
          <p:cNvSpPr/>
          <p:nvPr/>
        </p:nvSpPr>
        <p:spPr>
          <a:xfrm>
            <a:off x="2584440" y="6037200"/>
            <a:ext cx="1104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ptim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A140-6CF1-4246-BD50-BC937A5CC90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periment 2 Resul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3" name="" descr=""/>
          <p:cNvPicPr/>
          <p:nvPr/>
        </p:nvPicPr>
        <p:blipFill>
          <a:blip r:embed="rId1"/>
          <a:stretch/>
        </p:blipFill>
        <p:spPr>
          <a:xfrm>
            <a:off x="619200" y="1809720"/>
            <a:ext cx="4032000" cy="3305160"/>
          </a:xfrm>
          <a:prstGeom prst="rect">
            <a:avLst/>
          </a:prstGeom>
          <a:ln w="0">
            <a:noFill/>
          </a:ln>
        </p:spPr>
      </p:pic>
      <p:pic>
        <p:nvPicPr>
          <p:cNvPr id="2284" name="" descr=""/>
          <p:cNvPicPr/>
          <p:nvPr/>
        </p:nvPicPr>
        <p:blipFill>
          <a:blip r:embed="rId2"/>
          <a:stretch/>
        </p:blipFill>
        <p:spPr>
          <a:xfrm>
            <a:off x="4724280" y="1852560"/>
            <a:ext cx="4262400" cy="3457800"/>
          </a:xfrm>
          <a:prstGeom prst="rect">
            <a:avLst/>
          </a:prstGeom>
          <a:ln w="0">
            <a:noFill/>
          </a:ln>
        </p:spPr>
      </p:pic>
      <p:sp>
        <p:nvSpPr>
          <p:cNvPr id="2285" name=""/>
          <p:cNvSpPr/>
          <p:nvPr/>
        </p:nvSpPr>
        <p:spPr>
          <a:xfrm>
            <a:off x="1698480" y="5513400"/>
            <a:ext cx="57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der the CGF wid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ore Reli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ore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391D-433D-4329-82A0-2EB896E94E5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daptive Schem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 granularity depends on the query and event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estimate the query and event frequencies to gues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match needle length and inter-spike 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symmetric needl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 ro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adcast information of current inter-spike spa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8" name="" descr=""/>
          <p:cNvPicPr/>
          <p:nvPr/>
        </p:nvPicPr>
        <p:blipFill>
          <a:blip r:embed="rId1"/>
          <a:stretch/>
        </p:blipFill>
        <p:spPr>
          <a:xfrm>
            <a:off x="3092400" y="1995480"/>
            <a:ext cx="160668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A8E5-35ED-4274-AC34-05481DFD6B2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x20 regular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cost: hop 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ode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F528-7255-4256-81E6-0D638B84103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vent &amp; Query Frequencies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2" name="" descr=""/>
          <p:cNvPicPr/>
          <p:nvPr/>
        </p:nvPicPr>
        <p:blipFill>
          <a:blip r:embed="rId1"/>
          <a:stretch/>
        </p:blipFill>
        <p:spPr>
          <a:xfrm>
            <a:off x="2144880" y="1600200"/>
            <a:ext cx="531144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2147-DEBA-43D5-9407-CD601FEE543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racking the Ideal Inter-Spike Spac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4" name="" descr=""/>
          <p:cNvPicPr/>
          <p:nvPr/>
        </p:nvPicPr>
        <p:blipFill>
          <a:blip r:embed="rId1"/>
          <a:stretch/>
        </p:blipFill>
        <p:spPr>
          <a:xfrm>
            <a:off x="2220840" y="1600200"/>
            <a:ext cx="515952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E0A3-DEC5-4F42-858A-19272E43A60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imulation Resul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depends on the query and event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needle length &lt; inter-spike spacing, there is a chance of su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off between success ratio an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9.33% success ratio and 99.64% power consumption compared to the ideal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915400" cy="86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B749-36B4-4FD7-8079-469670C9D33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 to system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pplied in hierarchical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0" name=""/>
          <p:cNvGrpSpPr/>
          <p:nvPr/>
        </p:nvGrpSpPr>
        <p:grpSpPr>
          <a:xfrm>
            <a:off x="685800" y="2209680"/>
            <a:ext cx="8001000" cy="1282680"/>
            <a:chOff x="685800" y="2209680"/>
            <a:chExt cx="8001000" cy="1282680"/>
          </a:xfrm>
        </p:grpSpPr>
        <p:sp>
          <p:nvSpPr>
            <p:cNvPr id="2301" name=""/>
            <p:cNvSpPr/>
            <p:nvPr/>
          </p:nvSpPr>
          <p:spPr>
            <a:xfrm>
              <a:off x="1066680" y="2971800"/>
              <a:ext cx="693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85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543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904760" y="22096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ll +Local 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562360" y="22096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sh +Local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733560" y="312408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 &amp;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06668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800100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9" name=""/>
          <p:cNvGrpSpPr/>
          <p:nvPr/>
        </p:nvGrpSpPr>
        <p:grpSpPr>
          <a:xfrm>
            <a:off x="1828800" y="4038480"/>
            <a:ext cx="5103720" cy="551520"/>
            <a:chOff x="1828800" y="4038480"/>
            <a:chExt cx="5103720" cy="551520"/>
          </a:xfrm>
        </p:grpSpPr>
        <p:sp>
          <p:nvSpPr>
            <p:cNvPr id="2310" name=""/>
            <p:cNvSpPr/>
            <p:nvPr/>
          </p:nvSpPr>
          <p:spPr>
            <a:xfrm>
              <a:off x="1828800" y="4038480"/>
              <a:ext cx="5103720" cy="0"/>
            </a:xfrm>
            <a:prstGeom prst="line">
              <a:avLst/>
            </a:prstGeom>
            <a:ln w="25560">
              <a:solidFill>
                <a:srgbClr val="0000cc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203200" y="4191120"/>
              <a:ext cx="416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Relative query frequency 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248B-5D99-463D-8712-CE8A26A1170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371600" y="2286000"/>
            <a:ext cx="6629400" cy="3657240"/>
            <a:chOff x="1371600" y="2286000"/>
            <a:chExt cx="6629400" cy="3657240"/>
          </a:xfrm>
        </p:grpSpPr>
        <p:sp>
          <p:nvSpPr>
            <p:cNvPr id="110" name=""/>
            <p:cNvSpPr/>
            <p:nvPr/>
          </p:nvSpPr>
          <p:spPr>
            <a:xfrm>
              <a:off x="1629000" y="32425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54080" y="358020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72320" y="374868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60760" y="4705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00120" y="38617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33320" y="40863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92520" y="52120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69960" y="48744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4880" y="50432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68880" y="509940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24120" y="526824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34040" y="53247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39280" y="54932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18520" y="526824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17080" y="44805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1960" y="48182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4520" y="45928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65640" y="54932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88560" y="32425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54800" y="380520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42520" y="4367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77720" y="3974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02280" y="3692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62920" y="34113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61840" y="27921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81520" y="37486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68880" y="32986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7360" y="391752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64000" y="3524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00120" y="459288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64560" y="53809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4880" y="53809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39280" y="45928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06600" y="57747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4380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88560" y="27921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23040" y="38052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47040" y="47617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26280" y="45928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57520" y="4199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11480" y="4367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72120" y="50432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84760" y="49305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45960" y="48744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48120" y="51559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03360" y="58309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91800" y="57186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04440" y="58309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50280" y="4480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32240" y="4030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3800" y="50432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4880" y="45367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000" y="58309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60760" y="30736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77000" y="442404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92520" y="49305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14720" y="4030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02280" y="4142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91800" y="3524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1924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41080" y="41990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92520" y="459288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85840" y="36928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3800" y="4705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15280" y="57186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50280" y="55497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50280" y="34113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2844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62920" y="4367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13280" y="32986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99560" y="31298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72320" y="34113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2304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72320" y="425520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99560" y="228600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30800" y="23421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41080" y="239832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60760" y="23983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72320" y="25671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24544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51560" y="24544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49200" y="25671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74480" y="24544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98480" y="27921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89280" y="251100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23040" y="290484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21960" y="27921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57320" y="26233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1950840" y="2736000"/>
              <a:ext cx="698400" cy="67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787120" y="5042520"/>
              <a:ext cx="77220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198120" y="3804480"/>
              <a:ext cx="772200" cy="66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are the tanks?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0AA4-A443-4CA4-A611-B3E160B4809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tudy on random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 “comb-needle-like” structure without locatio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with data aggregation and 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ve models for communica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 txBox="1"/>
          <p:nvPr/>
        </p:nvSpPr>
        <p:spPr>
          <a:xfrm>
            <a:off x="3127320" y="4740120"/>
            <a:ext cx="2933640" cy="13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nk you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9D81-AAF6-43BC-84C1-D44138B6C41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1523880" y="2286000"/>
            <a:ext cx="6629400" cy="3580920"/>
            <a:chOff x="1523880" y="2286000"/>
            <a:chExt cx="6629400" cy="3580920"/>
          </a:xfrm>
        </p:grpSpPr>
        <p:sp>
          <p:nvSpPr>
            <p:cNvPr id="203" name=""/>
            <p:cNvSpPr/>
            <p:nvPr/>
          </p:nvSpPr>
          <p:spPr>
            <a:xfrm>
              <a:off x="1781280" y="32223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06360" y="35532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24600" y="37184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13040" y="46551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52400" y="38286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85600" y="404892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44800" y="51512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22240" y="482040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97160" y="4985640"/>
              <a:ext cx="12888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21160" y="504072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76400" y="520596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86320" y="52610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91560" y="54266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70800" y="52059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69360" y="44348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4240" y="47653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46800" y="45446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17920" y="54266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40840" y="32223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07080" y="37735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94800" y="43246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30000" y="39387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54560" y="36633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86320" y="33876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14120" y="27817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3800" y="37184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21160" y="32774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79640" y="3883680"/>
              <a:ext cx="128880" cy="1101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16280" y="3498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52400" y="45446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16840" y="53164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97160" y="531648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91560" y="45446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58880" y="57020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03120" y="32223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40840" y="27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75320" y="37735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99320" y="47102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78560" y="45446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09800" y="4159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63760" y="43246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24400" y="49856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37040" y="487548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98240" y="482040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00400" y="50958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55640" y="57571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44080" y="56469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56720" y="5757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02560" y="4434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84520" y="3993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96080" y="49856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97160" y="44899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68280" y="5757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13040" y="305712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64840" y="4434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16280" y="487548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67000" y="3993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54560" y="410400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44080" y="3498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71520" y="3277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93360" y="41594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44800" y="45446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8120" y="366336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96080" y="46551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67560" y="56469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02560" y="54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702560" y="33876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80720" y="3277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15200" y="43246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65560" y="32774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51840" y="31122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24600" y="33876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75320" y="3277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24600" y="421416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51840" y="22860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83080" y="234108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93360" y="23958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13040" y="23958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24600" y="25614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23880" y="24512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03840" y="24512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01480" y="25614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26760" y="24512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50760" y="27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41560" y="25063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75320" y="289188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74240" y="27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09600" y="26164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2939760" y="2891880"/>
              <a:ext cx="698400" cy="66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681280" y="4930200"/>
              <a:ext cx="772200" cy="64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414120" y="3663000"/>
              <a:ext cx="772200" cy="64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 flipH="1">
              <a:off x="3003840" y="3498120"/>
              <a:ext cx="128880" cy="21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54560" y="3553200"/>
              <a:ext cx="6444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617560" y="3883680"/>
              <a:ext cx="25740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19000" y="3828600"/>
              <a:ext cx="0" cy="21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11960" y="3718440"/>
              <a:ext cx="25704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4098240" y="3167280"/>
              <a:ext cx="38592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6760" y="3828600"/>
              <a:ext cx="2574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4613040" y="3718080"/>
              <a:ext cx="25740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77480" y="3222360"/>
              <a:ext cx="12852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583080" y="3277080"/>
              <a:ext cx="19296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905280" y="2946600"/>
              <a:ext cx="6408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3711600" y="2505960"/>
              <a:ext cx="128520" cy="21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939760" y="2616480"/>
              <a:ext cx="6408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553480" y="3332880"/>
              <a:ext cx="25704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939760" y="305676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390120" y="4269240"/>
              <a:ext cx="12888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11960" y="4269240"/>
              <a:ext cx="2570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98240" y="4489920"/>
              <a:ext cx="19296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53480" y="4379400"/>
              <a:ext cx="19296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360160" y="4379400"/>
              <a:ext cx="1285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26040" y="4655160"/>
              <a:ext cx="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939760" y="4544640"/>
              <a:ext cx="19296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77480" y="4159440"/>
              <a:ext cx="32148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5192280" y="4159080"/>
              <a:ext cx="2574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5578560" y="3883320"/>
              <a:ext cx="19296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999320" y="3387240"/>
              <a:ext cx="32148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50040" y="333288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64840" y="3332880"/>
              <a:ext cx="32148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79640" y="3498120"/>
              <a:ext cx="6444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35960" y="3938760"/>
              <a:ext cx="25704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222240" y="3993480"/>
              <a:ext cx="2570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22240" y="4269240"/>
              <a:ext cx="19296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3360" y="4269240"/>
              <a:ext cx="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6720" y="4434840"/>
              <a:ext cx="32148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35960" y="4544640"/>
              <a:ext cx="19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969360" y="2561400"/>
              <a:ext cx="25740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93360" y="4600080"/>
              <a:ext cx="12888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50760" y="4875480"/>
              <a:ext cx="32148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30000" y="4930560"/>
              <a:ext cx="38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44800" y="5040720"/>
              <a:ext cx="6444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7380720" y="4710240"/>
              <a:ext cx="12852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093000" y="4985640"/>
              <a:ext cx="6444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74040" y="5316480"/>
              <a:ext cx="12852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2617560" y="2506320"/>
              <a:ext cx="25740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167200" y="2671560"/>
              <a:ext cx="128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2231640" y="3332880"/>
              <a:ext cx="12888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90120" y="5095800"/>
              <a:ext cx="2574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905280" y="5316480"/>
              <a:ext cx="2570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20080" y="55918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226400" y="4655160"/>
              <a:ext cx="64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Pull-based Strateg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7ED1-CEB7-4C55-9580-91A8BA7E23A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1143000" y="1981080"/>
            <a:ext cx="6705360" cy="3962160"/>
            <a:chOff x="1143000" y="1981080"/>
            <a:chExt cx="6705360" cy="3962160"/>
          </a:xfrm>
        </p:grpSpPr>
        <p:sp>
          <p:nvSpPr>
            <p:cNvPr id="346" name=""/>
            <p:cNvSpPr/>
            <p:nvPr/>
          </p:nvSpPr>
          <p:spPr>
            <a:xfrm>
              <a:off x="1403280" y="30171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63280" y="338292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54160" y="35658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800" y="46026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72960" y="368784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49000" y="39315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32320" y="515124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95360" y="47854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35360" y="4968360"/>
              <a:ext cx="130320" cy="1216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83840" y="50292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21440" y="521208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60520" y="52729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42360" y="54558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28440" y="521208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16560" y="43585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98760" y="47242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79960" y="44802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49640" y="545580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86600" y="30171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74440" y="362700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76560" y="423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11400" y="38098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96000" y="3504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60520" y="32000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79320" y="25297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81720" y="35658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83840" y="30783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55640" y="3748680"/>
              <a:ext cx="130320" cy="1220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02000" y="33220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72960" y="44802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38120" y="53341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35360" y="53341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42360" y="44802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741720" y="576072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28720" y="30171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86600" y="2529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09920" y="36270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658400" y="466308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44480" y="44802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33600" y="4053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23560" y="423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718040" y="49683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16280" y="48459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47240" y="47854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69920" y="509004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07160" y="58215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20800" y="56998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19040" y="58215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92600" y="43585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37840" y="3870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24200" y="496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35360" y="44197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05400" y="58215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67800" y="283428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35080" y="43585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02000" y="48459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58120" y="3870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96000" y="39927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0800" y="33220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39600" y="307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65040" y="40539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132320" y="44802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327440" y="35049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24200" y="46026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93880" y="56998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392600" y="55170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92600" y="320004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67520" y="307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0840" y="423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46240" y="30783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36840" y="289548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54160" y="32000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09920" y="307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41144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36840" y="198108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25960" y="20419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65040" y="210276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67800" y="21027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4160" y="22856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43000" y="2163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40240" y="21639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81440" y="228564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877200" y="2163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25680" y="2529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97760" y="222480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09920" y="26514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98760" y="2529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97480" y="234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"/>
            <a:stretch/>
          </p:blipFill>
          <p:spPr>
            <a:xfrm>
              <a:off x="2575080" y="2651400"/>
              <a:ext cx="706320" cy="7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314080" y="4906800"/>
              <a:ext cx="781200" cy="71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090120" y="3504600"/>
              <a:ext cx="781200" cy="71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 flipH="1">
              <a:off x="2640240" y="3322080"/>
              <a:ext cx="13032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96000" y="3382920"/>
              <a:ext cx="6516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249280" y="3748680"/>
              <a:ext cx="260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61160" y="368784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56280" y="3565800"/>
              <a:ext cx="25992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747240" y="2956320"/>
              <a:ext cx="3906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77200" y="3687840"/>
              <a:ext cx="2602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4267800" y="3565440"/>
              <a:ext cx="260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32960" y="3017160"/>
              <a:ext cx="12996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225960" y="3078000"/>
              <a:ext cx="19512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3551760" y="2712600"/>
              <a:ext cx="64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3355920" y="2224800"/>
              <a:ext cx="12996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2575080" y="2346480"/>
              <a:ext cx="6480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2184480" y="3139200"/>
              <a:ext cx="2599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2575080" y="2834280"/>
              <a:ext cx="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2965320" y="4175640"/>
              <a:ext cx="12996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56280" y="4175640"/>
              <a:ext cx="25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747240" y="4419720"/>
              <a:ext cx="1951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84480" y="4297320"/>
              <a:ext cx="19512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1989000" y="4297320"/>
              <a:ext cx="129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65680" y="46026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575080" y="4480200"/>
              <a:ext cx="19512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32960" y="4053960"/>
              <a:ext cx="3250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4853880" y="4053960"/>
              <a:ext cx="2602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5244480" y="3748680"/>
              <a:ext cx="1951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4658400" y="3200040"/>
              <a:ext cx="3250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14160" y="3139200"/>
              <a:ext cx="25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635080" y="3139200"/>
              <a:ext cx="32508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155640" y="3322080"/>
              <a:ext cx="6516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04760" y="3809880"/>
              <a:ext cx="25992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895360" y="3870720"/>
              <a:ext cx="25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95360" y="4175640"/>
              <a:ext cx="19512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65040" y="4175640"/>
              <a:ext cx="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19040" y="4358520"/>
              <a:ext cx="32508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504760" y="448020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616560" y="2285280"/>
              <a:ext cx="26028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65040" y="4541400"/>
              <a:ext cx="13032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25680" y="4845960"/>
              <a:ext cx="32508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11400" y="49071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32320" y="5029200"/>
              <a:ext cx="6516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067520" y="4662720"/>
              <a:ext cx="12996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764680" y="4968360"/>
              <a:ext cx="6516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262640" y="5334120"/>
              <a:ext cx="12996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2249280" y="2224800"/>
              <a:ext cx="26028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1793520" y="2407680"/>
              <a:ext cx="12996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1858680" y="3139200"/>
              <a:ext cx="1303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30840" y="5090040"/>
              <a:ext cx="2602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51760" y="5334120"/>
              <a:ext cx="25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72320" y="5638680"/>
              <a:ext cx="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3876840" y="4602600"/>
              <a:ext cx="6516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3096000" y="45414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096000" y="4175280"/>
              <a:ext cx="129960" cy="243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291120" y="36270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flipV="1">
              <a:off x="3225600" y="3322080"/>
              <a:ext cx="6516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5829840" y="3809880"/>
              <a:ext cx="26028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5569920" y="3748680"/>
              <a:ext cx="19512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5179320" y="3748680"/>
              <a:ext cx="130320" cy="122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4788000" y="3992760"/>
              <a:ext cx="26028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4332600" y="3931560"/>
              <a:ext cx="32508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3942360" y="3627000"/>
              <a:ext cx="195120" cy="12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3356280" y="3443760"/>
              <a:ext cx="259920" cy="60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Pull-based Cont’d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FD4F-A5C1-41B3-B639-6DB16A46B84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1219320" y="1981080"/>
            <a:ext cx="6553080" cy="3885840"/>
            <a:chOff x="1219320" y="1981080"/>
            <a:chExt cx="6553080" cy="3885840"/>
          </a:xfrm>
        </p:grpSpPr>
        <p:sp>
          <p:nvSpPr>
            <p:cNvPr id="500" name=""/>
            <p:cNvSpPr/>
            <p:nvPr/>
          </p:nvSpPr>
          <p:spPr>
            <a:xfrm>
              <a:off x="1473840" y="299736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64000" y="33559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09600" y="353520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272840" y="45518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46400" y="365508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36400" y="38941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72200" y="50900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63680" y="47314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73160" y="4910760"/>
              <a:ext cx="127440" cy="1191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972680" y="497016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45920" y="514980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27040" y="52095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54960" y="53888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527720" y="514980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73360" y="43128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64640" y="4671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28200" y="44323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00760" y="53888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09640" y="299736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354280" y="35953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27240" y="41932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63520" y="37746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127680" y="34758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054480" y="31168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63480" y="25189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00440" y="353520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72680" y="30571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17840" y="37148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45120" y="32965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46400" y="443232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10120" y="52693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73160" y="52693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54960" y="44323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90600" y="56876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98252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09640" y="25189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555280" y="35953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54800" y="461160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27200" y="44323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00920" y="40140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718520" y="41932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644960" y="49107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72360" y="479088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64160" y="47314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45440" y="503028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018320" y="57477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81560" y="56282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09320" y="57477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326720" y="43128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45760" y="3834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982520" y="49107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73160" y="43725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746080" y="57477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72840" y="28177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72880" y="425268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72200" y="479088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390440" y="3834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127680" y="39538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81560" y="32965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1800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36240" y="401400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72200" y="443232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63000" y="347580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2520" y="45518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55440" y="56282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26720" y="54489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26720" y="317664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00884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54480" y="4193280"/>
              <a:ext cx="12708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99800" y="30571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81400" y="28778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109600" y="31766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55528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09600" y="407340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81400" y="198108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4760" y="20408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36240" y="21002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72840" y="210024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09600" y="227988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19320" y="2160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682360" y="21603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436080" y="227988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91240" y="2160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25189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00280" y="22201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555280" y="263844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64640" y="25189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35920" y="23396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1"/>
            <a:stretch/>
          </p:blipFill>
          <p:spPr>
            <a:xfrm>
              <a:off x="2619000" y="2638440"/>
              <a:ext cx="69012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364120" y="4910400"/>
              <a:ext cx="763200" cy="7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117480" y="3654720"/>
              <a:ext cx="763200" cy="7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 flipV="1">
              <a:off x="2936880" y="461160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619000" y="443232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3000600" y="4133520"/>
              <a:ext cx="12708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109240" y="4492080"/>
              <a:ext cx="25452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2236680" y="4252680"/>
              <a:ext cx="12708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063960" y="4312440"/>
              <a:ext cx="50904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063960" y="5030280"/>
              <a:ext cx="31824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636720" y="5269320"/>
              <a:ext cx="25452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046240" y="467136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3191400" y="3654720"/>
              <a:ext cx="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flipV="1">
              <a:off x="3063600" y="3236400"/>
              <a:ext cx="63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18480" y="359532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2745720" y="3714840"/>
              <a:ext cx="31788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764160" y="4372560"/>
              <a:ext cx="19080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9600" y="5090040"/>
              <a:ext cx="12744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28200" y="5628240"/>
              <a:ext cx="25416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2046240" y="5508360"/>
              <a:ext cx="25416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1791360" y="4671360"/>
              <a:ext cx="12708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flipV="1">
              <a:off x="1410120" y="4551480"/>
              <a:ext cx="190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3254760" y="3056760"/>
              <a:ext cx="190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3573360" y="269856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18320" y="5508360"/>
              <a:ext cx="6372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1791360" y="4073400"/>
              <a:ext cx="254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5863320" y="4133520"/>
              <a:ext cx="12708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245280" y="4372560"/>
              <a:ext cx="12708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5799960" y="4252680"/>
              <a:ext cx="19080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5990400" y="4432320"/>
              <a:ext cx="6372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563520" y="4851000"/>
              <a:ext cx="38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135920" y="461160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7199640" y="4432320"/>
              <a:ext cx="12708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5481720" y="3714840"/>
              <a:ext cx="25416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6117840" y="3834360"/>
              <a:ext cx="6372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6181560" y="3475440"/>
              <a:ext cx="6372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6181560" y="3236400"/>
              <a:ext cx="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6054480" y="269856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 flipV="1">
              <a:off x="5609160" y="3116520"/>
              <a:ext cx="38160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6372360" y="3176640"/>
              <a:ext cx="12708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690600" y="3416040"/>
              <a:ext cx="25452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72200" y="3416040"/>
              <a:ext cx="254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26720" y="3655080"/>
              <a:ext cx="63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5100120" y="3116880"/>
              <a:ext cx="25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>
              <a:off x="4464000" y="2937240"/>
              <a:ext cx="3816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4654440" y="3176640"/>
              <a:ext cx="31788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5100120" y="3714840"/>
              <a:ext cx="19080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4845600" y="4073400"/>
              <a:ext cx="19080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4336560" y="3953880"/>
              <a:ext cx="38160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736240" y="4910760"/>
              <a:ext cx="12744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353920" y="4372560"/>
              <a:ext cx="25452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Push-based Strateg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FFB3-EEBD-4EC1-94F3-D0FDD464014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"/>
          <p:cNvGrpSpPr/>
          <p:nvPr/>
        </p:nvGrpSpPr>
        <p:grpSpPr>
          <a:xfrm>
            <a:off x="1143000" y="1981080"/>
            <a:ext cx="6629040" cy="4496040"/>
            <a:chOff x="1143000" y="1981080"/>
            <a:chExt cx="6629040" cy="4496040"/>
          </a:xfrm>
        </p:grpSpPr>
        <p:sp>
          <p:nvSpPr>
            <p:cNvPr id="641" name=""/>
            <p:cNvSpPr/>
            <p:nvPr/>
          </p:nvSpPr>
          <p:spPr>
            <a:xfrm>
              <a:off x="1395360" y="30621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62840" y="34034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26800" y="35744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73480" y="45421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000" y="36882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930920" y="39157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51240" y="50544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15080" y="465588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784240" y="48837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67920" y="494028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26320" y="511092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15080" y="51681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57760" y="533880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26200" y="51109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42040" y="4314240"/>
              <a:ext cx="12636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584720" y="46558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2520" y="4428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16160" y="53388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15680" y="30621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46640" y="363132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509520" y="4200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446520" y="38019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036960" y="35175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067440" y="306216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57280" y="26067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605040" y="35744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867920" y="31190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04440" y="3745080"/>
              <a:ext cx="12636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25240" y="33469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269000" y="44280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32360" y="5225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784240" y="52250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57760" y="4428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572520" y="56232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90044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15680" y="2606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68880" y="36313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52200" y="4599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20640" y="4428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521720" y="40298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15560" y="4200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519680" y="48837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256800" y="476964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68400" y="471276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36000" y="49971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20760" y="56804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67440" y="55666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804920" y="56804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203960" y="43142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47120" y="385920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900440" y="4883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84240" y="437148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36960" y="562320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173480" y="28915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562720" y="42573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951240" y="47696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67320" y="385920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36960" y="397296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67440" y="334692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31000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25360" y="40298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951240" y="44280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140960" y="35175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00440" y="45421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74440" y="55666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203960" y="53956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03960" y="32328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8860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941440" y="420048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446520" y="30621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61880" y="29484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26800" y="32328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46888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26800" y="408672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61880" y="209448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162960" y="215172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625360" y="22082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173480" y="22082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26800" y="23792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43000" y="2265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468880" y="22082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320160" y="23792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94760" y="2265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878080" y="2606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99480" y="23223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68880" y="27205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584720" y="2606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4600" y="24361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1711080" y="2493000"/>
              <a:ext cx="68508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2"/>
            <a:stretch/>
          </p:blipFill>
          <p:spPr>
            <a:xfrm rot="21063600">
              <a:off x="2531520" y="4883040"/>
              <a:ext cx="7574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3"/>
            <a:stretch/>
          </p:blipFill>
          <p:spPr>
            <a:xfrm rot="21063600">
              <a:off x="5941080" y="3573720"/>
              <a:ext cx="757440" cy="6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1963800" y="317628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089800" y="3346920"/>
              <a:ext cx="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089800" y="374508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2279160" y="2777760"/>
              <a:ext cx="18936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2468880" y="2322360"/>
              <a:ext cx="6300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2594880" y="3119040"/>
              <a:ext cx="75744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3605040" y="2948400"/>
              <a:ext cx="56808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362840" y="3005280"/>
              <a:ext cx="50472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57280" y="3176280"/>
              <a:ext cx="1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625360" y="3119040"/>
              <a:ext cx="37872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256800" y="311904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6572520" y="3062160"/>
              <a:ext cx="25236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2026440" y="4200480"/>
              <a:ext cx="6300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963800" y="4712760"/>
              <a:ext cx="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1900080" y="5168160"/>
              <a:ext cx="63000" cy="39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2089800" y="4541760"/>
              <a:ext cx="18936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531880" y="4485240"/>
              <a:ext cx="1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3036960" y="4371120"/>
              <a:ext cx="5047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668400" y="4428000"/>
              <a:ext cx="18936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84120" y="4542120"/>
              <a:ext cx="1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362840" y="4599000"/>
              <a:ext cx="18936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678560" y="4541760"/>
              <a:ext cx="3787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10000" y="4542120"/>
              <a:ext cx="44172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78080" y="4712760"/>
              <a:ext cx="3787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509520" y="4826520"/>
              <a:ext cx="4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3100320" y="4314240"/>
              <a:ext cx="378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5562720" y="3005280"/>
              <a:ext cx="378720" cy="56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5878080" y="4599000"/>
              <a:ext cx="315360" cy="5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3352680" y="4826520"/>
              <a:ext cx="315720" cy="22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3604680" y="4485240"/>
              <a:ext cx="63000" cy="17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3225960" y="4086720"/>
              <a:ext cx="252360" cy="17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162600" y="5281920"/>
              <a:ext cx="126360" cy="28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067440" y="4314240"/>
              <a:ext cx="126000" cy="28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6004080" y="3915720"/>
              <a:ext cx="63000" cy="22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6067440" y="3460680"/>
              <a:ext cx="63000" cy="17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6130800" y="3175920"/>
              <a:ext cx="0" cy="113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73600" y="3859200"/>
              <a:ext cx="820800" cy="187812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688720" y="3005280"/>
              <a:ext cx="820800" cy="187812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647720" y="4257360"/>
              <a:ext cx="6124320" cy="5119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647720" y="2834640"/>
              <a:ext cx="6124320" cy="5119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900440" y="1981080"/>
              <a:ext cx="757440" cy="449604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6858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Comb-Needle Structur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3079-A8E7-4797-850E-2A0A4CA727B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Events: Anywhere &amp; Any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Queries: Anywhere &amp; Any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1411"/>
                </a:solidFill>
                <a:latin typeface="Arial"/>
              </a:rPr>
              <a:t>Global discovery-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1411"/>
                </a:solidFill>
                <a:latin typeface="Arial"/>
              </a:rPr>
              <a:t>One sh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Network: Uni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efighters query information in the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veilla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 nodes know their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6EF-1217-4B66-A9C4-DBAC26AD843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hen an Event Happe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2146320" y="1935000"/>
            <a:ext cx="4597200" cy="3949560"/>
            <a:chOff x="2146320" y="1935000"/>
            <a:chExt cx="4597200" cy="3949560"/>
          </a:xfrm>
        </p:grpSpPr>
        <p:sp>
          <p:nvSpPr>
            <p:cNvPr id="779" name=""/>
            <p:cNvSpPr/>
            <p:nvPr/>
          </p:nvSpPr>
          <p:spPr>
            <a:xfrm>
              <a:off x="313056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2304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1" name=""/>
            <p:cNvCxnSpPr>
              <a:stCxn id="779" idx="6"/>
              <a:endCxn id="780" idx="2"/>
            </p:cNvCxnSpPr>
            <p:nvPr/>
          </p:nvCxnSpPr>
          <p:spPr>
            <a:xfrm>
              <a:off x="3239640" y="45518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2" name=""/>
            <p:cNvCxnSpPr>
              <a:stCxn id="779" idx="4"/>
            </p:cNvCxnSpPr>
            <p:nvPr/>
          </p:nvCxnSpPr>
          <p:spPr>
            <a:xfrm>
              <a:off x="318600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3" name=""/>
            <p:cNvCxnSpPr>
              <a:stCxn id="780" idx="4"/>
            </p:cNvCxnSpPr>
            <p:nvPr/>
          </p:nvCxnSpPr>
          <p:spPr>
            <a:xfrm>
              <a:off x="367812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84" name=""/>
            <p:cNvSpPr/>
            <p:nvPr/>
          </p:nvSpPr>
          <p:spPr>
            <a:xfrm>
              <a:off x="214632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63844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6" name=""/>
            <p:cNvCxnSpPr>
              <a:stCxn id="784" idx="6"/>
              <a:endCxn id="785" idx="2"/>
            </p:cNvCxnSpPr>
            <p:nvPr/>
          </p:nvCxnSpPr>
          <p:spPr>
            <a:xfrm>
              <a:off x="2255040" y="45518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7" name=""/>
            <p:cNvCxnSpPr>
              <a:stCxn id="784" idx="4"/>
            </p:cNvCxnSpPr>
            <p:nvPr/>
          </p:nvCxnSpPr>
          <p:spPr>
            <a:xfrm>
              <a:off x="220140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8" name=""/>
            <p:cNvCxnSpPr>
              <a:stCxn id="785" idx="4"/>
            </p:cNvCxnSpPr>
            <p:nvPr/>
          </p:nvCxnSpPr>
          <p:spPr>
            <a:xfrm>
              <a:off x="269352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9" name=""/>
            <p:cNvCxnSpPr>
              <a:stCxn id="785" idx="6"/>
              <a:endCxn id="779" idx="2"/>
            </p:cNvCxnSpPr>
            <p:nvPr/>
          </p:nvCxnSpPr>
          <p:spPr>
            <a:xfrm>
              <a:off x="2747520" y="45518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0" name=""/>
            <p:cNvSpPr/>
            <p:nvPr/>
          </p:nvSpPr>
          <p:spPr>
            <a:xfrm>
              <a:off x="509940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9188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2" name=""/>
            <p:cNvCxnSpPr>
              <a:stCxn id="790" idx="6"/>
              <a:endCxn id="791" idx="2"/>
            </p:cNvCxnSpPr>
            <p:nvPr/>
          </p:nvCxnSpPr>
          <p:spPr>
            <a:xfrm>
              <a:off x="520920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90" idx="4"/>
            </p:cNvCxnSpPr>
            <p:nvPr/>
          </p:nvCxnSpPr>
          <p:spPr>
            <a:xfrm>
              <a:off x="515484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4" name=""/>
            <p:cNvCxnSpPr>
              <a:stCxn id="791" idx="4"/>
            </p:cNvCxnSpPr>
            <p:nvPr/>
          </p:nvCxnSpPr>
          <p:spPr>
            <a:xfrm>
              <a:off x="564696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5" name=""/>
            <p:cNvSpPr/>
            <p:nvPr/>
          </p:nvSpPr>
          <p:spPr>
            <a:xfrm>
              <a:off x="411480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60728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7" name=""/>
            <p:cNvCxnSpPr>
              <a:stCxn id="795" idx="6"/>
              <a:endCxn id="796" idx="2"/>
            </p:cNvCxnSpPr>
            <p:nvPr/>
          </p:nvCxnSpPr>
          <p:spPr>
            <a:xfrm>
              <a:off x="422460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8" name=""/>
            <p:cNvCxnSpPr>
              <a:stCxn id="795" idx="4"/>
            </p:cNvCxnSpPr>
            <p:nvPr/>
          </p:nvCxnSpPr>
          <p:spPr>
            <a:xfrm>
              <a:off x="417060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9" name=""/>
            <p:cNvCxnSpPr>
              <a:stCxn id="796" idx="4"/>
            </p:cNvCxnSpPr>
            <p:nvPr/>
          </p:nvCxnSpPr>
          <p:spPr>
            <a:xfrm>
              <a:off x="466272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0" name=""/>
            <p:cNvCxnSpPr>
              <a:stCxn id="796" idx="6"/>
              <a:endCxn id="790" idx="2"/>
            </p:cNvCxnSpPr>
            <p:nvPr/>
          </p:nvCxnSpPr>
          <p:spPr>
            <a:xfrm>
              <a:off x="471672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1" name=""/>
            <p:cNvCxnSpPr>
              <a:stCxn id="780" idx="6"/>
              <a:endCxn id="795" idx="2"/>
            </p:cNvCxnSpPr>
            <p:nvPr/>
          </p:nvCxnSpPr>
          <p:spPr>
            <a:xfrm>
              <a:off x="373212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02" name=""/>
            <p:cNvSpPr/>
            <p:nvPr/>
          </p:nvSpPr>
          <p:spPr>
            <a:xfrm>
              <a:off x="613800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63048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4" name=""/>
            <p:cNvCxnSpPr>
              <a:stCxn id="802" idx="6"/>
              <a:endCxn id="803" idx="2"/>
            </p:cNvCxnSpPr>
            <p:nvPr/>
          </p:nvCxnSpPr>
          <p:spPr>
            <a:xfrm>
              <a:off x="624780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5" name=""/>
            <p:cNvCxnSpPr>
              <a:stCxn id="802" idx="4"/>
            </p:cNvCxnSpPr>
            <p:nvPr/>
          </p:nvCxnSpPr>
          <p:spPr>
            <a:xfrm>
              <a:off x="619344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6" name=""/>
            <p:cNvCxnSpPr>
              <a:stCxn id="803" idx="4"/>
            </p:cNvCxnSpPr>
            <p:nvPr/>
          </p:nvCxnSpPr>
          <p:spPr>
            <a:xfrm>
              <a:off x="668556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7" name=""/>
            <p:cNvCxnSpPr>
              <a:stCxn id="791" idx="6"/>
              <a:endCxn id="802" idx="2"/>
            </p:cNvCxnSpPr>
            <p:nvPr/>
          </p:nvCxnSpPr>
          <p:spPr>
            <a:xfrm>
              <a:off x="5701320" y="455184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08" name=""/>
            <p:cNvSpPr/>
            <p:nvPr/>
          </p:nvSpPr>
          <p:spPr>
            <a:xfrm>
              <a:off x="313056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62304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3056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62304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2" name=""/>
            <p:cNvCxnSpPr>
              <a:stCxn id="810" idx="6"/>
              <a:endCxn id="811" idx="2"/>
            </p:cNvCxnSpPr>
            <p:nvPr/>
          </p:nvCxnSpPr>
          <p:spPr>
            <a:xfrm>
              <a:off x="3239640" y="36961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3" name=""/>
            <p:cNvCxnSpPr>
              <a:stCxn id="810" idx="4"/>
              <a:endCxn id="808" idx="0"/>
            </p:cNvCxnSpPr>
            <p:nvPr/>
          </p:nvCxnSpPr>
          <p:spPr>
            <a:xfrm>
              <a:off x="318420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4" name=""/>
            <p:cNvCxnSpPr>
              <a:stCxn id="808" idx="6"/>
              <a:endCxn id="809" idx="2"/>
            </p:cNvCxnSpPr>
            <p:nvPr/>
          </p:nvCxnSpPr>
          <p:spPr>
            <a:xfrm>
              <a:off x="3239640" y="41227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5" name=""/>
            <p:cNvCxnSpPr>
              <a:stCxn id="811" idx="4"/>
              <a:endCxn id="809" idx="0"/>
            </p:cNvCxnSpPr>
            <p:nvPr/>
          </p:nvCxnSpPr>
          <p:spPr>
            <a:xfrm>
              <a:off x="36763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16" name=""/>
            <p:cNvSpPr/>
            <p:nvPr/>
          </p:nvSpPr>
          <p:spPr>
            <a:xfrm>
              <a:off x="214632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63844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14632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63844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0" name=""/>
            <p:cNvCxnSpPr>
              <a:stCxn id="818" idx="6"/>
              <a:endCxn id="819" idx="2"/>
            </p:cNvCxnSpPr>
            <p:nvPr/>
          </p:nvCxnSpPr>
          <p:spPr>
            <a:xfrm>
              <a:off x="2255040" y="36961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1" name=""/>
            <p:cNvCxnSpPr>
              <a:stCxn id="818" idx="4"/>
              <a:endCxn id="816" idx="0"/>
            </p:cNvCxnSpPr>
            <p:nvPr/>
          </p:nvCxnSpPr>
          <p:spPr>
            <a:xfrm>
              <a:off x="219960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2" name=""/>
            <p:cNvCxnSpPr>
              <a:stCxn id="816" idx="6"/>
              <a:endCxn id="817" idx="2"/>
            </p:cNvCxnSpPr>
            <p:nvPr/>
          </p:nvCxnSpPr>
          <p:spPr>
            <a:xfrm>
              <a:off x="2255040" y="41227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3" name=""/>
            <p:cNvCxnSpPr>
              <a:stCxn id="819" idx="4"/>
              <a:endCxn id="817" idx="0"/>
            </p:cNvCxnSpPr>
            <p:nvPr/>
          </p:nvCxnSpPr>
          <p:spPr>
            <a:xfrm>
              <a:off x="26917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4" name=""/>
            <p:cNvCxnSpPr>
              <a:stCxn id="819" idx="6"/>
              <a:endCxn id="810" idx="2"/>
            </p:cNvCxnSpPr>
            <p:nvPr/>
          </p:nvCxnSpPr>
          <p:spPr>
            <a:xfrm>
              <a:off x="2747520" y="36961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5" name=""/>
            <p:cNvCxnSpPr>
              <a:stCxn id="817" idx="6"/>
              <a:endCxn id="808" idx="2"/>
            </p:cNvCxnSpPr>
            <p:nvPr/>
          </p:nvCxnSpPr>
          <p:spPr>
            <a:xfrm>
              <a:off x="2747520" y="41227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26" name=""/>
            <p:cNvSpPr/>
            <p:nvPr/>
          </p:nvSpPr>
          <p:spPr>
            <a:xfrm>
              <a:off x="509940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59188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9940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59188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0" name=""/>
            <p:cNvCxnSpPr>
              <a:stCxn id="828" idx="6"/>
              <a:endCxn id="829" idx="2"/>
            </p:cNvCxnSpPr>
            <p:nvPr/>
          </p:nvCxnSpPr>
          <p:spPr>
            <a:xfrm>
              <a:off x="520920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1" name=""/>
            <p:cNvCxnSpPr>
              <a:stCxn id="828" idx="4"/>
              <a:endCxn id="826" idx="0"/>
            </p:cNvCxnSpPr>
            <p:nvPr/>
          </p:nvCxnSpPr>
          <p:spPr>
            <a:xfrm>
              <a:off x="515304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2" name=""/>
            <p:cNvCxnSpPr>
              <a:stCxn id="826" idx="6"/>
              <a:endCxn id="827" idx="2"/>
            </p:cNvCxnSpPr>
            <p:nvPr/>
          </p:nvCxnSpPr>
          <p:spPr>
            <a:xfrm>
              <a:off x="520920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3" name=""/>
            <p:cNvCxnSpPr>
              <a:stCxn id="829" idx="4"/>
              <a:endCxn id="827" idx="0"/>
            </p:cNvCxnSpPr>
            <p:nvPr/>
          </p:nvCxnSpPr>
          <p:spPr>
            <a:xfrm>
              <a:off x="56455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34" name=""/>
            <p:cNvSpPr/>
            <p:nvPr/>
          </p:nvSpPr>
          <p:spPr>
            <a:xfrm>
              <a:off x="4114800" y="4075920"/>
              <a:ext cx="109440" cy="94680"/>
            </a:xfrm>
            <a:prstGeom prst="ellipse">
              <a:avLst/>
            </a:prstGeom>
            <a:solidFill>
              <a:srgbClr val="ff0000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60728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11480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60728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8" name=""/>
            <p:cNvCxnSpPr>
              <a:stCxn id="836" idx="6"/>
              <a:endCxn id="837" idx="2"/>
            </p:cNvCxnSpPr>
            <p:nvPr/>
          </p:nvCxnSpPr>
          <p:spPr>
            <a:xfrm>
              <a:off x="422460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9" name=""/>
            <p:cNvCxnSpPr>
              <a:stCxn id="836" idx="4"/>
              <a:endCxn id="834" idx="0"/>
            </p:cNvCxnSpPr>
            <p:nvPr/>
          </p:nvCxnSpPr>
          <p:spPr>
            <a:xfrm>
              <a:off x="416844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0" name=""/>
            <p:cNvCxnSpPr>
              <a:stCxn id="834" idx="6"/>
              <a:endCxn id="835" idx="2"/>
            </p:cNvCxnSpPr>
            <p:nvPr/>
          </p:nvCxnSpPr>
          <p:spPr>
            <a:xfrm>
              <a:off x="422460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1" name=""/>
            <p:cNvCxnSpPr>
              <a:stCxn id="837" idx="4"/>
              <a:endCxn id="835" idx="0"/>
            </p:cNvCxnSpPr>
            <p:nvPr/>
          </p:nvCxnSpPr>
          <p:spPr>
            <a:xfrm>
              <a:off x="46609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2" name=""/>
            <p:cNvCxnSpPr>
              <a:stCxn id="837" idx="6"/>
              <a:endCxn id="828" idx="2"/>
            </p:cNvCxnSpPr>
            <p:nvPr/>
          </p:nvCxnSpPr>
          <p:spPr>
            <a:xfrm>
              <a:off x="471672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3" name=""/>
            <p:cNvCxnSpPr>
              <a:stCxn id="835" idx="6"/>
              <a:endCxn id="826" idx="2"/>
            </p:cNvCxnSpPr>
            <p:nvPr/>
          </p:nvCxnSpPr>
          <p:spPr>
            <a:xfrm>
              <a:off x="471672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4" name=""/>
            <p:cNvCxnSpPr>
              <a:stCxn id="811" idx="6"/>
              <a:endCxn id="836" idx="2"/>
            </p:cNvCxnSpPr>
            <p:nvPr/>
          </p:nvCxnSpPr>
          <p:spPr>
            <a:xfrm>
              <a:off x="373212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5" name=""/>
            <p:cNvCxnSpPr>
              <a:stCxn id="809" idx="6"/>
              <a:endCxn id="834" idx="2"/>
            </p:cNvCxnSpPr>
            <p:nvPr/>
          </p:nvCxnSpPr>
          <p:spPr>
            <a:xfrm>
              <a:off x="373212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46" name=""/>
            <p:cNvSpPr/>
            <p:nvPr/>
          </p:nvSpPr>
          <p:spPr>
            <a:xfrm>
              <a:off x="613800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63048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13800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63048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0" name=""/>
            <p:cNvCxnSpPr>
              <a:stCxn id="848" idx="6"/>
              <a:endCxn id="849" idx="2"/>
            </p:cNvCxnSpPr>
            <p:nvPr/>
          </p:nvCxnSpPr>
          <p:spPr>
            <a:xfrm>
              <a:off x="624780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1" name=""/>
            <p:cNvCxnSpPr>
              <a:stCxn id="848" idx="4"/>
              <a:endCxn id="846" idx="0"/>
            </p:cNvCxnSpPr>
            <p:nvPr/>
          </p:nvCxnSpPr>
          <p:spPr>
            <a:xfrm>
              <a:off x="619344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2" name=""/>
            <p:cNvCxnSpPr>
              <a:stCxn id="846" idx="6"/>
              <a:endCxn id="847" idx="2"/>
            </p:cNvCxnSpPr>
            <p:nvPr/>
          </p:nvCxnSpPr>
          <p:spPr>
            <a:xfrm>
              <a:off x="624780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3" name=""/>
            <p:cNvCxnSpPr>
              <a:stCxn id="849" idx="4"/>
              <a:endCxn id="847" idx="0"/>
            </p:cNvCxnSpPr>
            <p:nvPr/>
          </p:nvCxnSpPr>
          <p:spPr>
            <a:xfrm>
              <a:off x="668556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4" name=""/>
            <p:cNvCxnSpPr>
              <a:stCxn id="829" idx="6"/>
              <a:endCxn id="848" idx="2"/>
            </p:cNvCxnSpPr>
            <p:nvPr/>
          </p:nvCxnSpPr>
          <p:spPr>
            <a:xfrm>
              <a:off x="5701320" y="36961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5" name=""/>
            <p:cNvCxnSpPr>
              <a:stCxn id="827" idx="6"/>
              <a:endCxn id="846" idx="2"/>
            </p:cNvCxnSpPr>
            <p:nvPr/>
          </p:nvCxnSpPr>
          <p:spPr>
            <a:xfrm>
              <a:off x="5701320" y="41227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6" name=""/>
            <p:cNvCxnSpPr>
              <a:stCxn id="816" idx="4"/>
              <a:endCxn id="784" idx="0"/>
            </p:cNvCxnSpPr>
            <p:nvPr/>
          </p:nvCxnSpPr>
          <p:spPr>
            <a:xfrm>
              <a:off x="219960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7" name=""/>
            <p:cNvCxnSpPr>
              <a:stCxn id="817" idx="4"/>
              <a:endCxn id="785" idx="0"/>
            </p:cNvCxnSpPr>
            <p:nvPr/>
          </p:nvCxnSpPr>
          <p:spPr>
            <a:xfrm>
              <a:off x="26917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8" name=""/>
            <p:cNvCxnSpPr>
              <a:stCxn id="808" idx="4"/>
              <a:endCxn id="779" idx="0"/>
            </p:cNvCxnSpPr>
            <p:nvPr/>
          </p:nvCxnSpPr>
          <p:spPr>
            <a:xfrm>
              <a:off x="318420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9" name=""/>
            <p:cNvCxnSpPr>
              <a:stCxn id="809" idx="4"/>
              <a:endCxn id="780" idx="0"/>
            </p:cNvCxnSpPr>
            <p:nvPr/>
          </p:nvCxnSpPr>
          <p:spPr>
            <a:xfrm>
              <a:off x="36763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0" name=""/>
            <p:cNvCxnSpPr>
              <a:stCxn id="834" idx="4"/>
              <a:endCxn id="795" idx="0"/>
            </p:cNvCxnSpPr>
            <p:nvPr/>
          </p:nvCxnSpPr>
          <p:spPr>
            <a:xfrm>
              <a:off x="416844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1" name=""/>
            <p:cNvCxnSpPr>
              <a:stCxn id="835" idx="4"/>
              <a:endCxn id="796" idx="0"/>
            </p:cNvCxnSpPr>
            <p:nvPr/>
          </p:nvCxnSpPr>
          <p:spPr>
            <a:xfrm>
              <a:off x="46609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2" name=""/>
            <p:cNvCxnSpPr>
              <a:stCxn id="826" idx="4"/>
              <a:endCxn id="790" idx="0"/>
            </p:cNvCxnSpPr>
            <p:nvPr/>
          </p:nvCxnSpPr>
          <p:spPr>
            <a:xfrm>
              <a:off x="515304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3" name=""/>
            <p:cNvCxnSpPr>
              <a:stCxn id="827" idx="4"/>
              <a:endCxn id="791" idx="0"/>
            </p:cNvCxnSpPr>
            <p:nvPr/>
          </p:nvCxnSpPr>
          <p:spPr>
            <a:xfrm>
              <a:off x="56455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4" name=""/>
            <p:cNvCxnSpPr>
              <a:stCxn id="846" idx="4"/>
              <a:endCxn id="802" idx="0"/>
            </p:cNvCxnSpPr>
            <p:nvPr/>
          </p:nvCxnSpPr>
          <p:spPr>
            <a:xfrm>
              <a:off x="619344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5" name=""/>
            <p:cNvCxnSpPr>
              <a:stCxn id="847" idx="4"/>
              <a:endCxn id="803" idx="0"/>
            </p:cNvCxnSpPr>
            <p:nvPr/>
          </p:nvCxnSpPr>
          <p:spPr>
            <a:xfrm>
              <a:off x="668556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66" name=""/>
            <p:cNvSpPr/>
            <p:nvPr/>
          </p:nvSpPr>
          <p:spPr>
            <a:xfrm>
              <a:off x="313056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62304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13056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62304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0" name=""/>
            <p:cNvCxnSpPr>
              <a:stCxn id="868" idx="6"/>
              <a:endCxn id="869" idx="2"/>
            </p:cNvCxnSpPr>
            <p:nvPr/>
          </p:nvCxnSpPr>
          <p:spPr>
            <a:xfrm>
              <a:off x="3239640" y="28382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1" name=""/>
            <p:cNvCxnSpPr>
              <a:stCxn id="868" idx="4"/>
              <a:endCxn id="866" idx="0"/>
            </p:cNvCxnSpPr>
            <p:nvPr/>
          </p:nvCxnSpPr>
          <p:spPr>
            <a:xfrm>
              <a:off x="318420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2" name=""/>
            <p:cNvCxnSpPr>
              <a:stCxn id="866" idx="6"/>
              <a:endCxn id="867" idx="2"/>
            </p:cNvCxnSpPr>
            <p:nvPr/>
          </p:nvCxnSpPr>
          <p:spPr>
            <a:xfrm>
              <a:off x="3239640" y="32670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3" name=""/>
            <p:cNvCxnSpPr>
              <a:stCxn id="869" idx="4"/>
              <a:endCxn id="867" idx="0"/>
            </p:cNvCxnSpPr>
            <p:nvPr/>
          </p:nvCxnSpPr>
          <p:spPr>
            <a:xfrm>
              <a:off x="36763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74" name=""/>
            <p:cNvSpPr/>
            <p:nvPr/>
          </p:nvSpPr>
          <p:spPr>
            <a:xfrm>
              <a:off x="214632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63844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14632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63844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8" name=""/>
            <p:cNvCxnSpPr>
              <a:stCxn id="876" idx="6"/>
              <a:endCxn id="877" idx="2"/>
            </p:cNvCxnSpPr>
            <p:nvPr/>
          </p:nvCxnSpPr>
          <p:spPr>
            <a:xfrm>
              <a:off x="2255040" y="28382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9" name=""/>
            <p:cNvCxnSpPr>
              <a:stCxn id="876" idx="4"/>
              <a:endCxn id="874" idx="0"/>
            </p:cNvCxnSpPr>
            <p:nvPr/>
          </p:nvCxnSpPr>
          <p:spPr>
            <a:xfrm>
              <a:off x="219960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0" name=""/>
            <p:cNvCxnSpPr>
              <a:stCxn id="874" idx="6"/>
              <a:endCxn id="875" idx="2"/>
            </p:cNvCxnSpPr>
            <p:nvPr/>
          </p:nvCxnSpPr>
          <p:spPr>
            <a:xfrm>
              <a:off x="2255040" y="32670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1" name=""/>
            <p:cNvCxnSpPr>
              <a:stCxn id="877" idx="4"/>
              <a:endCxn id="875" idx="0"/>
            </p:cNvCxnSpPr>
            <p:nvPr/>
          </p:nvCxnSpPr>
          <p:spPr>
            <a:xfrm>
              <a:off x="26917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2" name=""/>
            <p:cNvCxnSpPr>
              <a:stCxn id="877" idx="6"/>
              <a:endCxn id="868" idx="2"/>
            </p:cNvCxnSpPr>
            <p:nvPr/>
          </p:nvCxnSpPr>
          <p:spPr>
            <a:xfrm>
              <a:off x="2747520" y="28382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3" name=""/>
            <p:cNvCxnSpPr>
              <a:stCxn id="875" idx="6"/>
              <a:endCxn id="866" idx="2"/>
            </p:cNvCxnSpPr>
            <p:nvPr/>
          </p:nvCxnSpPr>
          <p:spPr>
            <a:xfrm>
              <a:off x="2747520" y="32670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84" name=""/>
            <p:cNvSpPr/>
            <p:nvPr/>
          </p:nvSpPr>
          <p:spPr>
            <a:xfrm>
              <a:off x="509940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9188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09940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59188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8" name=""/>
            <p:cNvCxnSpPr>
              <a:stCxn id="886" idx="6"/>
              <a:endCxn id="887" idx="2"/>
            </p:cNvCxnSpPr>
            <p:nvPr/>
          </p:nvCxnSpPr>
          <p:spPr>
            <a:xfrm>
              <a:off x="520920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9" name=""/>
            <p:cNvCxnSpPr>
              <a:stCxn id="886" idx="4"/>
              <a:endCxn id="884" idx="0"/>
            </p:cNvCxnSpPr>
            <p:nvPr/>
          </p:nvCxnSpPr>
          <p:spPr>
            <a:xfrm>
              <a:off x="515304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0" name=""/>
            <p:cNvCxnSpPr>
              <a:stCxn id="884" idx="6"/>
              <a:endCxn id="885" idx="2"/>
            </p:cNvCxnSpPr>
            <p:nvPr/>
          </p:nvCxnSpPr>
          <p:spPr>
            <a:xfrm>
              <a:off x="520920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1" name=""/>
            <p:cNvCxnSpPr>
              <a:stCxn id="887" idx="4"/>
              <a:endCxn id="885" idx="0"/>
            </p:cNvCxnSpPr>
            <p:nvPr/>
          </p:nvCxnSpPr>
          <p:spPr>
            <a:xfrm>
              <a:off x="56455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92" name=""/>
            <p:cNvSpPr/>
            <p:nvPr/>
          </p:nvSpPr>
          <p:spPr>
            <a:xfrm>
              <a:off x="411480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0728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11480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60728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6" name=""/>
            <p:cNvCxnSpPr>
              <a:stCxn id="894" idx="6"/>
              <a:endCxn id="895" idx="2"/>
            </p:cNvCxnSpPr>
            <p:nvPr/>
          </p:nvCxnSpPr>
          <p:spPr>
            <a:xfrm>
              <a:off x="422460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7" name=""/>
            <p:cNvCxnSpPr>
              <a:stCxn id="894" idx="4"/>
              <a:endCxn id="892" idx="0"/>
            </p:cNvCxnSpPr>
            <p:nvPr/>
          </p:nvCxnSpPr>
          <p:spPr>
            <a:xfrm>
              <a:off x="416844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8" name=""/>
            <p:cNvCxnSpPr>
              <a:stCxn id="892" idx="6"/>
              <a:endCxn id="893" idx="2"/>
            </p:cNvCxnSpPr>
            <p:nvPr/>
          </p:nvCxnSpPr>
          <p:spPr>
            <a:xfrm>
              <a:off x="422460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9" name=""/>
            <p:cNvCxnSpPr>
              <a:stCxn id="895" idx="4"/>
              <a:endCxn id="893" idx="0"/>
            </p:cNvCxnSpPr>
            <p:nvPr/>
          </p:nvCxnSpPr>
          <p:spPr>
            <a:xfrm>
              <a:off x="46609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0" name=""/>
            <p:cNvCxnSpPr>
              <a:stCxn id="895" idx="6"/>
              <a:endCxn id="886" idx="2"/>
            </p:cNvCxnSpPr>
            <p:nvPr/>
          </p:nvCxnSpPr>
          <p:spPr>
            <a:xfrm>
              <a:off x="471672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1" name=""/>
            <p:cNvCxnSpPr>
              <a:stCxn id="893" idx="6"/>
              <a:endCxn id="884" idx="2"/>
            </p:cNvCxnSpPr>
            <p:nvPr/>
          </p:nvCxnSpPr>
          <p:spPr>
            <a:xfrm>
              <a:off x="471672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2" name=""/>
            <p:cNvCxnSpPr>
              <a:stCxn id="869" idx="6"/>
              <a:endCxn id="894" idx="2"/>
            </p:cNvCxnSpPr>
            <p:nvPr/>
          </p:nvCxnSpPr>
          <p:spPr>
            <a:xfrm>
              <a:off x="373212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3" name=""/>
            <p:cNvCxnSpPr>
              <a:stCxn id="867" idx="6"/>
              <a:endCxn id="892" idx="2"/>
            </p:cNvCxnSpPr>
            <p:nvPr/>
          </p:nvCxnSpPr>
          <p:spPr>
            <a:xfrm>
              <a:off x="373212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04" name=""/>
            <p:cNvSpPr/>
            <p:nvPr/>
          </p:nvSpPr>
          <p:spPr>
            <a:xfrm>
              <a:off x="613800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3048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13800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63048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8" name=""/>
            <p:cNvCxnSpPr>
              <a:stCxn id="906" idx="6"/>
              <a:endCxn id="907" idx="2"/>
            </p:cNvCxnSpPr>
            <p:nvPr/>
          </p:nvCxnSpPr>
          <p:spPr>
            <a:xfrm>
              <a:off x="624780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9" name=""/>
            <p:cNvCxnSpPr>
              <a:stCxn id="906" idx="4"/>
              <a:endCxn id="904" idx="0"/>
            </p:cNvCxnSpPr>
            <p:nvPr/>
          </p:nvCxnSpPr>
          <p:spPr>
            <a:xfrm>
              <a:off x="619344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0" name=""/>
            <p:cNvCxnSpPr>
              <a:stCxn id="904" idx="6"/>
              <a:endCxn id="905" idx="2"/>
            </p:cNvCxnSpPr>
            <p:nvPr/>
          </p:nvCxnSpPr>
          <p:spPr>
            <a:xfrm>
              <a:off x="624780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1" name=""/>
            <p:cNvCxnSpPr>
              <a:stCxn id="907" idx="4"/>
              <a:endCxn id="905" idx="0"/>
            </p:cNvCxnSpPr>
            <p:nvPr/>
          </p:nvCxnSpPr>
          <p:spPr>
            <a:xfrm>
              <a:off x="668556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2" name=""/>
            <p:cNvCxnSpPr>
              <a:stCxn id="887" idx="6"/>
              <a:endCxn id="906" idx="2"/>
            </p:cNvCxnSpPr>
            <p:nvPr/>
          </p:nvCxnSpPr>
          <p:spPr>
            <a:xfrm>
              <a:off x="5701320" y="283824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3" name=""/>
            <p:cNvCxnSpPr>
              <a:stCxn id="885" idx="6"/>
              <a:endCxn id="904" idx="2"/>
            </p:cNvCxnSpPr>
            <p:nvPr/>
          </p:nvCxnSpPr>
          <p:spPr>
            <a:xfrm>
              <a:off x="5701320" y="326700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14" name=""/>
            <p:cNvSpPr/>
            <p:nvPr/>
          </p:nvSpPr>
          <p:spPr>
            <a:xfrm>
              <a:off x="313056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62304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13056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62304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8" name=""/>
            <p:cNvCxnSpPr>
              <a:stCxn id="916" idx="6"/>
              <a:endCxn id="917" idx="2"/>
            </p:cNvCxnSpPr>
            <p:nvPr/>
          </p:nvCxnSpPr>
          <p:spPr>
            <a:xfrm>
              <a:off x="3239640" y="19818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9" name=""/>
            <p:cNvCxnSpPr>
              <a:stCxn id="916" idx="4"/>
              <a:endCxn id="914" idx="0"/>
            </p:cNvCxnSpPr>
            <p:nvPr/>
          </p:nvCxnSpPr>
          <p:spPr>
            <a:xfrm>
              <a:off x="318420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0" name=""/>
            <p:cNvCxnSpPr>
              <a:stCxn id="914" idx="6"/>
              <a:endCxn id="915" idx="2"/>
            </p:cNvCxnSpPr>
            <p:nvPr/>
          </p:nvCxnSpPr>
          <p:spPr>
            <a:xfrm>
              <a:off x="3239640" y="24109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1" name=""/>
            <p:cNvCxnSpPr>
              <a:stCxn id="917" idx="4"/>
              <a:endCxn id="915" idx="0"/>
            </p:cNvCxnSpPr>
            <p:nvPr/>
          </p:nvCxnSpPr>
          <p:spPr>
            <a:xfrm>
              <a:off x="36763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22" name=""/>
            <p:cNvSpPr/>
            <p:nvPr/>
          </p:nvSpPr>
          <p:spPr>
            <a:xfrm>
              <a:off x="214632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63844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632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63844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6" name=""/>
            <p:cNvCxnSpPr>
              <a:stCxn id="924" idx="6"/>
              <a:endCxn id="925" idx="2"/>
            </p:cNvCxnSpPr>
            <p:nvPr/>
          </p:nvCxnSpPr>
          <p:spPr>
            <a:xfrm>
              <a:off x="2255040" y="19818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7" name=""/>
            <p:cNvCxnSpPr>
              <a:stCxn id="924" idx="4"/>
              <a:endCxn id="922" idx="0"/>
            </p:cNvCxnSpPr>
            <p:nvPr/>
          </p:nvCxnSpPr>
          <p:spPr>
            <a:xfrm>
              <a:off x="219960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8" name=""/>
            <p:cNvCxnSpPr>
              <a:stCxn id="922" idx="6"/>
              <a:endCxn id="923" idx="2"/>
            </p:cNvCxnSpPr>
            <p:nvPr/>
          </p:nvCxnSpPr>
          <p:spPr>
            <a:xfrm>
              <a:off x="2255040" y="24109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9" name=""/>
            <p:cNvCxnSpPr>
              <a:stCxn id="925" idx="4"/>
              <a:endCxn id="923" idx="0"/>
            </p:cNvCxnSpPr>
            <p:nvPr/>
          </p:nvCxnSpPr>
          <p:spPr>
            <a:xfrm>
              <a:off x="26917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0" name=""/>
            <p:cNvCxnSpPr>
              <a:stCxn id="925" idx="6"/>
              <a:endCxn id="916" idx="2"/>
            </p:cNvCxnSpPr>
            <p:nvPr/>
          </p:nvCxnSpPr>
          <p:spPr>
            <a:xfrm>
              <a:off x="2747520" y="19818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1" name=""/>
            <p:cNvCxnSpPr>
              <a:stCxn id="923" idx="6"/>
              <a:endCxn id="914" idx="2"/>
            </p:cNvCxnSpPr>
            <p:nvPr/>
          </p:nvCxnSpPr>
          <p:spPr>
            <a:xfrm>
              <a:off x="2747520" y="24109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32" name=""/>
            <p:cNvSpPr/>
            <p:nvPr/>
          </p:nvSpPr>
          <p:spPr>
            <a:xfrm>
              <a:off x="509940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59188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9940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59188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6" name=""/>
            <p:cNvCxnSpPr>
              <a:stCxn id="934" idx="6"/>
              <a:endCxn id="935" idx="2"/>
            </p:cNvCxnSpPr>
            <p:nvPr/>
          </p:nvCxnSpPr>
          <p:spPr>
            <a:xfrm>
              <a:off x="520920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7" name=""/>
            <p:cNvCxnSpPr>
              <a:stCxn id="934" idx="4"/>
              <a:endCxn id="932" idx="0"/>
            </p:cNvCxnSpPr>
            <p:nvPr/>
          </p:nvCxnSpPr>
          <p:spPr>
            <a:xfrm>
              <a:off x="515304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8" name=""/>
            <p:cNvCxnSpPr>
              <a:stCxn id="932" idx="6"/>
              <a:endCxn id="933" idx="2"/>
            </p:cNvCxnSpPr>
            <p:nvPr/>
          </p:nvCxnSpPr>
          <p:spPr>
            <a:xfrm>
              <a:off x="520920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9" name=""/>
            <p:cNvCxnSpPr>
              <a:stCxn id="935" idx="4"/>
              <a:endCxn id="933" idx="0"/>
            </p:cNvCxnSpPr>
            <p:nvPr/>
          </p:nvCxnSpPr>
          <p:spPr>
            <a:xfrm>
              <a:off x="56455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40" name=""/>
            <p:cNvSpPr/>
            <p:nvPr/>
          </p:nvSpPr>
          <p:spPr>
            <a:xfrm>
              <a:off x="411480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60728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11480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0728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4" name=""/>
            <p:cNvCxnSpPr>
              <a:stCxn id="942" idx="6"/>
              <a:endCxn id="943" idx="2"/>
            </p:cNvCxnSpPr>
            <p:nvPr/>
          </p:nvCxnSpPr>
          <p:spPr>
            <a:xfrm>
              <a:off x="422460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5" name=""/>
            <p:cNvCxnSpPr>
              <a:stCxn id="942" idx="4"/>
              <a:endCxn id="940" idx="0"/>
            </p:cNvCxnSpPr>
            <p:nvPr/>
          </p:nvCxnSpPr>
          <p:spPr>
            <a:xfrm>
              <a:off x="416844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6" name=""/>
            <p:cNvCxnSpPr>
              <a:stCxn id="940" idx="6"/>
              <a:endCxn id="941" idx="2"/>
            </p:cNvCxnSpPr>
            <p:nvPr/>
          </p:nvCxnSpPr>
          <p:spPr>
            <a:xfrm>
              <a:off x="422460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7" name=""/>
            <p:cNvCxnSpPr>
              <a:stCxn id="943" idx="4"/>
              <a:endCxn id="941" idx="0"/>
            </p:cNvCxnSpPr>
            <p:nvPr/>
          </p:nvCxnSpPr>
          <p:spPr>
            <a:xfrm>
              <a:off x="46609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8" name=""/>
            <p:cNvCxnSpPr>
              <a:stCxn id="943" idx="6"/>
              <a:endCxn id="934" idx="2"/>
            </p:cNvCxnSpPr>
            <p:nvPr/>
          </p:nvCxnSpPr>
          <p:spPr>
            <a:xfrm>
              <a:off x="471672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9" name=""/>
            <p:cNvCxnSpPr>
              <a:stCxn id="941" idx="6"/>
              <a:endCxn id="932" idx="2"/>
            </p:cNvCxnSpPr>
            <p:nvPr/>
          </p:nvCxnSpPr>
          <p:spPr>
            <a:xfrm>
              <a:off x="471672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0" name=""/>
            <p:cNvCxnSpPr>
              <a:stCxn id="917" idx="6"/>
              <a:endCxn id="942" idx="2"/>
            </p:cNvCxnSpPr>
            <p:nvPr/>
          </p:nvCxnSpPr>
          <p:spPr>
            <a:xfrm>
              <a:off x="373212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1" name=""/>
            <p:cNvCxnSpPr>
              <a:stCxn id="915" idx="6"/>
              <a:endCxn id="940" idx="2"/>
            </p:cNvCxnSpPr>
            <p:nvPr/>
          </p:nvCxnSpPr>
          <p:spPr>
            <a:xfrm>
              <a:off x="373212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52" name=""/>
            <p:cNvSpPr/>
            <p:nvPr/>
          </p:nvSpPr>
          <p:spPr>
            <a:xfrm>
              <a:off x="613800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3048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13800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3048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6" name=""/>
            <p:cNvCxnSpPr>
              <a:stCxn id="954" idx="6"/>
              <a:endCxn id="955" idx="2"/>
            </p:cNvCxnSpPr>
            <p:nvPr/>
          </p:nvCxnSpPr>
          <p:spPr>
            <a:xfrm>
              <a:off x="624780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7" name=""/>
            <p:cNvCxnSpPr>
              <a:stCxn id="954" idx="4"/>
              <a:endCxn id="952" idx="0"/>
            </p:cNvCxnSpPr>
            <p:nvPr/>
          </p:nvCxnSpPr>
          <p:spPr>
            <a:xfrm>
              <a:off x="619344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8" name=""/>
            <p:cNvCxnSpPr>
              <a:stCxn id="952" idx="6"/>
              <a:endCxn id="953" idx="2"/>
            </p:cNvCxnSpPr>
            <p:nvPr/>
          </p:nvCxnSpPr>
          <p:spPr>
            <a:xfrm>
              <a:off x="624780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9" name=""/>
            <p:cNvCxnSpPr>
              <a:stCxn id="955" idx="4"/>
              <a:endCxn id="953" idx="0"/>
            </p:cNvCxnSpPr>
            <p:nvPr/>
          </p:nvCxnSpPr>
          <p:spPr>
            <a:xfrm>
              <a:off x="668556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0" name=""/>
            <p:cNvCxnSpPr>
              <a:stCxn id="935" idx="6"/>
              <a:endCxn id="954" idx="2"/>
            </p:cNvCxnSpPr>
            <p:nvPr/>
          </p:nvCxnSpPr>
          <p:spPr>
            <a:xfrm>
              <a:off x="5701320" y="198180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1" name=""/>
            <p:cNvCxnSpPr>
              <a:stCxn id="933" idx="6"/>
              <a:endCxn id="952" idx="2"/>
            </p:cNvCxnSpPr>
            <p:nvPr/>
          </p:nvCxnSpPr>
          <p:spPr>
            <a:xfrm>
              <a:off x="5701320" y="24109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2" name=""/>
            <p:cNvCxnSpPr>
              <a:stCxn id="922" idx="4"/>
              <a:endCxn id="876" idx="0"/>
            </p:cNvCxnSpPr>
            <p:nvPr/>
          </p:nvCxnSpPr>
          <p:spPr>
            <a:xfrm>
              <a:off x="219960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3" name=""/>
            <p:cNvCxnSpPr>
              <a:stCxn id="923" idx="4"/>
              <a:endCxn id="877" idx="0"/>
            </p:cNvCxnSpPr>
            <p:nvPr/>
          </p:nvCxnSpPr>
          <p:spPr>
            <a:xfrm>
              <a:off x="26917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4" name=""/>
            <p:cNvCxnSpPr>
              <a:stCxn id="914" idx="4"/>
              <a:endCxn id="868" idx="0"/>
            </p:cNvCxnSpPr>
            <p:nvPr/>
          </p:nvCxnSpPr>
          <p:spPr>
            <a:xfrm>
              <a:off x="318420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5" name=""/>
            <p:cNvCxnSpPr>
              <a:stCxn id="915" idx="4"/>
              <a:endCxn id="869" idx="0"/>
            </p:cNvCxnSpPr>
            <p:nvPr/>
          </p:nvCxnSpPr>
          <p:spPr>
            <a:xfrm>
              <a:off x="36763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6" name=""/>
            <p:cNvCxnSpPr>
              <a:stCxn id="940" idx="4"/>
              <a:endCxn id="894" idx="0"/>
            </p:cNvCxnSpPr>
            <p:nvPr/>
          </p:nvCxnSpPr>
          <p:spPr>
            <a:xfrm>
              <a:off x="416844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7" name=""/>
            <p:cNvCxnSpPr>
              <a:stCxn id="941" idx="4"/>
              <a:endCxn id="895" idx="0"/>
            </p:cNvCxnSpPr>
            <p:nvPr/>
          </p:nvCxnSpPr>
          <p:spPr>
            <a:xfrm>
              <a:off x="46609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8" name=""/>
            <p:cNvCxnSpPr>
              <a:stCxn id="932" idx="4"/>
              <a:endCxn id="886" idx="0"/>
            </p:cNvCxnSpPr>
            <p:nvPr/>
          </p:nvCxnSpPr>
          <p:spPr>
            <a:xfrm>
              <a:off x="515304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9" name=""/>
            <p:cNvCxnSpPr>
              <a:stCxn id="933" idx="4"/>
              <a:endCxn id="887" idx="0"/>
            </p:cNvCxnSpPr>
            <p:nvPr/>
          </p:nvCxnSpPr>
          <p:spPr>
            <a:xfrm>
              <a:off x="56455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0" name=""/>
            <p:cNvCxnSpPr>
              <a:stCxn id="952" idx="4"/>
              <a:endCxn id="906" idx="0"/>
            </p:cNvCxnSpPr>
            <p:nvPr/>
          </p:nvCxnSpPr>
          <p:spPr>
            <a:xfrm>
              <a:off x="619344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1" name=""/>
            <p:cNvCxnSpPr>
              <a:stCxn id="953" idx="4"/>
              <a:endCxn id="907" idx="0"/>
            </p:cNvCxnSpPr>
            <p:nvPr/>
          </p:nvCxnSpPr>
          <p:spPr>
            <a:xfrm>
              <a:off x="668556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2" name=""/>
            <p:cNvCxnSpPr>
              <a:stCxn id="874" idx="4"/>
              <a:endCxn id="818" idx="0"/>
            </p:cNvCxnSpPr>
            <p:nvPr/>
          </p:nvCxnSpPr>
          <p:spPr>
            <a:xfrm>
              <a:off x="219960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3" name=""/>
            <p:cNvCxnSpPr>
              <a:stCxn id="875" idx="4"/>
              <a:endCxn id="819" idx="0"/>
            </p:cNvCxnSpPr>
            <p:nvPr/>
          </p:nvCxnSpPr>
          <p:spPr>
            <a:xfrm>
              <a:off x="26917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4" name=""/>
            <p:cNvCxnSpPr>
              <a:stCxn id="866" idx="4"/>
              <a:endCxn id="810" idx="0"/>
            </p:cNvCxnSpPr>
            <p:nvPr/>
          </p:nvCxnSpPr>
          <p:spPr>
            <a:xfrm>
              <a:off x="318420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5" name=""/>
            <p:cNvCxnSpPr>
              <a:stCxn id="867" idx="4"/>
              <a:endCxn id="811" idx="0"/>
            </p:cNvCxnSpPr>
            <p:nvPr/>
          </p:nvCxnSpPr>
          <p:spPr>
            <a:xfrm>
              <a:off x="36763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6" name=""/>
            <p:cNvCxnSpPr>
              <a:stCxn id="892" idx="4"/>
              <a:endCxn id="836" idx="0"/>
            </p:cNvCxnSpPr>
            <p:nvPr/>
          </p:nvCxnSpPr>
          <p:spPr>
            <a:xfrm>
              <a:off x="416844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7" name=""/>
            <p:cNvCxnSpPr>
              <a:stCxn id="893" idx="4"/>
              <a:endCxn id="837" idx="0"/>
            </p:cNvCxnSpPr>
            <p:nvPr/>
          </p:nvCxnSpPr>
          <p:spPr>
            <a:xfrm>
              <a:off x="46609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8" name=""/>
            <p:cNvCxnSpPr>
              <a:stCxn id="884" idx="4"/>
              <a:endCxn id="828" idx="0"/>
            </p:cNvCxnSpPr>
            <p:nvPr/>
          </p:nvCxnSpPr>
          <p:spPr>
            <a:xfrm>
              <a:off x="515304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9" name=""/>
            <p:cNvCxnSpPr>
              <a:stCxn id="885" idx="4"/>
              <a:endCxn id="829" idx="0"/>
            </p:cNvCxnSpPr>
            <p:nvPr/>
          </p:nvCxnSpPr>
          <p:spPr>
            <a:xfrm>
              <a:off x="56455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0" name=""/>
            <p:cNvCxnSpPr>
              <a:stCxn id="904" idx="4"/>
              <a:endCxn id="848" idx="0"/>
            </p:cNvCxnSpPr>
            <p:nvPr/>
          </p:nvCxnSpPr>
          <p:spPr>
            <a:xfrm>
              <a:off x="619344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1" name=""/>
            <p:cNvCxnSpPr>
              <a:stCxn id="905" idx="4"/>
              <a:endCxn id="849" idx="0"/>
            </p:cNvCxnSpPr>
            <p:nvPr/>
          </p:nvCxnSpPr>
          <p:spPr>
            <a:xfrm>
              <a:off x="668556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2" name=""/>
            <p:cNvSpPr/>
            <p:nvPr/>
          </p:nvSpPr>
          <p:spPr>
            <a:xfrm>
              <a:off x="31338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6262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4" name=""/>
            <p:cNvCxnSpPr>
              <a:stCxn id="982" idx="6"/>
              <a:endCxn id="983" idx="2"/>
            </p:cNvCxnSpPr>
            <p:nvPr/>
          </p:nvCxnSpPr>
          <p:spPr>
            <a:xfrm>
              <a:off x="32436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5" name=""/>
            <p:cNvSpPr/>
            <p:nvPr/>
          </p:nvSpPr>
          <p:spPr>
            <a:xfrm>
              <a:off x="21492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416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7" name=""/>
            <p:cNvCxnSpPr>
              <a:stCxn id="985" idx="6"/>
              <a:endCxn id="986" idx="2"/>
            </p:cNvCxnSpPr>
            <p:nvPr/>
          </p:nvCxnSpPr>
          <p:spPr>
            <a:xfrm>
              <a:off x="22590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8" name=""/>
            <p:cNvCxnSpPr>
              <a:stCxn id="986" idx="6"/>
              <a:endCxn id="982" idx="2"/>
            </p:cNvCxnSpPr>
            <p:nvPr/>
          </p:nvCxnSpPr>
          <p:spPr>
            <a:xfrm>
              <a:off x="275112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9" name=""/>
            <p:cNvSpPr/>
            <p:nvPr/>
          </p:nvSpPr>
          <p:spPr>
            <a:xfrm>
              <a:off x="51030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5954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1" name=""/>
            <p:cNvCxnSpPr>
              <a:stCxn id="989" idx="6"/>
              <a:endCxn id="990" idx="2"/>
            </p:cNvCxnSpPr>
            <p:nvPr/>
          </p:nvCxnSpPr>
          <p:spPr>
            <a:xfrm>
              <a:off x="52128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92" name=""/>
            <p:cNvSpPr/>
            <p:nvPr/>
          </p:nvSpPr>
          <p:spPr>
            <a:xfrm>
              <a:off x="41184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6108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4" name=""/>
            <p:cNvCxnSpPr>
              <a:stCxn id="992" idx="6"/>
              <a:endCxn id="993" idx="2"/>
            </p:cNvCxnSpPr>
            <p:nvPr/>
          </p:nvCxnSpPr>
          <p:spPr>
            <a:xfrm>
              <a:off x="42282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5" name=""/>
            <p:cNvCxnSpPr>
              <a:stCxn id="993" idx="6"/>
              <a:endCxn id="989" idx="2"/>
            </p:cNvCxnSpPr>
            <p:nvPr/>
          </p:nvCxnSpPr>
          <p:spPr>
            <a:xfrm>
              <a:off x="472032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6" name=""/>
            <p:cNvCxnSpPr>
              <a:stCxn id="983" idx="6"/>
              <a:endCxn id="992" idx="2"/>
            </p:cNvCxnSpPr>
            <p:nvPr/>
          </p:nvCxnSpPr>
          <p:spPr>
            <a:xfrm>
              <a:off x="373572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97" name=""/>
            <p:cNvSpPr/>
            <p:nvPr/>
          </p:nvSpPr>
          <p:spPr>
            <a:xfrm>
              <a:off x="61416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6340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9" name=""/>
            <p:cNvCxnSpPr>
              <a:stCxn id="997" idx="6"/>
              <a:endCxn id="998" idx="2"/>
            </p:cNvCxnSpPr>
            <p:nvPr/>
          </p:nvCxnSpPr>
          <p:spPr>
            <a:xfrm>
              <a:off x="62514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0" name=""/>
            <p:cNvCxnSpPr>
              <a:stCxn id="990" idx="6"/>
              <a:endCxn id="997" idx="2"/>
            </p:cNvCxnSpPr>
            <p:nvPr/>
          </p:nvCxnSpPr>
          <p:spPr>
            <a:xfrm>
              <a:off x="5704920" y="583704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1" name=""/>
            <p:cNvSpPr/>
            <p:nvPr/>
          </p:nvSpPr>
          <p:spPr>
            <a:xfrm>
              <a:off x="31338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6262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1338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6262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5" name=""/>
            <p:cNvCxnSpPr>
              <a:stCxn id="1003" idx="6"/>
              <a:endCxn id="1004" idx="2"/>
            </p:cNvCxnSpPr>
            <p:nvPr/>
          </p:nvCxnSpPr>
          <p:spPr>
            <a:xfrm>
              <a:off x="32436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6" name=""/>
            <p:cNvCxnSpPr>
              <a:stCxn id="1003" idx="4"/>
              <a:endCxn id="1001" idx="0"/>
            </p:cNvCxnSpPr>
            <p:nvPr/>
          </p:nvCxnSpPr>
          <p:spPr>
            <a:xfrm>
              <a:off x="31874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7" name=""/>
            <p:cNvCxnSpPr>
              <a:stCxn id="1001" idx="6"/>
              <a:endCxn id="1002" idx="2"/>
            </p:cNvCxnSpPr>
            <p:nvPr/>
          </p:nvCxnSpPr>
          <p:spPr>
            <a:xfrm>
              <a:off x="32436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8" name=""/>
            <p:cNvCxnSpPr>
              <a:stCxn id="1004" idx="4"/>
              <a:endCxn id="1002" idx="0"/>
            </p:cNvCxnSpPr>
            <p:nvPr/>
          </p:nvCxnSpPr>
          <p:spPr>
            <a:xfrm>
              <a:off x="36799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9" name=""/>
            <p:cNvSpPr/>
            <p:nvPr/>
          </p:nvSpPr>
          <p:spPr>
            <a:xfrm>
              <a:off x="21492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6416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492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6416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3" name=""/>
            <p:cNvCxnSpPr>
              <a:stCxn id="1011" idx="6"/>
              <a:endCxn id="1012" idx="2"/>
            </p:cNvCxnSpPr>
            <p:nvPr/>
          </p:nvCxnSpPr>
          <p:spPr>
            <a:xfrm>
              <a:off x="22590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4" name=""/>
            <p:cNvCxnSpPr>
              <a:stCxn id="1011" idx="4"/>
              <a:endCxn id="1009" idx="0"/>
            </p:cNvCxnSpPr>
            <p:nvPr/>
          </p:nvCxnSpPr>
          <p:spPr>
            <a:xfrm>
              <a:off x="22028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5" name=""/>
            <p:cNvCxnSpPr>
              <a:stCxn id="1009" idx="6"/>
              <a:endCxn id="1010" idx="2"/>
            </p:cNvCxnSpPr>
            <p:nvPr/>
          </p:nvCxnSpPr>
          <p:spPr>
            <a:xfrm>
              <a:off x="22590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6" name=""/>
            <p:cNvCxnSpPr>
              <a:stCxn id="1012" idx="4"/>
              <a:endCxn id="1010" idx="0"/>
            </p:cNvCxnSpPr>
            <p:nvPr/>
          </p:nvCxnSpPr>
          <p:spPr>
            <a:xfrm>
              <a:off x="26953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7" name=""/>
            <p:cNvCxnSpPr>
              <a:stCxn id="1012" idx="6"/>
              <a:endCxn id="1003" idx="2"/>
            </p:cNvCxnSpPr>
            <p:nvPr/>
          </p:nvCxnSpPr>
          <p:spPr>
            <a:xfrm>
              <a:off x="275112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8" name=""/>
            <p:cNvCxnSpPr>
              <a:stCxn id="1010" idx="6"/>
              <a:endCxn id="1001" idx="2"/>
            </p:cNvCxnSpPr>
            <p:nvPr/>
          </p:nvCxnSpPr>
          <p:spPr>
            <a:xfrm>
              <a:off x="275112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19" name=""/>
            <p:cNvSpPr/>
            <p:nvPr/>
          </p:nvSpPr>
          <p:spPr>
            <a:xfrm>
              <a:off x="51030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5954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1030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5954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3" name=""/>
            <p:cNvCxnSpPr>
              <a:stCxn id="1021" idx="6"/>
              <a:endCxn id="1022" idx="2"/>
            </p:cNvCxnSpPr>
            <p:nvPr/>
          </p:nvCxnSpPr>
          <p:spPr>
            <a:xfrm>
              <a:off x="52128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4" name=""/>
            <p:cNvCxnSpPr>
              <a:stCxn id="1021" idx="4"/>
              <a:endCxn id="1019" idx="0"/>
            </p:cNvCxnSpPr>
            <p:nvPr/>
          </p:nvCxnSpPr>
          <p:spPr>
            <a:xfrm>
              <a:off x="51566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5" name=""/>
            <p:cNvCxnSpPr>
              <a:stCxn id="1019" idx="6"/>
              <a:endCxn id="1020" idx="2"/>
            </p:cNvCxnSpPr>
            <p:nvPr/>
          </p:nvCxnSpPr>
          <p:spPr>
            <a:xfrm>
              <a:off x="52128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6" name=""/>
            <p:cNvCxnSpPr>
              <a:stCxn id="1022" idx="4"/>
              <a:endCxn id="1020" idx="0"/>
            </p:cNvCxnSpPr>
            <p:nvPr/>
          </p:nvCxnSpPr>
          <p:spPr>
            <a:xfrm>
              <a:off x="56491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27" name=""/>
            <p:cNvSpPr/>
            <p:nvPr/>
          </p:nvSpPr>
          <p:spPr>
            <a:xfrm>
              <a:off x="41184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108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1184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108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1" name=""/>
            <p:cNvCxnSpPr>
              <a:stCxn id="1029" idx="6"/>
              <a:endCxn id="1030" idx="2"/>
            </p:cNvCxnSpPr>
            <p:nvPr/>
          </p:nvCxnSpPr>
          <p:spPr>
            <a:xfrm>
              <a:off x="42282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2" name=""/>
            <p:cNvCxnSpPr>
              <a:stCxn id="1029" idx="4"/>
              <a:endCxn id="1027" idx="0"/>
            </p:cNvCxnSpPr>
            <p:nvPr/>
          </p:nvCxnSpPr>
          <p:spPr>
            <a:xfrm>
              <a:off x="41720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3" name=""/>
            <p:cNvCxnSpPr>
              <a:stCxn id="1027" idx="6"/>
              <a:endCxn id="1028" idx="2"/>
            </p:cNvCxnSpPr>
            <p:nvPr/>
          </p:nvCxnSpPr>
          <p:spPr>
            <a:xfrm>
              <a:off x="42282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4" name=""/>
            <p:cNvCxnSpPr>
              <a:stCxn id="1030" idx="4"/>
              <a:endCxn id="1028" idx="0"/>
            </p:cNvCxnSpPr>
            <p:nvPr/>
          </p:nvCxnSpPr>
          <p:spPr>
            <a:xfrm>
              <a:off x="46645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5" name=""/>
            <p:cNvCxnSpPr>
              <a:stCxn id="1030" idx="6"/>
              <a:endCxn id="1021" idx="2"/>
            </p:cNvCxnSpPr>
            <p:nvPr/>
          </p:nvCxnSpPr>
          <p:spPr>
            <a:xfrm>
              <a:off x="472032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6" name=""/>
            <p:cNvCxnSpPr>
              <a:stCxn id="1028" idx="6"/>
              <a:endCxn id="1019" idx="2"/>
            </p:cNvCxnSpPr>
            <p:nvPr/>
          </p:nvCxnSpPr>
          <p:spPr>
            <a:xfrm>
              <a:off x="472032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7" name=""/>
            <p:cNvCxnSpPr>
              <a:stCxn id="1004" idx="6"/>
              <a:endCxn id="1029" idx="2"/>
            </p:cNvCxnSpPr>
            <p:nvPr/>
          </p:nvCxnSpPr>
          <p:spPr>
            <a:xfrm>
              <a:off x="373572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8" name=""/>
            <p:cNvCxnSpPr>
              <a:stCxn id="1002" idx="6"/>
              <a:endCxn id="1027" idx="2"/>
            </p:cNvCxnSpPr>
            <p:nvPr/>
          </p:nvCxnSpPr>
          <p:spPr>
            <a:xfrm>
              <a:off x="373572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39" name=""/>
            <p:cNvSpPr/>
            <p:nvPr/>
          </p:nvSpPr>
          <p:spPr>
            <a:xfrm>
              <a:off x="61416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6340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416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6340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3" name=""/>
            <p:cNvCxnSpPr>
              <a:stCxn id="1041" idx="6"/>
              <a:endCxn id="1042" idx="2"/>
            </p:cNvCxnSpPr>
            <p:nvPr/>
          </p:nvCxnSpPr>
          <p:spPr>
            <a:xfrm>
              <a:off x="62514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4" name=""/>
            <p:cNvCxnSpPr>
              <a:stCxn id="1041" idx="4"/>
              <a:endCxn id="1039" idx="0"/>
            </p:cNvCxnSpPr>
            <p:nvPr/>
          </p:nvCxnSpPr>
          <p:spPr>
            <a:xfrm>
              <a:off x="61970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5" name=""/>
            <p:cNvCxnSpPr>
              <a:stCxn id="1039" idx="6"/>
              <a:endCxn id="1040" idx="2"/>
            </p:cNvCxnSpPr>
            <p:nvPr/>
          </p:nvCxnSpPr>
          <p:spPr>
            <a:xfrm>
              <a:off x="62514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6" name=""/>
            <p:cNvCxnSpPr>
              <a:stCxn id="1042" idx="4"/>
              <a:endCxn id="1040" idx="0"/>
            </p:cNvCxnSpPr>
            <p:nvPr/>
          </p:nvCxnSpPr>
          <p:spPr>
            <a:xfrm>
              <a:off x="668916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7" name=""/>
            <p:cNvCxnSpPr>
              <a:stCxn id="1022" idx="6"/>
              <a:endCxn id="1041" idx="2"/>
            </p:cNvCxnSpPr>
            <p:nvPr/>
          </p:nvCxnSpPr>
          <p:spPr>
            <a:xfrm>
              <a:off x="5704920" y="498060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8" name=""/>
            <p:cNvCxnSpPr>
              <a:stCxn id="1020" idx="6"/>
              <a:endCxn id="1039" idx="2"/>
            </p:cNvCxnSpPr>
            <p:nvPr/>
          </p:nvCxnSpPr>
          <p:spPr>
            <a:xfrm>
              <a:off x="5704920" y="54079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9" name=""/>
            <p:cNvCxnSpPr>
              <a:stCxn id="1009" idx="4"/>
              <a:endCxn id="985" idx="0"/>
            </p:cNvCxnSpPr>
            <p:nvPr/>
          </p:nvCxnSpPr>
          <p:spPr>
            <a:xfrm>
              <a:off x="22028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0" name=""/>
            <p:cNvCxnSpPr>
              <a:stCxn id="1010" idx="4"/>
              <a:endCxn id="986" idx="0"/>
            </p:cNvCxnSpPr>
            <p:nvPr/>
          </p:nvCxnSpPr>
          <p:spPr>
            <a:xfrm>
              <a:off x="26953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1" name=""/>
            <p:cNvCxnSpPr>
              <a:stCxn id="1001" idx="4"/>
              <a:endCxn id="982" idx="0"/>
            </p:cNvCxnSpPr>
            <p:nvPr/>
          </p:nvCxnSpPr>
          <p:spPr>
            <a:xfrm>
              <a:off x="31874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2" name=""/>
            <p:cNvCxnSpPr>
              <a:stCxn id="1002" idx="4"/>
              <a:endCxn id="983" idx="0"/>
            </p:cNvCxnSpPr>
            <p:nvPr/>
          </p:nvCxnSpPr>
          <p:spPr>
            <a:xfrm>
              <a:off x="36799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3" name=""/>
            <p:cNvCxnSpPr>
              <a:stCxn id="1027" idx="4"/>
              <a:endCxn id="992" idx="0"/>
            </p:cNvCxnSpPr>
            <p:nvPr/>
          </p:nvCxnSpPr>
          <p:spPr>
            <a:xfrm>
              <a:off x="41720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4" name=""/>
            <p:cNvCxnSpPr>
              <a:stCxn id="1028" idx="4"/>
              <a:endCxn id="993" idx="0"/>
            </p:cNvCxnSpPr>
            <p:nvPr/>
          </p:nvCxnSpPr>
          <p:spPr>
            <a:xfrm>
              <a:off x="46645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5" name=""/>
            <p:cNvCxnSpPr>
              <a:stCxn id="1019" idx="4"/>
              <a:endCxn id="989" idx="0"/>
            </p:cNvCxnSpPr>
            <p:nvPr/>
          </p:nvCxnSpPr>
          <p:spPr>
            <a:xfrm>
              <a:off x="51566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6" name=""/>
            <p:cNvCxnSpPr>
              <a:stCxn id="1020" idx="4"/>
              <a:endCxn id="990" idx="0"/>
            </p:cNvCxnSpPr>
            <p:nvPr/>
          </p:nvCxnSpPr>
          <p:spPr>
            <a:xfrm>
              <a:off x="56491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7" name=""/>
            <p:cNvCxnSpPr>
              <a:stCxn id="1039" idx="4"/>
              <a:endCxn id="997" idx="0"/>
            </p:cNvCxnSpPr>
            <p:nvPr/>
          </p:nvCxnSpPr>
          <p:spPr>
            <a:xfrm>
              <a:off x="61970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8" name=""/>
            <p:cNvCxnSpPr>
              <a:stCxn id="1040" idx="4"/>
              <a:endCxn id="998" idx="0"/>
            </p:cNvCxnSpPr>
            <p:nvPr/>
          </p:nvCxnSpPr>
          <p:spPr>
            <a:xfrm>
              <a:off x="668916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59" name=""/>
            <p:cNvSpPr/>
            <p:nvPr/>
          </p:nvSpPr>
          <p:spPr>
            <a:xfrm flipV="1">
              <a:off x="4224600" y="3837960"/>
              <a:ext cx="0" cy="14328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4224600" y="3410640"/>
              <a:ext cx="0" cy="14148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224600" y="4266720"/>
              <a:ext cx="0" cy="14148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224600" y="4694040"/>
              <a:ext cx="0" cy="14364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289760" y="372564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234-9D16-44A9-A03C-DFF105D1E9B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9:25:47Z</dcterms:created>
  <dc:creator>Xin Liu</dc:creator>
  <dc:description/>
  <dc:language>en-US</dc:language>
  <cp:lastModifiedBy>liang</cp:lastModifiedBy>
  <dcterms:modified xsi:type="dcterms:W3CDTF">2005-03-04T19:57:44Z</dcterms:modified>
  <cp:revision>298</cp:revision>
  <dc:subject/>
  <dc:title>Comb, Needle, Haystacks</dc:title>
</cp:coreProperties>
</file>